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DC122-39F0-429B-8527-C3A8872CE24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974-0BC5-4120-923B-05057138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746-5686-450E-A7DD-1041C007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3A0-A0E2-4877-9614-3C6D3EBC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AF8-C175-4307-BF70-FF471751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CAEE-1776-412F-912C-3B236707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BABA-D85D-4F9A-BC76-E4E404C9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A578-2D90-4C5B-85AD-7F09DAC6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A405-7BFF-49D9-85BC-C42A3A86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96AA-9AD8-4CEB-8741-BA33D8C9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DA80-E9D6-4275-BACC-7CFA0EE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17EC-A0EA-49D4-BB3E-9E3E2BCF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9D2-4621-4CB1-91DF-005BA5E6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EBCE-4A1B-4FA8-B9FD-449CBC6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576A-2686-4E40-A300-6FCF41D3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FF9-3E5B-49D8-8417-92888866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1BC7-C101-44EE-A6BB-F103EBD9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7DF0-3397-4EBA-8976-267AD401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BF4-CC63-4A35-83DE-0DE6A556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DEE-9ACD-4B33-B615-137D0D13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C3F-962C-443F-9189-2F8D3A47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496-5858-4FBD-8BDC-DB2AE5A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1B5-2B84-4E0D-BC07-2E63747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231-A229-4765-80BE-B8F5B39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28B-603A-4964-8D02-ED307520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5D531-8497-4E16-8F2C-57B0B57D93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80" y="4680"/>
            <a:ext cx="38124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80A5F-A01E-4927-9CD6-9609CB010C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0" y="0"/>
            <a:ext cx="38124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6525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perating System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01. Introduc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4880" y="898200"/>
            <a:ext cx="76201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PU was inactive for long intervals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reading the punch cards, the CPU had to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unch card reader was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ution: sp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a magnetic disk (a faster I/O devi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 were grouped into “job poo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executing one job of a pool, read the next one in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job finishes, load the next one from the di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ool = symultaneous peripheral operation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CD2-8A27-4455-B8CE-EB8E9193BC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Interactiv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reading input from the keyboar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ur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howing intermediat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aving intermediate result on magnetic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be done with a technique cal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 until the device is ready and get/put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sh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, the CPU was inactive during I/O oper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230-BF54-4AA4-AB71-8288880321D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program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atural evolution was “concurren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: while a job is reading/writing from/to a I/O device, schedule another job to execute (preemptio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2840" y="3290760"/>
            <a:ext cx="106668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5640" y="37479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443400"/>
            <a:ext cx="160020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34434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89520" y="374796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3519360"/>
            <a:ext cx="91440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2998800"/>
            <a:ext cx="67896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elvetica-Narrow"/>
              </a:rPr>
              <a:t>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47960"/>
            <a:ext cx="990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42814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03160" y="4815000"/>
            <a:ext cx="175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505320" y="4051080"/>
            <a:ext cx="144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18080" y="4890960"/>
            <a:ext cx="14486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ee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358-8B7F-46DA-AC67-B827E3946A0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program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programming is very common in real-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a lawyer that has many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O policy: serving one client at time, from the beginning until the court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italy, a sentence can be given after more than 10 years. Imagine a poor lawyer trying to survive with on client only for ten 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reality, the lawyer adopts a TIME SHARING polic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us adopts a time-sharing policy when doing many jobs at the same tim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A48-6E95-457D-97D4-C4848D1169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role of the Operating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a multi-programme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decides when a job is suspen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decided who is to be executed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first computers, these tasks were carried out by the application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job could suspend itself and pass the “turn” to the next job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-routi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this is not very general or port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, the OS provide the multiprogramm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cheduler mod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ooses which job executes next depending on the status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BA6-35F7-4378-B871-61EDE7BEDA7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703920" y="4343400"/>
            <a:ext cx="116388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824" y="18958"/>
                </a:moveTo>
                <a:lnTo>
                  <a:pt x="-1414" y="4114"/>
                </a:lnTo>
              </a:path>
              <a:path w="21600" h="21600">
                <a:moveTo>
                  <a:pt x="-1414" y="0"/>
                </a:moveTo>
                <a:lnTo>
                  <a:pt x="-141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ime shar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ime sha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ime line is divided into “slots”, or “rounds”, each one of maximum lenght equal to a fixed time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executing job does not block on a I/O operation befone the end of the quantum, it is suspended to be execut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419720"/>
            <a:ext cx="106668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48909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438280" y="4572000"/>
            <a:ext cx="1600200" cy="609480"/>
            <a:chOff x="2438280" y="4572000"/>
            <a:chExt cx="1600200" cy="609480"/>
          </a:xfrm>
        </p:grpSpPr>
        <p:sp>
          <p:nvSpPr>
            <p:cNvPr id="200" name=""/>
            <p:cNvSpPr/>
            <p:nvPr/>
          </p:nvSpPr>
          <p:spPr>
            <a:xfrm>
              <a:off x="2438280" y="4572000"/>
              <a:ext cx="160020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084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798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12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26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40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65440" y="457200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882880" y="4114800"/>
            <a:ext cx="67896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elvetica-Narrow"/>
              </a:rPr>
              <a:t>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4890960"/>
            <a:ext cx="990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196800" y="5194080"/>
            <a:ext cx="1756080" cy="765360"/>
            <a:chOff x="3196800" y="5194080"/>
            <a:chExt cx="1756080" cy="765360"/>
          </a:xfrm>
        </p:grpSpPr>
        <p:sp>
          <p:nvSpPr>
            <p:cNvPr id="210" name=""/>
            <p:cNvSpPr/>
            <p:nvPr/>
          </p:nvSpPr>
          <p:spPr>
            <a:xfrm>
              <a:off x="4951440" y="54244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196800" y="5958000"/>
              <a:ext cx="175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200400" y="5194080"/>
              <a:ext cx="144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351240" y="4572000"/>
            <a:ext cx="685800" cy="609480"/>
            <a:chOff x="3351240" y="4572000"/>
            <a:chExt cx="685800" cy="609480"/>
          </a:xfrm>
        </p:grpSpPr>
        <p:sp>
          <p:nvSpPr>
            <p:cNvPr id="214" name=""/>
            <p:cNvSpPr/>
            <p:nvPr/>
          </p:nvSpPr>
          <p:spPr>
            <a:xfrm>
              <a:off x="3808440" y="4572000"/>
              <a:ext cx="22860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79840" y="4572000"/>
              <a:ext cx="228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1240" y="4572000"/>
              <a:ext cx="228600" cy="60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19720" y="4419720"/>
            <a:ext cx="1066680" cy="990360"/>
          </a:xfrm>
          <a:prstGeom prst="ellipse">
            <a:avLst/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51240" y="4572000"/>
            <a:ext cx="685800" cy="609480"/>
            <a:chOff x="3351240" y="4572000"/>
            <a:chExt cx="685800" cy="609480"/>
          </a:xfrm>
        </p:grpSpPr>
        <p:sp>
          <p:nvSpPr>
            <p:cNvPr id="219" name=""/>
            <p:cNvSpPr/>
            <p:nvPr/>
          </p:nvSpPr>
          <p:spPr>
            <a:xfrm>
              <a:off x="3351240" y="4572000"/>
              <a:ext cx="22860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8440" y="4572000"/>
              <a:ext cx="228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79840" y="4572000"/>
              <a:ext cx="228600" cy="60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419720" y="4419720"/>
            <a:ext cx="106668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4419720"/>
            <a:ext cx="1066680" cy="990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351240" y="4572000"/>
            <a:ext cx="685800" cy="609480"/>
            <a:chOff x="3351240" y="4572000"/>
            <a:chExt cx="685800" cy="609480"/>
          </a:xfrm>
        </p:grpSpPr>
        <p:sp>
          <p:nvSpPr>
            <p:cNvPr id="225" name=""/>
            <p:cNvSpPr/>
            <p:nvPr/>
          </p:nvSpPr>
          <p:spPr>
            <a:xfrm>
              <a:off x="3351240" y="4572000"/>
              <a:ext cx="22860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8440" y="4572000"/>
              <a:ext cx="228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9840" y="4572000"/>
              <a:ext cx="228600" cy="60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351240" y="4572000"/>
            <a:ext cx="685800" cy="609480"/>
            <a:chOff x="3351240" y="4572000"/>
            <a:chExt cx="685800" cy="609480"/>
          </a:xfrm>
        </p:grpSpPr>
        <p:sp>
          <p:nvSpPr>
            <p:cNvPr id="229" name=""/>
            <p:cNvSpPr/>
            <p:nvPr/>
          </p:nvSpPr>
          <p:spPr>
            <a:xfrm>
              <a:off x="3579840" y="4572000"/>
              <a:ext cx="228600" cy="609480"/>
            </a:xfrm>
            <a:prstGeom prst="rect">
              <a:avLst/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1240" y="4572000"/>
              <a:ext cx="22860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440" y="4572000"/>
              <a:ext cx="228600" cy="60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0C5-BCDA-4318-96A5-A72B81A3340F}" type="slidenum">
              <a:t>15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2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ime shar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me shar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process executes approximately as it were alone on a slower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S (thanks to the scheduler) “virtualizes” 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single processor is seen as many (slower) parallel  processors (one for each proces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see that an OS can virtualize many HW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, disk, network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sharing systems are not predic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mount of execution time received by one process depends on the number of processes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we want predictable behavior, we must use a 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AFF-C8CD-4AD5-8AFA-2CB9F7D0269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user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rst computers were very powerful and 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university could afford only on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infr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but many people needed to access the sam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the mainframe would give simultanous access to many use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obvious extension of the multi-proces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or more processes for each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16A-6C61-4050-9D21-26CC6F3581D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user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4880" y="4419360"/>
            <a:ext cx="7620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rminals had no comput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keyboard + a monitor + a serial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 computation was carried out in the main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like aving one computer with many keyboards and 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440" y="1371600"/>
            <a:ext cx="1981080" cy="8380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Main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2590920"/>
            <a:ext cx="6019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3048120"/>
            <a:ext cx="13716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D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3048120"/>
            <a:ext cx="13716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D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23040" y="3048120"/>
            <a:ext cx="13716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D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8840" y="2590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2209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D6C-5276-468D-B8CA-A8DEE2D8E9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ulti-user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dimension w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cept of user and account wa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privacy concerns were ra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ptography was applied for the first time in a non-military environ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akes the system mo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07C-2C3A-475E-8A7E-22CCFF2BCC8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00320" y="2382840"/>
            <a:ext cx="6400800" cy="1773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C93-FFB0-42FE-B508-726935EB616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stributed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ly, distribution wa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nks to the DARPA, the TCP/IP protocol was developed and internet wa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jor universities in the USA connected their main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l, telnet, ftp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ural evolution was internet and the world wid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this was possible thank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reedom of circulation of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“liberal” environment in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eed for communication and shar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D27-1649-4E29-8169-5AC1D3CD450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istributed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ent/server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server provides “services” to remote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web, ftp, database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ossible to “distribute”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“parts” execute on different computers and then communicate each other to exchange information and synchro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ively parallel programs can be easily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es can “move” from one computer to another to carry out a certai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 agents, videogames, applet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5DB-5088-4EEF-92EE-09AC92A621A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lassification of Operating Syst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provides an abstraction of a physic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llow por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ke programmer’s life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evel of abstraction depends on the applicati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means that the kind of services an OS provides depend on which kind of services the applic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purpouses OS should provide a wide range of services to satisfy as many users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alised OS provide only a group of specialise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can be classified depending on the application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purpouse (windows, linux, etc), servers, micro-kernel, embedded OS, real-tim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EA5-C122-49E9-ABF4-0636FA70946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rtual proces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 OS provides “concurrency” between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rocesses are executed at the same time in the sa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process executes for a fraction of the processor bandwidth (as it were on a dedicated slower processo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d by the scheduling sub-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d by almost all OS, from nano-kernels to general-purpous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95280" y="4876920"/>
            <a:ext cx="2895840" cy="1600200"/>
            <a:chOff x="1295280" y="4876920"/>
            <a:chExt cx="2895840" cy="1600200"/>
          </a:xfrm>
        </p:grpSpPr>
        <p:sp>
          <p:nvSpPr>
            <p:cNvPr id="258" name=""/>
            <p:cNvSpPr/>
            <p:nvPr/>
          </p:nvSpPr>
          <p:spPr>
            <a:xfrm>
              <a:off x="1295280" y="4876920"/>
              <a:ext cx="2895840" cy="16002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62320" y="5791320"/>
              <a:ext cx="6858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3684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5124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486400" y="4876920"/>
            <a:ext cx="2895480" cy="1600200"/>
            <a:chOff x="5486400" y="4876920"/>
            <a:chExt cx="2895480" cy="1600200"/>
          </a:xfrm>
        </p:grpSpPr>
        <p:sp>
          <p:nvSpPr>
            <p:cNvPr id="264" name=""/>
            <p:cNvSpPr/>
            <p:nvPr/>
          </p:nvSpPr>
          <p:spPr>
            <a:xfrm>
              <a:off x="5486400" y="4876920"/>
              <a:ext cx="2895480" cy="160020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3560" y="5791320"/>
              <a:ext cx="6858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7960" y="5791320"/>
              <a:ext cx="6858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42360" y="5791320"/>
              <a:ext cx="6858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1356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2796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42360" y="5029200"/>
              <a:ext cx="609480" cy="533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180-1420-4408-9BD2-711B339999CC}" type="slidenum">
              <a:t>23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al memory is limit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ld systems, the number of concurrent processes was limited by the amount of physic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: extend the physical memory by using a “fast” mass storage system (dis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the processes stay in memory, some are temporarily saved on the d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rocess must be executed, if it is on the disk it is first loaded in memory and then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technique is called “swapp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074-4A3B-46A8-9EF0-7A10A099D2D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memory and physical mem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4880" y="5105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rtual memory is very large (virtually infinite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gram functionality does not depend on the size of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gram performance could be reduced by the swapp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1066680"/>
            <a:ext cx="1600200" cy="3505320"/>
          </a:xfrm>
          <a:prstGeom prst="rect">
            <a:avLst/>
          </a:prstGeom>
          <a:solidFill>
            <a:srgbClr val="e3d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3962520"/>
            <a:ext cx="1600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3352680"/>
            <a:ext cx="1600200" cy="609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743200"/>
            <a:ext cx="1600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2133720"/>
            <a:ext cx="1600200" cy="609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1523880"/>
            <a:ext cx="160020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2743200"/>
            <a:ext cx="1600200" cy="1828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08840" y="3124080"/>
            <a:ext cx="1523880" cy="1295640"/>
          </a:xfrm>
          <a:prstGeom prst="can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08840" y="38098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160" y="48"/>
                  <a:pt x="320" y="96"/>
                  <a:pt x="480" y="96"/>
                </a:cubicBezTo>
                <a:cubicBezTo>
                  <a:pt x="640" y="96"/>
                  <a:pt x="880" y="16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2743200"/>
            <a:ext cx="1600200" cy="6094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3352680"/>
            <a:ext cx="1600200" cy="60984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962520"/>
            <a:ext cx="1600200" cy="609480"/>
          </a:xfrm>
          <a:prstGeom prst="rect">
            <a:avLst/>
          </a:prstGeom>
          <a:solidFill>
            <a:srgbClr val="e3db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13760" y="1219320"/>
            <a:ext cx="838080" cy="76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65640" y="1371600"/>
            <a:ext cx="2286000" cy="457200"/>
            <a:chOff x="4265640" y="1371600"/>
            <a:chExt cx="2286000" cy="457200"/>
          </a:xfrm>
        </p:grpSpPr>
        <p:sp>
          <p:nvSpPr>
            <p:cNvPr id="289" name=""/>
            <p:cNvSpPr/>
            <p:nvPr/>
          </p:nvSpPr>
          <p:spPr>
            <a:xfrm>
              <a:off x="60944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72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800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228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656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551640" y="1523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31920" y="3519360"/>
            <a:ext cx="330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29040" y="4038480"/>
            <a:ext cx="3484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43720" y="4648320"/>
            <a:ext cx="6775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87960" y="4572000"/>
            <a:ext cx="21207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3520" y="4572000"/>
            <a:ext cx="18921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65640" y="1371600"/>
            <a:ext cx="2286000" cy="457200"/>
            <a:chOff x="4265640" y="1371600"/>
            <a:chExt cx="2286000" cy="457200"/>
          </a:xfrm>
        </p:grpSpPr>
        <p:sp>
          <p:nvSpPr>
            <p:cNvPr id="301" name=""/>
            <p:cNvSpPr/>
            <p:nvPr/>
          </p:nvSpPr>
          <p:spPr>
            <a:xfrm>
              <a:off x="42656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44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72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800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228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265640" y="1371600"/>
            <a:ext cx="2286000" cy="457200"/>
            <a:chOff x="4265640" y="1371600"/>
            <a:chExt cx="2286000" cy="457200"/>
          </a:xfrm>
        </p:grpSpPr>
        <p:sp>
          <p:nvSpPr>
            <p:cNvPr id="307" name=""/>
            <p:cNvSpPr/>
            <p:nvPr/>
          </p:nvSpPr>
          <p:spPr>
            <a:xfrm>
              <a:off x="42656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4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72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0040" y="1371600"/>
              <a:ext cx="457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2840" y="1371600"/>
              <a:ext cx="457200" cy="4572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Helvetica-Narro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572000" y="3352680"/>
            <a:ext cx="1600200" cy="609840"/>
          </a:xfrm>
          <a:prstGeom prst="rect">
            <a:avLst/>
          </a:prstGeom>
          <a:solidFill>
            <a:srgbClr val="e3dbd3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33720" y="3519360"/>
            <a:ext cx="339120" cy="36252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Helvetica-Narro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2133720"/>
            <a:ext cx="1600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1523880"/>
            <a:ext cx="1600200" cy="609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Helvetica-Narrow"/>
              </a:rPr>
              <a:t>Proces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D5E-0E71-4858-B1C7-CDB932F83C70}" type="slidenum">
              <a:t>25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infinit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is not limited by the size of the physic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have too many programs, we spend most of the time swapping back and f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degrad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suitable for real-ti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ot possible to guarantee a short response time because it depends on the program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3D1-5B9C-4D35-9D90-D9CF855939E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: sequence of data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 be on a mass storage (hard disk, cd-rom, etc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 be on special virtual devices (i.e. RAM disk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 be on a remote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ory: list of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organised in 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resents how files are organised on the mass storag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most OS, external serial devices (like the console or the video terminal) can be seen as files (i.e. stdin, stout , stderr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DB4-9D90-4609-A1F4-3DBEE841BD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irtual fil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good virtual file system provides additional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ffering &amp; ca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optimising I/O from block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 the Reiser 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ult tolerance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the RAI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file system is not provided by all OS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 and nano kernels do not even provide a file syst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9C1-1361-4B6B-ACBD-A86146B843C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Privacy and access ru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many users ar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avoid that non-authorised users access restric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, there are two or more “classes”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rmal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esource in the system can be customised with proper “access rules” that prevent access from non-authorise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the password file should be visible only to the system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F92-4087-417B-B9EF-D5223D50F22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undamenta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694b6"/>
                </a:solidFill>
                <a:latin typeface="Arial"/>
              </a:rPr>
              <a:t>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logical procedure to solve a certai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lly specified a a sequence of elementar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ep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an “execution machine” must follow to solve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necessarily expressed in a formal programming langu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694b6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implementation of an algorithm in a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executed several times with different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694b6"/>
                </a:solidFill>
                <a:latin typeface="Arial"/>
              </a:rPr>
              <a:t>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nstance of a program that, given a set of inputs values, produces a set of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EAB-C54D-48FA-9D4B-573E331758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perating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8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694b6"/>
                </a:solidFill>
                <a:latin typeface="Arial"/>
              </a:rPr>
              <a:t>An operating syste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a program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an “</a:t>
            </a: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abstr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f the physical machine through a simpl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part of the interface is a “</a:t>
            </a: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OS is also a </a:t>
            </a:r>
            <a:r>
              <a:rPr b="0" lang="en-GB" sz="2800" spc="-1" strike="noStrike">
                <a:solidFill>
                  <a:srgbClr val="3694b6"/>
                </a:solidFill>
                <a:latin typeface="Arial"/>
              </a:rPr>
              <a:t>resour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term “resource” we denote all physical entities of a comput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provides access to the physic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S provides </a:t>
            </a:r>
            <a:r>
              <a:rPr b="0" i="1" lang="en-GB" sz="2400" spc="-1" strike="noStrike">
                <a:solidFill>
                  <a:srgbClr val="660066"/>
                </a:solidFill>
                <a:latin typeface="Arial"/>
              </a:rPr>
              <a:t>abstract resourc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or example, a file, a virtual page in memory, et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17B-73D7-4502-8B6E-FBA3E5F605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Levels of abs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743200" y="1219320"/>
            <a:ext cx="5027760" cy="761760"/>
            <a:chOff x="2743200" y="1219320"/>
            <a:chExt cx="5027760" cy="761760"/>
          </a:xfrm>
        </p:grpSpPr>
        <p:sp>
          <p:nvSpPr>
            <p:cNvPr id="105" name=""/>
            <p:cNvSpPr/>
            <p:nvPr/>
          </p:nvSpPr>
          <p:spPr>
            <a:xfrm>
              <a:off x="2743200" y="1219320"/>
              <a:ext cx="1066680" cy="761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eeSans"/>
                </a:rPr>
                <a:t>K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22840" y="1219320"/>
              <a:ext cx="1066680" cy="761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eeSans"/>
                </a:rPr>
                <a:t>Li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3920" y="1219320"/>
              <a:ext cx="1067040" cy="761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eeSans"/>
                </a:rPr>
                <a:t>Bi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057400" y="4952880"/>
            <a:ext cx="6780240" cy="129564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5257800"/>
            <a:ext cx="1371600" cy="68580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Main Bo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7040" y="51814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7040" y="56386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Video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0920" y="51814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Network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56386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5160" y="51814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5160" y="5638680"/>
            <a:ext cx="1371600" cy="381240"/>
          </a:xfrm>
          <a:prstGeom prst="rect">
            <a:avLst/>
          </a:prstGeom>
          <a:solidFill>
            <a:srgbClr val="e2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15640" y="3276720"/>
            <a:ext cx="6822000" cy="1600200"/>
            <a:chOff x="2015640" y="3276720"/>
            <a:chExt cx="6822000" cy="1600200"/>
          </a:xfrm>
        </p:grpSpPr>
        <p:sp>
          <p:nvSpPr>
            <p:cNvPr id="117" name=""/>
            <p:cNvSpPr/>
            <p:nvPr/>
          </p:nvSpPr>
          <p:spPr>
            <a:xfrm>
              <a:off x="2057400" y="3276720"/>
              <a:ext cx="6780240" cy="1295280"/>
            </a:xfrm>
            <a:prstGeom prst="roundRect">
              <a:avLst>
                <a:gd name="adj" fmla="val 16667"/>
              </a:avLst>
            </a:prstGeom>
            <a:solidFill>
              <a:srgbClr val="fefd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15640" y="3718080"/>
              <a:ext cx="139824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eeSans"/>
                </a:rPr>
                <a:t>Opera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FreeSans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7400" y="3657600"/>
              <a:ext cx="662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76120" y="3290760"/>
              <a:ext cx="25491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Interface (System API)</a:t>
              </a: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33920" y="3733920"/>
              <a:ext cx="1523880" cy="380880"/>
            </a:xfrm>
            <a:prstGeom prst="rect">
              <a:avLst/>
            </a:prstGeom>
            <a:solidFill>
              <a:srgbClr val="e2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Virtual 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08640" y="3733920"/>
              <a:ext cx="1523880" cy="380880"/>
            </a:xfrm>
            <a:prstGeom prst="rect">
              <a:avLst/>
            </a:prstGeom>
            <a:solidFill>
              <a:srgbClr val="e2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Schedu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5160" y="3733920"/>
              <a:ext cx="1523880" cy="380880"/>
            </a:xfrm>
            <a:prstGeom prst="rect">
              <a:avLst/>
            </a:prstGeom>
            <a:solidFill>
              <a:srgbClr val="e2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Virtual File Sy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720" y="4191120"/>
              <a:ext cx="83808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893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37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81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325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46920" y="4191120"/>
              <a:ext cx="83844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evi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057400" y="2133720"/>
            <a:ext cx="6705720" cy="990360"/>
            <a:chOff x="2057400" y="2133720"/>
            <a:chExt cx="6705720" cy="990360"/>
          </a:xfrm>
        </p:grpSpPr>
        <p:sp>
          <p:nvSpPr>
            <p:cNvPr id="131" name=""/>
            <p:cNvSpPr/>
            <p:nvPr/>
          </p:nvSpPr>
          <p:spPr>
            <a:xfrm>
              <a:off x="2057400" y="2133720"/>
              <a:ext cx="6705720" cy="99036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19520" y="2286000"/>
              <a:ext cx="990360" cy="609480"/>
            </a:xfrm>
            <a:prstGeom prst="rect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We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Brow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2286000"/>
              <a:ext cx="990720" cy="609480"/>
            </a:xfrm>
            <a:prstGeom prst="rect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Sh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08640" y="2286000"/>
              <a:ext cx="1295280" cy="609480"/>
            </a:xfrm>
            <a:prstGeom prst="rect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Video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8840" y="2286000"/>
              <a:ext cx="1295280" cy="609480"/>
            </a:xfrm>
            <a:prstGeom prst="rect">
              <a:avLst/>
            </a:prstGeom>
            <a:solidFill>
              <a:srgbClr val="e6e3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Pr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Dae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28600" y="1371600"/>
            <a:ext cx="13716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584" y="9088"/>
                </a:moveTo>
                <a:lnTo>
                  <a:pt x="23040" y="4629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User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286000"/>
            <a:ext cx="1676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413" y="6949"/>
                </a:moveTo>
                <a:lnTo>
                  <a:pt x="22950" y="0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Progra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429000"/>
            <a:ext cx="14479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940" y="4475"/>
                </a:moveTo>
                <a:lnTo>
                  <a:pt x="23262" y="0"/>
                </a:lnTo>
              </a:path>
              <a:path w="21600" h="21600">
                <a:moveTo>
                  <a:pt x="23262" y="0"/>
                </a:moveTo>
                <a:lnTo>
                  <a:pt x="23262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800600"/>
            <a:ext cx="1295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821" y="17165"/>
                </a:moveTo>
                <a:lnTo>
                  <a:pt x="22854" y="4676"/>
                </a:lnTo>
              </a:path>
              <a:path w="21600" h="21600">
                <a:moveTo>
                  <a:pt x="22854" y="0"/>
                </a:moveTo>
                <a:lnTo>
                  <a:pt x="22854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eeSans"/>
              </a:rPr>
              <a:t>HW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D6A-078C-48D7-A9BB-90E1320EB765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bstraction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abstr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 the HW directly has several 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and error-p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ot 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you want to write a program that reads a text file from disk and outputs it on th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a proper interface it is virtually impossi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8D5-D910-4B0A-941A-8D042CB890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bstraction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 programming interface (API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a convenient and uniform way to access to one service 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W details are hidden to the high level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s do not depend on the specific H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grammer can concentrate on higher leve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reading a file, linux and many other unix OS provide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()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d(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ystem calls that, given a “file name” allow to load the data from an exter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FB5-1358-44F3-BCBE-AB2F8FFC57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istorical Perspect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beginning was the batch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ge machines, not very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mainly for scientific computation and militar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 were executed one 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calle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 were simple sequential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 th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interac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456-08EF-4B11-9834-13FEB1D557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atch process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3809520"/>
            <a:ext cx="76201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1896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tch = non-int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could not be interrupted or suspended (non-preemptiv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1896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ority based (e.g. first the military...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st job first (SJF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08840" y="1676520"/>
            <a:ext cx="106668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1640" y="2133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1337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1828800"/>
            <a:ext cx="160020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182880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676520"/>
            <a:ext cx="1447920" cy="838080"/>
          </a:xfrm>
          <a:prstGeom prst="verticalScroll">
            <a:avLst>
              <a:gd name="adj" fmla="val 125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eeSans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05740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00400" y="1676520"/>
            <a:ext cx="1143000" cy="990360"/>
            <a:chOff x="3200400" y="1676520"/>
            <a:chExt cx="1143000" cy="990360"/>
          </a:xfrm>
        </p:grpSpPr>
        <p:sp>
          <p:nvSpPr>
            <p:cNvPr id="161" name=""/>
            <p:cNvSpPr/>
            <p:nvPr/>
          </p:nvSpPr>
          <p:spPr>
            <a:xfrm>
              <a:off x="3352680" y="1828800"/>
              <a:ext cx="990720" cy="8380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6720" y="1752480"/>
              <a:ext cx="990360" cy="83844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0400" y="1676520"/>
              <a:ext cx="990720" cy="8380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Pun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FreeSans"/>
                </a:rPr>
                <a:t>Ca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542360" y="2666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5160" y="3200400"/>
            <a:ext cx="91440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eeSans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90720" y="1384200"/>
            <a:ext cx="6789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eeSans"/>
              </a:rPr>
              <a:t>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-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D92-4A03-4932-AA22-00074C6B38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