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C8AB6-0A6E-4819-8FC9-21629BA4A84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1DF-EA6D-4C09-9703-EE236FEA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80C-F4CF-4385-925A-FAD589F6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3C9-3C18-4EF0-8AC2-56C6F192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EAD-EB79-4BE8-A894-E39830C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5865-9074-4156-BA3B-AB2DE7CD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CD0F-2070-44AE-B71D-0C858BC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8F2B-16C9-480B-9808-036D9B2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036-1C70-4DE3-A948-3BE36E38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373-A626-4CB2-9B82-E3ADC4AE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209E-C396-4EC5-8573-FF8DA8D7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0726-C993-4B0E-8344-A112DCE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560-51C8-409F-9905-D8814081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625A-DE98-4AC7-A8B8-AA687D1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1DA-CB19-409C-A23B-E5F5B15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8A60-1BA9-4506-B266-F1553A9F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82E0-A1A3-4DCB-B3B9-E48833A5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E5A7-D8E6-454D-A6A1-113AB598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E8F-E310-4EE6-910C-CD12420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2AD-8A36-4B73-9243-8A00CBB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799-22EA-4BF4-B697-4D1C0DE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3CD-1CE8-4657-BA0A-D7D9C5C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136-9A0A-4EB4-8F6B-7AA9A19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66E-8F2A-4359-A2DA-4AADBEA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226-3246-4280-80AC-3AE72914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0860BA-44CC-4E4D-AE70-BB5EC0D6E2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2EEFC-0158-493E-A8F7-AC63FB277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5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verview of HW architectur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/O op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an I/O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prepare the device for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of output, data is transferred to the data buffer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ration parameters are set with the control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ration is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wait for the operation to be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s are much slower than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y take a while to get/put the data on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3: complete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ror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n up the control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01E-0A2A-4EF8-8C66-5951D0B7E0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input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4880" y="14475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wait until bit 0 of CR0 become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3: read data from D0 and reset bit 0 of C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50532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1460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86400" y="4267080"/>
            <a:ext cx="2438280" cy="1905120"/>
            <a:chOff x="5486400" y="4267080"/>
            <a:chExt cx="2438280" cy="1905120"/>
          </a:xfrm>
        </p:grpSpPr>
        <p:sp>
          <p:nvSpPr>
            <p:cNvPr id="225" name=""/>
            <p:cNvSpPr/>
            <p:nvPr/>
          </p:nvSpPr>
          <p:spPr>
            <a:xfrm>
              <a:off x="5486400" y="4267080"/>
              <a:ext cx="243828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6440" y="4433760"/>
              <a:ext cx="631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8680" y="48006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38680" y="52578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32520" y="4572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2520" y="495288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32520" y="5334120"/>
              <a:ext cx="838440" cy="30456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252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868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3744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9444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523880" y="4267080"/>
            <a:ext cx="3138480" cy="1905120"/>
            <a:chOff x="1523880" y="4267080"/>
            <a:chExt cx="3138480" cy="1905120"/>
          </a:xfrm>
        </p:grpSpPr>
        <p:sp>
          <p:nvSpPr>
            <p:cNvPr id="237" name=""/>
            <p:cNvSpPr/>
            <p:nvPr/>
          </p:nvSpPr>
          <p:spPr>
            <a:xfrm>
              <a:off x="1523880" y="4267080"/>
              <a:ext cx="297180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8240" y="44197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896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9896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98960" y="53341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8240" y="48769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8240" y="53341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30680" y="5791320"/>
              <a:ext cx="227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evice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98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98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98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4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4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4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200400" y="4419720"/>
            <a:ext cx="685800" cy="380880"/>
            <a:chOff x="3200400" y="4419720"/>
            <a:chExt cx="685800" cy="380880"/>
          </a:xfrm>
        </p:grpSpPr>
        <p:sp>
          <p:nvSpPr>
            <p:cNvPr id="252" name=""/>
            <p:cNvSpPr/>
            <p:nvPr/>
          </p:nvSpPr>
          <p:spPr>
            <a:xfrm>
              <a:off x="320040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32120" y="4419720"/>
              <a:ext cx="1526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4419720"/>
            <a:ext cx="68580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221-05AB-4C85-A03F-9C72465CE356}" type="slidenum">
              <a:t>11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output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4880" y="13633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ase 1: write data to D1 and set bit 0 of CR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ase 2: wait for bit 1 of CR1 to becom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ase 3: clean CR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50532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1460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86400" y="4267080"/>
            <a:ext cx="2438280" cy="1905120"/>
            <a:chOff x="5486400" y="4267080"/>
            <a:chExt cx="2438280" cy="1905120"/>
          </a:xfrm>
        </p:grpSpPr>
        <p:sp>
          <p:nvSpPr>
            <p:cNvPr id="264" name=""/>
            <p:cNvSpPr/>
            <p:nvPr/>
          </p:nvSpPr>
          <p:spPr>
            <a:xfrm>
              <a:off x="5486400" y="4267080"/>
              <a:ext cx="243828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36440" y="4433760"/>
              <a:ext cx="631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8006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52578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2520" y="4572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32520" y="495288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32520" y="5334120"/>
              <a:ext cx="838440" cy="30456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3252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868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23744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9444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23880" y="4267080"/>
            <a:ext cx="3138480" cy="1905120"/>
            <a:chOff x="1523880" y="4267080"/>
            <a:chExt cx="3138480" cy="1905120"/>
          </a:xfrm>
        </p:grpSpPr>
        <p:sp>
          <p:nvSpPr>
            <p:cNvPr id="276" name=""/>
            <p:cNvSpPr/>
            <p:nvPr/>
          </p:nvSpPr>
          <p:spPr>
            <a:xfrm>
              <a:off x="1523880" y="4267080"/>
              <a:ext cx="297180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8240" y="44197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9896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9896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98960" y="53341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8240" y="48769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8240" y="53341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0680" y="5791320"/>
              <a:ext cx="227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evice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8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8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4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00400" y="4876920"/>
            <a:ext cx="685800" cy="380880"/>
            <a:chOff x="3200400" y="4876920"/>
            <a:chExt cx="685800" cy="380880"/>
          </a:xfrm>
        </p:grpSpPr>
        <p:sp>
          <p:nvSpPr>
            <p:cNvPr id="291" name=""/>
            <p:cNvSpPr/>
            <p:nvPr/>
          </p:nvSpPr>
          <p:spPr>
            <a:xfrm>
              <a:off x="320040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2120" y="4876920"/>
              <a:ext cx="1526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209680" y="4876920"/>
            <a:ext cx="838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4876920"/>
            <a:ext cx="83844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200400" y="4876920"/>
            <a:ext cx="685800" cy="380880"/>
            <a:chOff x="3200400" y="4876920"/>
            <a:chExt cx="685800" cy="380880"/>
          </a:xfrm>
        </p:grpSpPr>
        <p:sp>
          <p:nvSpPr>
            <p:cNvPr id="297" name=""/>
            <p:cNvSpPr/>
            <p:nvPr/>
          </p:nvSpPr>
          <p:spPr>
            <a:xfrm>
              <a:off x="320040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7600" y="4876920"/>
              <a:ext cx="22860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4876920"/>
            <a:ext cx="68580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EB9-4D39-4834-9487-D0C679918556}" type="slidenum">
              <a:t>12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emporal diagr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echnique is called “polling” because the processor “polls” the device until the operation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, it can be a wast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or could execute something useful while the devic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how can the processor know when the device has completed the I/O op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ABF-4A53-4A50-9A9E-EEDFBB85A9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rocessor supports an interrup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has a special pin, called “interrupt request (IRQ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on reception of a signal on the IRQ p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nterrupts are enabled, the processor suspends execution and invokes an “interrupt handler”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nterrupts are disabled, the request is pending and will be served as soon as the interrupts are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5791320"/>
            <a:ext cx="106704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85160" y="579132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571500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Fetch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80040" y="571500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60958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5320" y="609588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817360" y="4800600"/>
            <a:ext cx="221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4800600"/>
            <a:ext cx="1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7760" y="4267080"/>
            <a:ext cx="1447560" cy="1143000"/>
          </a:xfrm>
          <a:prstGeom prst="diamond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terrup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789520" y="540828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2520" y="4419720"/>
            <a:ext cx="129564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5320" y="4800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618320" y="411300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87320" y="4114800"/>
            <a:ext cx="503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90920" y="4114800"/>
            <a:ext cx="1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1E3-25BC-43E7-B23E-A6B2D1C8BE2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interrupt is associated one “handl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interrup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suspend what is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shes CR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the handler (pushes the IP on the stac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ndler saves the registers that will be modifi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es the interrupt handl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ores th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es IRET (restores IP and 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5160" y="5181480"/>
            <a:ext cx="15238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85160" y="4800600"/>
            <a:ext cx="152388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85160" y="4419720"/>
            <a:ext cx="152388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85160" y="3657600"/>
            <a:ext cx="1523880" cy="762120"/>
            <a:chOff x="7085160" y="3657600"/>
            <a:chExt cx="1523880" cy="762120"/>
          </a:xfrm>
        </p:grpSpPr>
        <p:sp>
          <p:nvSpPr>
            <p:cNvPr id="327" name=""/>
            <p:cNvSpPr/>
            <p:nvPr/>
          </p:nvSpPr>
          <p:spPr>
            <a:xfrm>
              <a:off x="7085160" y="4038480"/>
              <a:ext cx="1523880" cy="38124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5160" y="3657600"/>
              <a:ext cx="1523880" cy="38088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085160" y="3657600"/>
            <a:ext cx="1523880" cy="762120"/>
            <a:chOff x="7085160" y="3657600"/>
            <a:chExt cx="1523880" cy="762120"/>
          </a:xfrm>
        </p:grpSpPr>
        <p:sp>
          <p:nvSpPr>
            <p:cNvPr id="330" name=""/>
            <p:cNvSpPr/>
            <p:nvPr/>
          </p:nvSpPr>
          <p:spPr>
            <a:xfrm>
              <a:off x="7085160" y="4038480"/>
              <a:ext cx="1523880" cy="381240"/>
            </a:xfrm>
            <a:prstGeom prst="rect">
              <a:avLst/>
            </a:prstGeom>
            <a:solidFill>
              <a:srgbClr val="e3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5160" y="3657600"/>
              <a:ext cx="1523880" cy="380880"/>
            </a:xfrm>
            <a:prstGeom prst="rect">
              <a:avLst/>
            </a:prstGeom>
            <a:solidFill>
              <a:srgbClr val="e3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085160" y="4419720"/>
            <a:ext cx="1523880" cy="380880"/>
          </a:xfrm>
          <a:prstGeom prst="rect">
            <a:avLst/>
          </a:prstGeom>
          <a:solidFill>
            <a:srgbClr val="e3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5160" y="4800600"/>
            <a:ext cx="1523880" cy="380880"/>
          </a:xfrm>
          <a:prstGeom prst="rect">
            <a:avLst/>
          </a:prstGeom>
          <a:solidFill>
            <a:srgbClr val="e3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57B-7BCE-4413-A5A2-43BBE7B428B7}" type="slidenum">
              <a:t>15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put with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execute othe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3: upon reception of the interrupt, read data from D0, clean CR0 and return to the interrup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350532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51460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6400" y="4267080"/>
            <a:ext cx="2438280" cy="1905120"/>
            <a:chOff x="5486400" y="4267080"/>
            <a:chExt cx="2438280" cy="1905120"/>
          </a:xfrm>
        </p:grpSpPr>
        <p:sp>
          <p:nvSpPr>
            <p:cNvPr id="340" name=""/>
            <p:cNvSpPr/>
            <p:nvPr/>
          </p:nvSpPr>
          <p:spPr>
            <a:xfrm>
              <a:off x="5486400" y="4267080"/>
              <a:ext cx="243828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6440" y="4433760"/>
              <a:ext cx="631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8680" y="48006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52578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2520" y="4572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2520" y="495288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2520" y="5334120"/>
              <a:ext cx="838440" cy="30456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252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23744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444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23880" y="4267080"/>
            <a:ext cx="3138480" cy="1905120"/>
            <a:chOff x="1523880" y="4267080"/>
            <a:chExt cx="3138480" cy="1905120"/>
          </a:xfrm>
        </p:grpSpPr>
        <p:sp>
          <p:nvSpPr>
            <p:cNvPr id="352" name=""/>
            <p:cNvSpPr/>
            <p:nvPr/>
          </p:nvSpPr>
          <p:spPr>
            <a:xfrm>
              <a:off x="1523880" y="4267080"/>
              <a:ext cx="297180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08240" y="44197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896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9896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8960" y="53341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8240" y="48769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08240" y="53341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0680" y="5791320"/>
              <a:ext cx="227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evice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98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8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84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4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4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0400" y="4419720"/>
            <a:ext cx="685800" cy="380880"/>
            <a:chOff x="3200400" y="4419720"/>
            <a:chExt cx="685800" cy="380880"/>
          </a:xfrm>
        </p:grpSpPr>
        <p:sp>
          <p:nvSpPr>
            <p:cNvPr id="367" name=""/>
            <p:cNvSpPr/>
            <p:nvPr/>
          </p:nvSpPr>
          <p:spPr>
            <a:xfrm>
              <a:off x="320040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32120" y="4419720"/>
              <a:ext cx="1526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4419720"/>
            <a:ext cx="68580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4240" y="58672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14200" y="5958000"/>
            <a:ext cx="601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R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FAE-4E0B-4C20-93CA-CD3E2CC64DA2}" type="slidenum">
              <a:t>16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compare polling and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4635360"/>
            <a:ext cx="3733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5594400"/>
            <a:ext cx="3962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60960" y="4940280"/>
            <a:ext cx="98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85360" y="3994200"/>
            <a:ext cx="1165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5365800"/>
            <a:ext cx="9144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037040" y="4633920"/>
            <a:ext cx="77760" cy="840960"/>
            <a:chOff x="4037040" y="4633920"/>
            <a:chExt cx="77760" cy="840960"/>
          </a:xfrm>
        </p:grpSpPr>
        <p:sp>
          <p:nvSpPr>
            <p:cNvPr id="383" name=""/>
            <p:cNvSpPr/>
            <p:nvPr/>
          </p:nvSpPr>
          <p:spPr>
            <a:xfrm flipV="1">
              <a:off x="4037040" y="509076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7040" y="509256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113360" y="463392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114800" y="4406760"/>
            <a:ext cx="91440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463536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5365800"/>
            <a:ext cx="457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53658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24680" y="4876920"/>
            <a:ext cx="38088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24680" y="43434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24680" y="5410080"/>
            <a:ext cx="38088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20400" y="422280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36240" y="481500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36240" y="534816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2851200"/>
            <a:ext cx="4800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62760" y="2286000"/>
            <a:ext cx="9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2622600"/>
            <a:ext cx="83844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26226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622600"/>
            <a:ext cx="99036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51440" y="2622600"/>
            <a:ext cx="1371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7D1-5756-4D28-BC60-602C0F0249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meaning of phase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 3 is used to signal the device that the interrupt has been 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n handshak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vice signals th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serves the interrupt and exchanges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signals the device that it has finished serving th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a new interrupt from the same device can be ra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6DF-D8C6-44CC-A460-08ED84419F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3808440" y="5256360"/>
            <a:ext cx="77760" cy="840960"/>
            <a:chOff x="3808440" y="5256360"/>
            <a:chExt cx="77760" cy="840960"/>
          </a:xfrm>
        </p:grpSpPr>
        <p:sp>
          <p:nvSpPr>
            <p:cNvPr id="405" name=""/>
            <p:cNvSpPr/>
            <p:nvPr/>
          </p:nvSpPr>
          <p:spPr>
            <a:xfrm flipV="1">
              <a:off x="3808440" y="571320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8440" y="571500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884760" y="525636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 disab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: enables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: disables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structions are privile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executed only in superviso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n interrupt arrives the processor goes automatically in superviso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525780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6172200"/>
            <a:ext cx="594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60960" y="5518080"/>
            <a:ext cx="98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85360" y="4572000"/>
            <a:ext cx="1165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5943600"/>
            <a:ext cx="6858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08640" y="5029200"/>
            <a:ext cx="91440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323040" y="5257800"/>
            <a:ext cx="1440" cy="68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23040" y="5943600"/>
            <a:ext cx="4572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59436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79280" y="5618160"/>
            <a:ext cx="483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14520" y="5607000"/>
            <a:ext cx="473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25" y="30194"/>
                </a:moveTo>
                <a:lnTo>
                  <a:pt x="-1350" y="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08440" y="5943600"/>
            <a:ext cx="16002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BFE-F75D-4C36-A674-F655A8C9AFC9}" type="slidenum">
              <a:t>19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blo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480060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676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5486400" cy="457200"/>
          </a:xfrm>
          <a:prstGeom prst="leftRightArrow">
            <a:avLst>
              <a:gd name="adj1" fmla="val 45833"/>
              <a:gd name="adj2" fmla="val 583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1676520"/>
            <a:ext cx="14479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1676520"/>
            <a:ext cx="1219320" cy="685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429000"/>
            <a:ext cx="8380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8440" y="3429000"/>
            <a:ext cx="1676520" cy="380880"/>
          </a:xfrm>
          <a:custGeom>
            <a:avLst/>
            <a:gdLst>
              <a:gd name="textAreaLeft" fmla="*/ 368640 w 1676520"/>
              <a:gd name="textAreaRight" fmla="*/ 1307880 w 1676520"/>
              <a:gd name="textAreaTop" fmla="*/ 83520 h 380880"/>
              <a:gd name="textAreaBottom" fmla="*/ 2973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9520" y="34290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2286000"/>
            <a:ext cx="152640" cy="304920"/>
          </a:xfrm>
          <a:prstGeom prst="upDownArrow">
            <a:avLst>
              <a:gd name="adj1" fmla="val 50000"/>
              <a:gd name="adj2" fmla="val 39768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4240" y="2286000"/>
            <a:ext cx="152280" cy="304920"/>
          </a:xfrm>
          <a:prstGeom prst="upDownArrow">
            <a:avLst>
              <a:gd name="adj1" fmla="val 50000"/>
              <a:gd name="adj2" fmla="val 3986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2286000"/>
            <a:ext cx="152280" cy="304920"/>
          </a:xfrm>
          <a:prstGeom prst="upDownArrow">
            <a:avLst>
              <a:gd name="adj1" fmla="val 50000"/>
              <a:gd name="adj2" fmla="val 3986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048120"/>
            <a:ext cx="152280" cy="30456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4240" y="3048120"/>
            <a:ext cx="152280" cy="30456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048120"/>
            <a:ext cx="152640" cy="304560"/>
          </a:xfrm>
          <a:prstGeom prst="upDownArrow">
            <a:avLst>
              <a:gd name="adj1" fmla="val 50000"/>
              <a:gd name="adj2" fmla="val 3972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2C1-976C-44A5-8C23-65C4EB2470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any sources of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, processor has one single IRQ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are several different I/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processors use an external Interrupt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IRQ input lines, one outp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886200"/>
            <a:ext cx="7162920" cy="533520"/>
          </a:xfrm>
          <a:prstGeom prst="leftRightArrow">
            <a:avLst>
              <a:gd name="adj1" fmla="val 56250"/>
              <a:gd name="adj2" fmla="val 639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5120" y="4724280"/>
            <a:ext cx="990360" cy="838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53341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92600" y="5334120"/>
            <a:ext cx="49176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R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808440" y="4724280"/>
            <a:ext cx="2819520" cy="1371600"/>
            <a:chOff x="3808440" y="4724280"/>
            <a:chExt cx="2819520" cy="1371600"/>
          </a:xfrm>
        </p:grpSpPr>
        <p:sp>
          <p:nvSpPr>
            <p:cNvPr id="430" name=""/>
            <p:cNvSpPr/>
            <p:nvPr/>
          </p:nvSpPr>
          <p:spPr>
            <a:xfrm>
              <a:off x="3808440" y="4724280"/>
              <a:ext cx="990720" cy="1371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99160" y="487692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99160" y="50292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99160" y="5181480"/>
              <a:ext cx="685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99160" y="533412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99160" y="54864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9160" y="563868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99160" y="579132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99160" y="59436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39080" y="472428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39080" y="487692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39080" y="502920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39080" y="518148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39080" y="533412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39080" y="548640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9080" y="563868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39080" y="579132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943600" y="4648320"/>
            <a:ext cx="106668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43400" y="43416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590920" y="43416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5320" y="43434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5486400"/>
            <a:ext cx="10666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13760" y="434340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3497400" y="5126040"/>
            <a:ext cx="12096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660066"/>
                </a:solidFill>
                <a:latin typeface="Tahoma"/>
              </a:rPr>
              <a:t>Interru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660066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8FD-E159-417F-B89C-0685B3789CA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sting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rupt dis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CLI, all interrupts are dis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n interrupt is rais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calling the interrupt handler, interrupts are automatically dis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is possible to explicitely call STI to re-enable interrupts even during an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, we can “nest interru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nterrupt handler can itself be interrupted by another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FC0-A425-4BDE-90DA-6EC326229B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control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rupts have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Q0 has the highest priority, IRQ7 the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n interrupt from a I/O device is 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re are other interrupts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the highest priority interrupt, it is forwarded to the processor (raising the IRQ li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, it remains pending, and it will be served when the processor finishes serving the current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68F-3E89-488B-9AD0-D609204324B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sting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nesting interrup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nterrupts are not nested, important services many be delayed to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IRQ0 is the timer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er interrupt is used to set the time referenc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imer interrupt is delayed too much, it can get lost (i.e. another interrupt  from the timer could arrive before the previous one is serv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ing a timer interrupt can cause losing the correct time reference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the timer interrupt has the highest priority and can interrupt everything, even another “slower”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259-18C1-4B9D-B9B1-3658B52DE8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sted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808440" y="5027760"/>
            <a:ext cx="77760" cy="840960"/>
            <a:chOff x="3808440" y="5027760"/>
            <a:chExt cx="77760" cy="840960"/>
          </a:xfrm>
        </p:grpSpPr>
        <p:sp>
          <p:nvSpPr>
            <p:cNvPr id="463" name=""/>
            <p:cNvSpPr/>
            <p:nvPr/>
          </p:nvSpPr>
          <p:spPr>
            <a:xfrm flipV="1">
              <a:off x="3808440" y="548460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08440" y="548640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884760" y="502776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590920" y="502920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62320" y="5943600"/>
            <a:ext cx="594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6040" y="5289480"/>
            <a:ext cx="98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72160" y="4464000"/>
            <a:ext cx="17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low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5715000"/>
            <a:ext cx="6858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22840" y="3962520"/>
            <a:ext cx="91440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7240" y="4191120"/>
            <a:ext cx="1440" cy="68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5715000"/>
            <a:ext cx="4572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43200" y="57150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4800600"/>
            <a:ext cx="762120" cy="2286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419112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648320" y="4188960"/>
            <a:ext cx="75960" cy="841320"/>
            <a:chOff x="4648320" y="4188960"/>
            <a:chExt cx="75960" cy="841320"/>
          </a:xfrm>
        </p:grpSpPr>
        <p:sp>
          <p:nvSpPr>
            <p:cNvPr id="478" name=""/>
            <p:cNvSpPr/>
            <p:nvPr/>
          </p:nvSpPr>
          <p:spPr>
            <a:xfrm flipV="1">
              <a:off x="4648320" y="464616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48320" y="46483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722840" y="4188960"/>
              <a:ext cx="144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637240" y="4800600"/>
            <a:ext cx="762120" cy="2286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00800" y="5029200"/>
            <a:ext cx="1440" cy="68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47320" y="3581280"/>
            <a:ext cx="2059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 pri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7BF-DB25-4346-9F47-BF3543CDBA9F}" type="slidenum">
              <a:t>24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tomic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hardware instruction is atomic if it cannot be “interleaved” with other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mic operations are always sequen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mic operations cannot be inte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saf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ransferring one word from memory to register or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atomic operations can be inte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not “safe”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 elementary operations are not a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B05-464D-4930-9181-3CDC30C9083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on atomic op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“simple” operation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61440" y="1828800"/>
            <a:ext cx="1087560" cy="3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Helvetica-Narrow"/>
              </a:rPr>
              <a:t>x = x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22860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s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985200" y="2808360"/>
            <a:ext cx="102060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038480"/>
            <a:ext cx="7620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ple operation like incrementing a memory variable may consist of three machin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ame operation is done inside an interrupt handler, an inconsistency can a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14B-5F17-497C-87CE-265CF2DFB0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on non-atomic op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25440" y="1954080"/>
            <a:ext cx="137160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x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63160" y="1434960"/>
            <a:ext cx="156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72080" y="1666800"/>
            <a:ext cx="189972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handler(void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9120" y="1130400"/>
            <a:ext cx="162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19320" y="4572000"/>
            <a:ext cx="175248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3995640"/>
            <a:ext cx="175248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Sav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Restor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09680" y="3960360"/>
            <a:ext cx="1522440" cy="1222920"/>
            <a:chOff x="2209680" y="3960360"/>
            <a:chExt cx="1522440" cy="1222920"/>
          </a:xfrm>
        </p:grpSpPr>
        <p:sp>
          <p:nvSpPr>
            <p:cNvPr id="500" name=""/>
            <p:cNvSpPr/>
            <p:nvPr/>
          </p:nvSpPr>
          <p:spPr>
            <a:xfrm>
              <a:off x="2209680" y="51814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121200" y="4873320"/>
              <a:ext cx="7920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122640" y="3960360"/>
              <a:ext cx="6094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208240" y="5256360"/>
            <a:ext cx="1525320" cy="536400"/>
            <a:chOff x="2208240" y="5256360"/>
            <a:chExt cx="1525320" cy="536400"/>
          </a:xfrm>
        </p:grpSpPr>
        <p:sp>
          <p:nvSpPr>
            <p:cNvPr id="504" name=""/>
            <p:cNvSpPr/>
            <p:nvPr/>
          </p:nvSpPr>
          <p:spPr>
            <a:xfrm flipH="1" flipV="1">
              <a:off x="3349440" y="5256360"/>
              <a:ext cx="38412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273480" y="5257800"/>
              <a:ext cx="7920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208240" y="5256360"/>
              <a:ext cx="106992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6551640" y="1676520"/>
            <a:ext cx="167652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8960" y="2438280"/>
            <a:ext cx="453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51640" y="3429000"/>
            <a:ext cx="1676520" cy="274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61120" y="3581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02840" y="3595680"/>
            <a:ext cx="3009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47680" y="1309680"/>
            <a:ext cx="6318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27880" y="6186600"/>
            <a:ext cx="10875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51640" y="47242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03760" y="4724280"/>
            <a:ext cx="18280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aved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61120" y="5562720"/>
            <a:ext cx="76212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1120" y="3581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161120" y="5562720"/>
            <a:ext cx="83844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61120" y="3581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D2A-BD3A-4DDF-8FC7-CB8DE0B51955}" type="slidenum">
              <a:t>27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ving the problem in single process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possibility is to disable interrupts in “critical se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90920" y="2759040"/>
            <a:ext cx="175248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03720" y="3081240"/>
            <a:ext cx="175284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Sav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Restor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276720" y="3045960"/>
            <a:ext cx="1828800" cy="1222920"/>
            <a:chOff x="3276720" y="3045960"/>
            <a:chExt cx="1828800" cy="1222920"/>
          </a:xfrm>
        </p:grpSpPr>
        <p:sp>
          <p:nvSpPr>
            <p:cNvPr id="535" name=""/>
            <p:cNvSpPr/>
            <p:nvPr/>
          </p:nvSpPr>
          <p:spPr>
            <a:xfrm>
              <a:off x="3276720" y="4267080"/>
              <a:ext cx="11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370040" y="3958920"/>
              <a:ext cx="9540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373640" y="3045960"/>
              <a:ext cx="7318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274560" y="4341960"/>
            <a:ext cx="1830600" cy="536400"/>
            <a:chOff x="3274560" y="4341960"/>
            <a:chExt cx="1830600" cy="536400"/>
          </a:xfrm>
        </p:grpSpPr>
        <p:sp>
          <p:nvSpPr>
            <p:cNvPr id="539" name=""/>
            <p:cNvSpPr/>
            <p:nvPr/>
          </p:nvSpPr>
          <p:spPr>
            <a:xfrm flipH="1" flipV="1">
              <a:off x="4644720" y="4341960"/>
              <a:ext cx="460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554000" y="4343400"/>
              <a:ext cx="939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3274560" y="4341960"/>
              <a:ext cx="128268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B92-1D15-42BB-B764-26D1869E10D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cesso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metric multi-processors (SM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cal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62320" y="3048120"/>
            <a:ext cx="10666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79840" y="3048120"/>
            <a:ext cx="10666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00600" y="3048120"/>
            <a:ext cx="10666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18120" y="3048120"/>
            <a:ext cx="106704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23880" y="4191120"/>
            <a:ext cx="6705720" cy="380880"/>
          </a:xfrm>
          <a:prstGeom prst="leftRightArrow">
            <a:avLst>
              <a:gd name="adj1" fmla="val 50000"/>
              <a:gd name="adj2" fmla="val 100908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37040" y="5105520"/>
            <a:ext cx="13716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95480" y="37339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37339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2320" y="37339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51640" y="37339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722840" y="4494240"/>
            <a:ext cx="14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D18-4270-4346-ADF3-3307FC7C4A6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process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14440" y="1447560"/>
            <a:ext cx="4343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: instruction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: stack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0-A3: general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: control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thmetic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tching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nch predi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828800"/>
            <a:ext cx="2438280" cy="2971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21640" y="1905120"/>
            <a:ext cx="6318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4382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954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209680"/>
            <a:ext cx="83808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5909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2971800"/>
            <a:ext cx="83808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352680"/>
            <a:ext cx="83808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886200"/>
            <a:ext cx="1295640" cy="76212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3526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44F-F273-4737-8470-EC7AE42F7BC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cesso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typic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 /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S runs on one processor only (master), CPU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rocess requires a OS service, sends a message to CPU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py of the OS runs indipendentely on each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ust synchronise on common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analyse this configuration later in the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EF2-E1E3-4176-8484-BF557808073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w level synchronisation in SM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omicity problem cannot be solved by disabling the interrup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disable the interrupts, we protect the code from interrup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easy to protect from other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62320" y="3352680"/>
            <a:ext cx="175248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2320" y="5002200"/>
            <a:ext cx="175248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89520" y="3873600"/>
            <a:ext cx="2362320" cy="35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x, R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14720" y="389268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330560" y="539892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43400" y="426708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51055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5A1-4BFF-4589-85C2-828F4531E7B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w level synchronisation in SMP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processors support some speci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694b6"/>
                </a:solidFill>
                <a:latin typeface="Arial"/>
              </a:rPr>
              <a:t>X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egister with memor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694b6"/>
                </a:solidFill>
                <a:latin typeface="Arial"/>
              </a:rPr>
              <a:t>T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memory location = 0, set location to 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turn true (1), else return false (0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EF6-D21D-478D-8EA5-57FDCFF19AB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seudo-code for TST and X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81532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62520" y="1600200"/>
            <a:ext cx="2116080" cy="83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C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atom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31840" y="1541520"/>
            <a:ext cx="316764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 xch(register R, memory x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mp = R; R = x; x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09600" y="3092400"/>
            <a:ext cx="283860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 tst(int x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x == 1) 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61B-D88E-4542-A4A0-ABF4F3B4BFB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hey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CH and T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or that executes the instruction locks the bus and performs two operations (read and write) without interference from other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 bus arb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FE5-7479-4EB4-9AA8-068ED7CFCC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in multi-process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efine one variabl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 == 0, then we can perform the critical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 == 1, the must wait before performing the critical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XCH or TST we can implement two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k() and unlock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7F0-E7FC-4BF8-AC09-59B431868C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with X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81532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ce there is an active waiting, this technique is call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i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22040" y="1571760"/>
            <a:ext cx="320616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lock(int s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a==1)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XCH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s,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52920" y="1571760"/>
            <a:ext cx="251460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unlock(int s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21720" y="3191040"/>
            <a:ext cx="220608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LOCK(S)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R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ABEL :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CH R0,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MP R0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E 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52920" y="3191040"/>
            <a:ext cx="25146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UNLOCK(S)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R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s,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128-EF53-411E-8AB2-F6A4613D239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00200" y="24084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with T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6120" y="1446120"/>
            <a:ext cx="312444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lock(int x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(s) ==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37280" y="1463760"/>
            <a:ext cx="251460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unlock(int s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46120" y="3102120"/>
            <a:ext cx="312444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-------------------------------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ABEL: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ST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Z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37280" y="3119400"/>
            <a:ext cx="25146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UNLOCK(S)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R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s,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81532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ain an active waiting, this is a different implementation of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i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CF2-30C1-4C0E-AABE-0C9098EB5F1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in multi-process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1190520"/>
            <a:ext cx="213372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0: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,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89520" y="1333440"/>
            <a:ext cx="2362320" cy="451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 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1, 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, R1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86120" y="173052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09800" y="434340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343400" y="292428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41148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81080" y="3886200"/>
            <a:ext cx="213372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: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,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898640" y="396252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98640" y="518148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898640" y="127584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898640" y="248292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183560" y="1143000"/>
            <a:ext cx="99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74920" y="236232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Un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74920" y="502920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Un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83560" y="3824280"/>
            <a:ext cx="99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90400" y="1905120"/>
            <a:ext cx="82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x=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90400" y="4586400"/>
            <a:ext cx="82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x=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260-3EA4-4982-9878-DD1FCA174FC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ck / unlock operations are “sa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atter how you interleave the operations, there is no possibility that the “critical parts” inter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pinlock  is an active wait and a possible was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 of locking is very general and will be analysed and solved in greater detail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BDF-8761-4591-8A05-7690F941479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or regis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visible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as temporary buffers for processo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in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SC architec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rray of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ISC architec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set of registers dedicated to specif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and Status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ruction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 Register (or PSW Program Status Wor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D15-C604-4E58-ACF7-E23530DFD10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pin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PU1 waits for CPU0 with a spinlock, it cannot execute oth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 waste of processo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CPU1 waits for CPU0 with a spinlock, it accesses memory continuo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occupies the system shared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lows down the other processors! (It reduces considerably the bus bandwidth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157-9024-4065-88BC-1EF4E969415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re sophisticated techniq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cache cohe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every processor has a local cache,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herency algorithm ensures that the cache content is synchronized with the glob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12920" y="557064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12920" y="557208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16200" y="557208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12920" y="4572000"/>
            <a:ext cx="1143000" cy="74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03240" y="4800600"/>
            <a:ext cx="457200" cy="457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260440" y="3200400"/>
            <a:ext cx="1828800" cy="74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82880" y="3324240"/>
            <a:ext cx="457200" cy="457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32040" y="4572000"/>
            <a:ext cx="1143000" cy="74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14880" y="4764240"/>
            <a:ext cx="457200" cy="457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88840" y="4272120"/>
            <a:ext cx="4572000" cy="1440"/>
          </a:xfrm>
          <a:custGeom>
            <a:avLst/>
            <a:gdLst/>
            <a:ahLst/>
            <a:rect l="l" t="t" r="r" b="b"/>
            <a:pathLst>
              <a:path w="12701" h="1">
                <a:moveTo>
                  <a:pt x="0" y="0"/>
                </a:moveTo>
                <a:lnTo>
                  <a:pt x="3175" y="0"/>
                </a:lnTo>
                <a:lnTo>
                  <a:pt x="9525" y="0"/>
                </a:lnTo>
                <a:lnTo>
                  <a:pt x="12700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868400" y="4263840"/>
            <a:ext cx="1800" cy="301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119400" y="3951360"/>
            <a:ext cx="1800" cy="301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4157640" y="4263840"/>
            <a:ext cx="1440" cy="301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854360" y="530064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157640" y="530064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03240" y="480060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51560" y="3041640"/>
            <a:ext cx="1743120" cy="1079640"/>
          </a:xfrm>
          <a:prstGeom prst="borderCallout2">
            <a:avLst>
              <a:gd name="adj1" fmla="val 18750"/>
              <a:gd name="adj2" fmla="val -8333"/>
              <a:gd name="adj3" fmla="val 22430"/>
              <a:gd name="adj4" fmla="val -70375"/>
              <a:gd name="adj5" fmla="val 36898"/>
              <a:gd name="adj6" fmla="val -1356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Writes back to glob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51560" y="4807080"/>
            <a:ext cx="1743120" cy="1079280"/>
          </a:xfrm>
          <a:prstGeom prst="borderCallout2">
            <a:avLst>
              <a:gd name="adj1" fmla="val 18750"/>
              <a:gd name="adj2" fmla="val -8333"/>
              <a:gd name="adj3" fmla="val 19629"/>
              <a:gd name="adj4" fmla="val -45125"/>
              <a:gd name="adj5" fmla="val 3865"/>
              <a:gd name="adj6" fmla="val -948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Invalidates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14880" y="4764240"/>
            <a:ext cx="457200" cy="457200"/>
          </a:xfrm>
          <a:prstGeom prst="rect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82880" y="332424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1EF-F6D3-4FC7-A279-79FE554272D1}" type="slidenum">
              <a:t>41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des of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rocessors have at least two mode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o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ructions are allow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rnel routines execute in supervisor mode because the OS must access all features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all instructions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programs execute in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instruction (for example, disabling interrupts) cannot be invoked directly by user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possible to switch from user mode to supervisor mode  with special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12D-2562-48C4-B3BB-4772246C44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ain Memory and bu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data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both instructions (TEXT) and data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t of “wi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of data wires is the amount of bits that can be read with one memor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PC buses: 32 bits,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C58-464E-4C59-96ED-36ECE52624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struction exec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82600"/>
            <a:ext cx="79995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distinguish at least two ph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ing: the instruction is read from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ecute: the instruction is exec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Data processing inst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he result is stored i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Load inst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he data is loaded from 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St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he data is stored in 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Contro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the flow of execution may change (change I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instruction may be the combination of different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478480"/>
            <a:ext cx="106704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3760" y="547848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40216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Fetch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08640" y="540216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783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7834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3920" y="57834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18120" y="4866840"/>
            <a:ext cx="180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15920" y="4869000"/>
            <a:ext cx="320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869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011-64EF-41AF-99B8-428EAF8F1F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76920" y="1219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300" y="78124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tack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ck is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loc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function c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a func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ameters are sav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 &lt;address&gt;: The current IP is sav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utine saves the registers that will be modifi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cal variables are defin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function is over the stack is cleaned and the RET instruction is called which restores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057400"/>
            <a:ext cx="1600200" cy="32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34040" y="54100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809880"/>
            <a:ext cx="1600200" cy="6098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581280"/>
            <a:ext cx="1600200" cy="22860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29400" y="2895480"/>
            <a:ext cx="1600200" cy="685800"/>
            <a:chOff x="6629400" y="2895480"/>
            <a:chExt cx="1600200" cy="685800"/>
          </a:xfrm>
        </p:grpSpPr>
        <p:sp>
          <p:nvSpPr>
            <p:cNvPr id="151" name=""/>
            <p:cNvSpPr/>
            <p:nvPr/>
          </p:nvSpPr>
          <p:spPr>
            <a:xfrm>
              <a:off x="6629400" y="33526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31240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9400" y="28954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629400" y="2438280"/>
            <a:ext cx="1600200" cy="457200"/>
            <a:chOff x="6629400" y="2438280"/>
            <a:chExt cx="1600200" cy="457200"/>
          </a:xfrm>
        </p:grpSpPr>
        <p:sp>
          <p:nvSpPr>
            <p:cNvPr id="155" name=""/>
            <p:cNvSpPr/>
            <p:nvPr/>
          </p:nvSpPr>
          <p:spPr>
            <a:xfrm>
              <a:off x="6629400" y="26668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400" y="24382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8304120" y="419112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4120" y="4114800"/>
            <a:ext cx="533520" cy="6094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04120" y="36576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4120" y="3581280"/>
            <a:ext cx="533520" cy="609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04120" y="34290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4120" y="27432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04120" y="3352680"/>
            <a:ext cx="533520" cy="609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04120" y="2666880"/>
            <a:ext cx="533520" cy="609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04120" y="22860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24382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C57-55BD-4939-BF10-5D85B18A018C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ternal de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5240" y="1371240"/>
            <a:ext cx="4114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data regi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contro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ed on certain memory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572000"/>
            <a:ext cx="2971800" cy="1905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724280"/>
            <a:ext cx="83844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4724280"/>
            <a:ext cx="68580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181480"/>
            <a:ext cx="68580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5638680"/>
            <a:ext cx="68580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5181480"/>
            <a:ext cx="83844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638680"/>
            <a:ext cx="83844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2080" y="6095880"/>
            <a:ext cx="227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 devic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911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86000" y="418896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4572000"/>
            <a:ext cx="2438280" cy="1905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07840" y="4738680"/>
            <a:ext cx="6318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08640" y="51055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08640" y="55627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3920" y="4876920"/>
            <a:ext cx="83844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3920" y="525780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3920" y="56386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3920" y="6019920"/>
            <a:ext cx="83844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60199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08840" y="41911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5840" y="418896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2320" y="1371600"/>
            <a:ext cx="2362320" cy="2209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6520" y="1447920"/>
            <a:ext cx="10814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246720" y="1905120"/>
            <a:ext cx="1371600" cy="1600200"/>
            <a:chOff x="6246720" y="1905120"/>
            <a:chExt cx="1371600" cy="1600200"/>
          </a:xfrm>
        </p:grpSpPr>
        <p:sp>
          <p:nvSpPr>
            <p:cNvPr id="194" name=""/>
            <p:cNvSpPr/>
            <p:nvPr/>
          </p:nvSpPr>
          <p:spPr>
            <a:xfrm>
              <a:off x="6246720" y="1905120"/>
              <a:ext cx="1371600" cy="160020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6720" y="21337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6720" y="23623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6720" y="25909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46720" y="28195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6720" y="3048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46720" y="32767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637240" y="182880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7240" y="21016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7240" y="23302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7240" y="25588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7240" y="27874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37240" y="30160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7240" y="32446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03920" y="1523880"/>
            <a:ext cx="74772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476892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1814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6386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76892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51814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6386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08840" y="35812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5840" y="357948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AF1-AE5C-41A4-8483-4C1A63336E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