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CF5D5-46C4-44EA-BB71-6A958A4D5FD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C30-2AB0-4E45-8D66-DA1CEBC6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5FB-1A1A-4234-8A7A-35DCA8ED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4F0-2FCB-4A99-8FD6-652FDD68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499-2AA0-4582-92D3-FE55EFB6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BAB8-046D-4CCE-AF13-A41F0CB2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CBF2-44B0-4963-85C4-F959C1E0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AAE4-DA1A-4DFE-AAFF-E09A346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9A20-724C-4BAB-A950-B2C491CF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4317-563E-4088-AB52-541E9B92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EF02-4DC7-48B5-ACB1-A2E1E05A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C98E-42C2-48ED-8685-845B39C4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1DA-6BE1-4556-A137-414581B9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2B01-ADC7-4CA2-8F35-6A955F80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4743-FB9D-4878-9032-27B0A36E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DFED-1D3F-499F-823E-63A19039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B58D-06CB-453D-A54C-95F0D906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7471-58E6-4CBF-888C-09597E96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28B-5ED1-4C9D-BBDE-0000DE3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445-C158-4227-90A1-48F8EFF0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11D-2D6C-42E5-89D1-25C6DE50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BFB-17BD-4BF9-AFC5-6B713B09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EAF-BE8D-43B3-A756-2A440A6B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9A4-C9F5-46B6-8D6E-33AA69D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C0C-59D9-4247-BBE9-77F0F643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2DC035-6A01-4E82-904F-84C05B6B7B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B3B72-8409-4832-8031-EF443310E8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hark.sssup.it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6525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perating Systems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03. Processes and Thread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34240" y="2743200"/>
            <a:ext cx="1830240" cy="3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244" y="15682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Process Iden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Control B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ontains all the data concerning 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PCBs are stored in the Process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3352680"/>
            <a:ext cx="1752840" cy="30492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3657600"/>
            <a:ext cx="1752840" cy="30492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3962520"/>
            <a:ext cx="1752840" cy="30456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4267080"/>
            <a:ext cx="1752840" cy="30492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4572000"/>
            <a:ext cx="1752840" cy="30492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4876920"/>
            <a:ext cx="1752840" cy="30456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2895480"/>
            <a:ext cx="144792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3200400"/>
            <a:ext cx="144792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3505320"/>
            <a:ext cx="1447920" cy="3045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3809880"/>
            <a:ext cx="1447920" cy="30492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114800"/>
            <a:ext cx="1447920" cy="30492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4419720"/>
            <a:ext cx="1447920" cy="30456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4724280"/>
            <a:ext cx="1447920" cy="30492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ther R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5029200"/>
            <a:ext cx="144792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5334120"/>
            <a:ext cx="1447920" cy="304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5638680"/>
            <a:ext cx="144792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m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943600"/>
            <a:ext cx="144792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297" idx="3"/>
            <a:endCxn id="303" idx="1"/>
          </p:cNvCxnSpPr>
          <p:nvPr/>
        </p:nvCxnSpPr>
        <p:spPr>
          <a:xfrm flipV="1">
            <a:off x="3276360" y="3047760"/>
            <a:ext cx="106740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1405800" y="2962440"/>
            <a:ext cx="1654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21640" y="3192480"/>
            <a:ext cx="160020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846" y="9933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Paren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97520" y="3621240"/>
            <a:ext cx="160200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1" y="795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User iden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34240" y="4030560"/>
            <a:ext cx="18302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244" y="-2787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Control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21640" y="4522680"/>
            <a:ext cx="1901520" cy="3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12" y="-13716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Istruction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34240" y="4908600"/>
            <a:ext cx="183024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244" y="-19532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Stac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5316480"/>
            <a:ext cx="20574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287" y="-20478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Processor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5823000"/>
            <a:ext cx="20574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287" y="-24993"/>
                </a:moveTo>
                <a:lnTo>
                  <a:pt x="-1029" y="2160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Process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(Ready, Running, etc.)</a:t>
            </a: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5160" y="6400800"/>
            <a:ext cx="1830240" cy="3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371" y="-34790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Remain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D9E-21EE-415C-9B21-59A23A62EC97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role of PCB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ly every routine in the OS uses th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irtual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rupt handlers (I/O devic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only be accessed by th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ser can access some of the information in the PCB by using appropriate system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CB is a critical point of an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C8F-6E72-4754-81CC-6AFA405853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500720" y="4495680"/>
            <a:ext cx="19047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00" y="-3427"/>
                </a:moveTo>
                <a:lnTo>
                  <a:pt x="-798" y="0"/>
                </a:lnTo>
              </a:path>
              <a:path w="21600" h="21600">
                <a:moveTo>
                  <a:pt x="-798" y="0"/>
                </a:moveTo>
                <a:lnTo>
                  <a:pt x="-798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Proce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mory layout of a Pro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4880" y="5333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system, the PCB is in the “other data”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4191120"/>
            <a:ext cx="1600200" cy="457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09680" y="3733920"/>
            <a:ext cx="1600200" cy="457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itializ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3276720"/>
            <a:ext cx="1600200" cy="457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600200" cy="1447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15400" y="289548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46360" y="190512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28195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23623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09680" y="1447920"/>
            <a:ext cx="16002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Oth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00720" y="3581280"/>
            <a:ext cx="190476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32" y="9650"/>
                </a:moveTo>
                <a:lnTo>
                  <a:pt x="-798" y="2945"/>
                </a:lnTo>
              </a:path>
              <a:path w="21600" h="21600">
                <a:moveTo>
                  <a:pt x="-798" y="0"/>
                </a:moveTo>
                <a:lnTo>
                  <a:pt x="-798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his segmen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itial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he 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2666880"/>
            <a:ext cx="190476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05" y="18855"/>
                </a:moveTo>
                <a:lnTo>
                  <a:pt x="-798" y="2945"/>
                </a:lnTo>
              </a:path>
              <a:path w="21600" h="21600">
                <a:moveTo>
                  <a:pt x="-798" y="0"/>
                </a:moveTo>
                <a:lnTo>
                  <a:pt x="-798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his segmen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eeSans"/>
              </a:rPr>
              <a:t>NOT </a:t>
            </a: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itial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he 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00720" y="1981080"/>
            <a:ext cx="19047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54" y="34419"/>
                </a:moveTo>
                <a:lnTo>
                  <a:pt x="-798" y="0"/>
                </a:lnTo>
              </a:path>
              <a:path w="21600" h="21600">
                <a:moveTo>
                  <a:pt x="-798" y="0"/>
                </a:moveTo>
                <a:lnTo>
                  <a:pt x="-798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Process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00720" y="1066680"/>
            <a:ext cx="190476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89" y="25030"/>
                </a:moveTo>
                <a:lnTo>
                  <a:pt x="-798" y="2945"/>
                </a:lnTo>
              </a:path>
              <a:path w="21600" h="21600">
                <a:moveTo>
                  <a:pt x="-798" y="0"/>
                </a:moveTo>
                <a:lnTo>
                  <a:pt x="-798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Process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(for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Memory)</a:t>
            </a: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893-594B-40B6-A5AF-43D7EA6C0F9A}" type="slidenum">
              <a:t>12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mory pro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process has its own memory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it is “private to the proce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it can be shared with othe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s: two processes that are instances of the same program will probably share the TEX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wo processes want to communicate by shared memory, they can share a portion of the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6019920"/>
            <a:ext cx="16002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66880" y="5638680"/>
            <a:ext cx="16002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itializ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5257800"/>
            <a:ext cx="16002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191120"/>
            <a:ext cx="1600200" cy="1066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72600" y="487692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03560" y="426708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48006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3809880"/>
            <a:ext cx="16002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Oth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638680"/>
            <a:ext cx="16002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itializ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191120"/>
            <a:ext cx="1600200" cy="1066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77360" y="487692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08680" y="426708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48006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46483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3809880"/>
            <a:ext cx="16002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Oth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0" y="5257800"/>
            <a:ext cx="16002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60720" y="548640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6019920"/>
            <a:ext cx="16002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960720" y="617220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FEA-5437-4397-9E3C-56044034AE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mory Pro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4880" y="13636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, two processes cannot share thei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one process tries to access a memory location outside its space, a processor exception is raised (trap) and the process is ter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mous “Segmentation Fault” error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come back to this when we study the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63C-F06B-484D-A507-AA2FE7FB284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des of operation (revised)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4880" y="136332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modern processor supports at least 2 modes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rol Register (CR) contains one bit that tells us in which mode the processor is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ng system routines run in superviso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need to operate freely on every part of the hardware with no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code runs into us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time we go from user to supervisor mode or vice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494-D69A-4537-86C7-8ABD925FF89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de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4880" y="1281240"/>
            <a:ext cx="76201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an happen in one of the following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rupts or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case, before calling the interrupt handler, the processor goes in supervisor mode and disables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ps are interrupts that are raised when a critical error occurs (for example, division by zero, or page faul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ing from the interrupt restores the previous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king a special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Intel family, it is the 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nstruction is similar to an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akes a number that identifies a “serv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OS calls are invoked by calling 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ing from the handler restores the previous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508-F675-4CBD-BE58-AFA6E9131E3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029200" y="2057400"/>
            <a:ext cx="3886200" cy="342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47" y="4280"/>
                </a:moveTo>
                <a:lnTo>
                  <a:pt x="-424" y="720"/>
                </a:lnTo>
              </a:path>
              <a:path w="21600" h="21600">
                <a:moveTo>
                  <a:pt x="-424" y="0"/>
                </a:moveTo>
                <a:lnTo>
                  <a:pt x="-424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ves parameters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ecutes INT 2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Change to superviso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Save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ecute the function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stores the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 parameters from the st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of system c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5240" y="396216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“open” system call can potentially block the proce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at case we have a “process switc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66520" y="1874880"/>
            <a:ext cx="363420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fd,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har buff[10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d = open(“Dummy.txt”, O_RDONL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 =  read(fd, buff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2A0-A099-4B39-B310-D5232D6A9956}" type="slidenum">
              <a:t>17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happens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cess has been “preempted” by another higher priorit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cess blocks on som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me-sharing systems, the process has completed its “round” and it is the turn of some oth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must be able to restore the proces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we must save its state before switching to anoth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D53-4A71-48B4-B864-BEB9D3A0ACE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“exec” point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OS has one pointer (“exec”) to the PCB of the ru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tus of the “exec” process is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process switch occu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tus of the “exec” process is changed to BLOCKING or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heduler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heduler selects another “exec” from the ready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92B-4AFA-4298-9C65-B9D2176AEE6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undamental concept in any operating system is the “proc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cess is an execut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its own set of resources (memory, file descriptors, et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OS can execute many processes at the same time (concurrenc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7F6-5B9F-4459-8168-6062047C9E6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stem call with process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s parameters on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2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to superviso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e context in the PCB of “exec” (including S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e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change status and goes into BLOCK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s th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es “exec” into the blocking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s another process to go into RUNN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w exec points to the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ores the context of “exec” (including S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hanges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turns to where the new process was interru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4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27A-C1E4-4912-9EBD-8ABA052ABC8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ta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cuting I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3200400"/>
            <a:ext cx="1295640" cy="27432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2224080"/>
            <a:ext cx="1218960" cy="3708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2133720"/>
            <a:ext cx="34290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5638680"/>
            <a:ext cx="1295640" cy="304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3880" y="5334120"/>
            <a:ext cx="129564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029200"/>
            <a:ext cx="1295640" cy="304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2743200"/>
            <a:ext cx="129528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00400" y="3048120"/>
            <a:ext cx="1295280" cy="3045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0400" y="3352680"/>
            <a:ext cx="129528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200400" y="3657600"/>
            <a:ext cx="1295280" cy="1219320"/>
            <a:chOff x="3200400" y="3657600"/>
            <a:chExt cx="1295280" cy="1219320"/>
          </a:xfrm>
        </p:grpSpPr>
        <p:sp>
          <p:nvSpPr>
            <p:cNvPr id="392" name=""/>
            <p:cNvSpPr/>
            <p:nvPr/>
          </p:nvSpPr>
          <p:spPr>
            <a:xfrm>
              <a:off x="3200400" y="3657600"/>
              <a:ext cx="129528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0400" y="3962520"/>
              <a:ext cx="1295280" cy="30456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0400" y="4267080"/>
              <a:ext cx="129528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0400" y="4572000"/>
              <a:ext cx="129528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ther R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3200400" y="4876920"/>
            <a:ext cx="1295280" cy="304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5181480"/>
            <a:ext cx="129528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5486400"/>
            <a:ext cx="129528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m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00400" y="5791320"/>
            <a:ext cx="1295280" cy="304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02640" y="2362320"/>
            <a:ext cx="61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89040" y="283356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3657600"/>
            <a:ext cx="1295280" cy="1219320"/>
            <a:chOff x="3200400" y="3657600"/>
            <a:chExt cx="1295280" cy="1219320"/>
          </a:xfrm>
        </p:grpSpPr>
        <p:sp>
          <p:nvSpPr>
            <p:cNvPr id="403" name=""/>
            <p:cNvSpPr/>
            <p:nvPr/>
          </p:nvSpPr>
          <p:spPr>
            <a:xfrm>
              <a:off x="3200400" y="3657600"/>
              <a:ext cx="129528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00400" y="3962520"/>
              <a:ext cx="1295280" cy="3045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0400" y="4267080"/>
              <a:ext cx="129528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00400" y="4572000"/>
              <a:ext cx="129528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ther R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5257800" y="3200400"/>
            <a:ext cx="1295280" cy="27432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2133720"/>
            <a:ext cx="34290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57800" y="5638680"/>
            <a:ext cx="1295280" cy="304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57800" y="5334120"/>
            <a:ext cx="129528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5029200"/>
            <a:ext cx="1295280" cy="304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2520" y="2743200"/>
            <a:ext cx="129564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2520" y="3048120"/>
            <a:ext cx="1295640" cy="3045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2520" y="3352680"/>
            <a:ext cx="129564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932520" y="3657600"/>
            <a:ext cx="1295640" cy="1219320"/>
            <a:chOff x="6932520" y="3657600"/>
            <a:chExt cx="1295640" cy="1219320"/>
          </a:xfrm>
        </p:grpSpPr>
        <p:sp>
          <p:nvSpPr>
            <p:cNvPr id="416" name=""/>
            <p:cNvSpPr/>
            <p:nvPr/>
          </p:nvSpPr>
          <p:spPr>
            <a:xfrm>
              <a:off x="6932520" y="3657600"/>
              <a:ext cx="129564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32520" y="3962520"/>
              <a:ext cx="1295640" cy="3045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32520" y="4267080"/>
              <a:ext cx="129564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32520" y="4572000"/>
              <a:ext cx="129564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ther R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932520" y="4876920"/>
            <a:ext cx="1295640" cy="304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32520" y="5181480"/>
            <a:ext cx="129564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32520" y="5486400"/>
            <a:ext cx="129564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m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2520" y="5791320"/>
            <a:ext cx="1295640" cy="304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36560" y="2362320"/>
            <a:ext cx="61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22600" y="283356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600" y="2209680"/>
            <a:ext cx="1101240" cy="3708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73280" y="2209680"/>
            <a:ext cx="837720" cy="3708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0040" y="2209680"/>
            <a:ext cx="1143000" cy="3708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932520" y="3657600"/>
            <a:ext cx="1295640" cy="1219320"/>
            <a:chOff x="6932520" y="3657600"/>
            <a:chExt cx="1295640" cy="1219320"/>
          </a:xfrm>
        </p:grpSpPr>
        <p:sp>
          <p:nvSpPr>
            <p:cNvPr id="430" name=""/>
            <p:cNvSpPr/>
            <p:nvPr/>
          </p:nvSpPr>
          <p:spPr>
            <a:xfrm>
              <a:off x="6932520" y="3657600"/>
              <a:ext cx="129564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32520" y="3962520"/>
              <a:ext cx="1295640" cy="30456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2520" y="4267080"/>
              <a:ext cx="129564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932520" y="4572000"/>
              <a:ext cx="129564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ther R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257800" y="5029200"/>
            <a:ext cx="1295280" cy="30492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57800" y="5334120"/>
            <a:ext cx="1295280" cy="30456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638680"/>
            <a:ext cx="1295280" cy="30492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28E-7049-4D16-885D-37CFE5ABD956}" type="slidenum">
              <a:t>21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 fill="hold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 fill="hold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only a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OS has little variations on the same t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in most cases, registers are saved on the stack, not on the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try to look into some real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 B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k (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hark.sssup.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OS is differ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722-ED1B-4A50-B93C-BCC94B2886F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ime sharing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ime sharing system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process can execute for maximum one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10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end of the round, the processor is given to anoth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627960" y="3819600"/>
            <a:ext cx="116352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824" y="18958"/>
                </a:moveTo>
                <a:lnTo>
                  <a:pt x="-1414" y="4114"/>
                </a:lnTo>
              </a:path>
              <a:path w="21600" h="21600">
                <a:moveTo>
                  <a:pt x="-1414" y="0"/>
                </a:moveTo>
                <a:lnTo>
                  <a:pt x="-1414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ee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eeSan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51480" y="4176720"/>
            <a:ext cx="106668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094280" y="46483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570040" y="4329000"/>
            <a:ext cx="1600200" cy="609840"/>
            <a:chOff x="2570040" y="4329000"/>
            <a:chExt cx="1600200" cy="609840"/>
          </a:xfrm>
        </p:grpSpPr>
        <p:sp>
          <p:nvSpPr>
            <p:cNvPr id="445" name=""/>
            <p:cNvSpPr/>
            <p:nvPr/>
          </p:nvSpPr>
          <p:spPr>
            <a:xfrm>
              <a:off x="2570040" y="4329000"/>
              <a:ext cx="1600200" cy="6098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416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130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844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558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72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986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2586960" y="3809880"/>
            <a:ext cx="148824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eeSans"/>
              </a:rPr>
              <a:t>Read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79680" y="4648320"/>
            <a:ext cx="99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328560" y="4951080"/>
            <a:ext cx="1756080" cy="765360"/>
            <a:chOff x="3328560" y="4951080"/>
            <a:chExt cx="1756080" cy="765360"/>
          </a:xfrm>
        </p:grpSpPr>
        <p:sp>
          <p:nvSpPr>
            <p:cNvPr id="455" name=""/>
            <p:cNvSpPr/>
            <p:nvPr/>
          </p:nvSpPr>
          <p:spPr>
            <a:xfrm>
              <a:off x="5083200" y="51814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328560" y="5715000"/>
              <a:ext cx="175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332160" y="4951080"/>
              <a:ext cx="144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484440" y="4329000"/>
            <a:ext cx="684360" cy="609840"/>
            <a:chOff x="3484440" y="4329000"/>
            <a:chExt cx="684360" cy="609840"/>
          </a:xfrm>
        </p:grpSpPr>
        <p:sp>
          <p:nvSpPr>
            <p:cNvPr id="459" name=""/>
            <p:cNvSpPr/>
            <p:nvPr/>
          </p:nvSpPr>
          <p:spPr>
            <a:xfrm>
              <a:off x="3940200" y="4329000"/>
              <a:ext cx="228600" cy="60984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11600" y="4329000"/>
              <a:ext cx="228600" cy="60984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84440" y="4329000"/>
              <a:ext cx="228600" cy="6098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4551480" y="4176720"/>
            <a:ext cx="1066680" cy="99072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484440" y="4329000"/>
            <a:ext cx="684360" cy="609840"/>
            <a:chOff x="3484440" y="4329000"/>
            <a:chExt cx="684360" cy="609840"/>
          </a:xfrm>
        </p:grpSpPr>
        <p:sp>
          <p:nvSpPr>
            <p:cNvPr id="464" name=""/>
            <p:cNvSpPr/>
            <p:nvPr/>
          </p:nvSpPr>
          <p:spPr>
            <a:xfrm>
              <a:off x="3484440" y="4329000"/>
              <a:ext cx="228600" cy="6098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40200" y="4329000"/>
              <a:ext cx="228600" cy="60984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11600" y="4329000"/>
              <a:ext cx="228600" cy="6098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4551480" y="4176720"/>
            <a:ext cx="106668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51480" y="4176720"/>
            <a:ext cx="1066680" cy="9907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484440" y="4329000"/>
            <a:ext cx="684360" cy="609840"/>
            <a:chOff x="3484440" y="4329000"/>
            <a:chExt cx="684360" cy="609840"/>
          </a:xfrm>
        </p:grpSpPr>
        <p:sp>
          <p:nvSpPr>
            <p:cNvPr id="470" name=""/>
            <p:cNvSpPr/>
            <p:nvPr/>
          </p:nvSpPr>
          <p:spPr>
            <a:xfrm>
              <a:off x="3484440" y="4329000"/>
              <a:ext cx="228600" cy="60984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40200" y="4329000"/>
              <a:ext cx="228600" cy="60984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11600" y="4329000"/>
              <a:ext cx="228600" cy="6098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484440" y="4329000"/>
            <a:ext cx="684360" cy="609840"/>
            <a:chOff x="3484440" y="4329000"/>
            <a:chExt cx="684360" cy="609840"/>
          </a:xfrm>
        </p:grpSpPr>
        <p:sp>
          <p:nvSpPr>
            <p:cNvPr id="474" name=""/>
            <p:cNvSpPr/>
            <p:nvPr/>
          </p:nvSpPr>
          <p:spPr>
            <a:xfrm>
              <a:off x="3711600" y="4329000"/>
              <a:ext cx="228600" cy="60984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84440" y="4329000"/>
              <a:ext cx="228600" cy="6098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40200" y="4329000"/>
              <a:ext cx="228600" cy="6098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629400" y="5257800"/>
            <a:ext cx="116352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768" y="-12910"/>
                </a:moveTo>
                <a:lnTo>
                  <a:pt x="-1414" y="4114"/>
                </a:lnTo>
              </a:path>
              <a:path w="21600" h="21600">
                <a:moveTo>
                  <a:pt x="-1414" y="0"/>
                </a:moveTo>
                <a:lnTo>
                  <a:pt x="-1414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eeSans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eeSans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245-6571-4B20-BC0F-E863152D1715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1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1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1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with process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very similar to the INT with process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terrup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to superviso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CR and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processo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 the interrupt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 the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y change the “exec”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DD1-0E2C-4B6B-A681-AD72BBBA502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auses for a process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cess switch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untary: the process calls a blocking primitive, i.e. it executes an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example, by calling a read() on a blocking de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voluntary: an interrupt arrives that causes the process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can be the timer interrupt , in time-sharing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can be an I/O device which unblocks a blocked process with a higher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EE2-0B61-4A06-B46C-3F925570942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S struct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proces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kernel executes in its ow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we do a mode swit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s are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ck is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4952880"/>
            <a:ext cx="381024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3886200"/>
            <a:ext cx="609840" cy="10666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37040" y="3886200"/>
            <a:ext cx="609480" cy="10666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951440" y="3886200"/>
            <a:ext cx="609480" cy="10666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65840" y="3886200"/>
            <a:ext cx="609480" cy="10666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32D-0157-4DF2-B3B9-5506712FCB6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ecution within User proc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kernel routines execute in the context of the ru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ck is not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l variables of the kernel are saved on top of the process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small part (the process switch) is independent of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and Shark and many others have this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5715000"/>
            <a:ext cx="3810240" cy="53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Switchin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4191120"/>
            <a:ext cx="60984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37040" y="419112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951440" y="419112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65840" y="419112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124080" y="4876920"/>
            <a:ext cx="609840" cy="8380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nc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7040" y="4876920"/>
            <a:ext cx="609480" cy="8380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nc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1440" y="4876920"/>
            <a:ext cx="609480" cy="8380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nc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865840" y="4876920"/>
            <a:ext cx="609480" cy="8380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nc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17C-5E1A-42DD-8511-C4E72D587A2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-based O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the typical microkerne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outine (service) is a separat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system call involves a process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arity, Composability, Exten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23880" y="5715000"/>
            <a:ext cx="6705720" cy="53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Switchin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52480" y="5029200"/>
            <a:ext cx="60984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66880" y="5029200"/>
            <a:ext cx="60984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79840" y="502920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94240" y="502920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02920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408640" y="502920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13760" y="502920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0D2-81E1-4EC4-BF23-14F671167DE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hrea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B72-EC12-4ABC-8E76-17C2BE897D2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tra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computer executes a sequential process, it goes through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each step, the state of the process i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process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proces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001-D8B0-43DC-9DA1-DB87A62B88E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istinguish two aspects in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includes a virtual address space, a process image (code + dat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llocated a set of resources, like file descriptors, I/O channel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ing/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ecution of a process follows an ececution path, and generates a trace (sequence of internal stat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s a state (ready, Running, etc.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cheduling parameters (priority, time left in the round, etc.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384-2020-46D6-B9D8-F27B1D17386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threa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OS separate these aspects, by providing the concept of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cess is the “resource own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hread is the “scheduling ent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process can consists of one or mo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s are sometime called (improperly) lightweigh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on process can have many different (and concurrent) traces of execu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30C-4406-468A-A9BD-85D56E66FA2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ingle threaded Process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5240" y="1363320"/>
            <a:ext cx="495288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single-threaded process model one process has only one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PCB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551640" y="2209680"/>
            <a:ext cx="201780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5E9-099E-42D3-9525-7C6055258B3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threaded process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5240" y="12189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multi-threaded process model each process can have many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TCB (Thread Control block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reads are scheduled directly by the global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335400" cy="314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6BB-A952-42FE-8455-F42154D08F8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ly, processes do not shar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ommunicate between process, it is necessary to user OS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switch is more complex because we have to change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threads in the same process share the same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an access the same variables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 between threads is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 switch has less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BDD-1D12-471E-89A7-5D7B7EAD357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es vs. Threa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re mainly used to compete for som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wo different users run two separate applications that need to print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inter is a shared resource, the two processes compete for the 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ads are mainly used to collaborate to som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one complex calculation can be split in two parallel phases, each thread does on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multi-processor machine the two threads go in parallel and the calculation becomes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13B-8ECF-4CF8-9D1D-6CA4C095A17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23880" y="5173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109" y="23614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1. 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a Word Processo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 for input from the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syntax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other events (i.e. temporary sav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single process would be a waste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6087960"/>
            <a:ext cx="6705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76520" y="5859360"/>
            <a:ext cx="1600200" cy="228600"/>
          </a:xfrm>
          <a:prstGeom prst="rect">
            <a:avLst/>
          </a:prstGeom>
          <a:solidFill>
            <a:srgbClr val="8f6d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5859360"/>
            <a:ext cx="2286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5859360"/>
            <a:ext cx="1295280" cy="22860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00600" y="5859360"/>
            <a:ext cx="11430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943600" y="5859360"/>
            <a:ext cx="304920" cy="228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246720" y="5859360"/>
            <a:ext cx="1600200" cy="228600"/>
          </a:xfrm>
          <a:prstGeom prst="rect">
            <a:avLst/>
          </a:prstGeom>
          <a:solidFill>
            <a:srgbClr val="8f6d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60400" y="5173560"/>
            <a:ext cx="1067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22" y="23614"/>
                </a:moveTo>
                <a:lnTo>
                  <a:pt x="23143" y="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2.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809800" y="5173560"/>
            <a:ext cx="1067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22" y="23614"/>
                </a:moveTo>
                <a:lnTo>
                  <a:pt x="23143" y="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3.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49840" y="5173560"/>
            <a:ext cx="10666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22" y="23614"/>
                </a:moveTo>
                <a:lnTo>
                  <a:pt x="23143" y="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4.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63960" y="5173560"/>
            <a:ext cx="1067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331" y="24902"/>
                </a:moveTo>
                <a:lnTo>
                  <a:pt x="23143" y="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5.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440" y="5173560"/>
            <a:ext cx="10666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11" y="23614"/>
                </a:moveTo>
                <a:lnTo>
                  <a:pt x="23143" y="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1. 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2C9-D53E-435D-973A-BECC3170992C}" type="slidenum">
              <a:t>36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 time, the program waits for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, while waiting we could perform some othe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ities 3 and 4 (formatting and syntax checking) are very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: let’s do them while waiting fo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 with multipl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rocess waits for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process periodically formats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hird process periodically performs a syntax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urth process visualize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905120" y="5181480"/>
            <a:ext cx="5789520" cy="990720"/>
            <a:chOff x="1905120" y="5181480"/>
            <a:chExt cx="5789520" cy="990720"/>
          </a:xfrm>
        </p:grpSpPr>
        <p:sp>
          <p:nvSpPr>
            <p:cNvPr id="543" name=""/>
            <p:cNvSpPr/>
            <p:nvPr/>
          </p:nvSpPr>
          <p:spPr>
            <a:xfrm>
              <a:off x="1905120" y="5181480"/>
              <a:ext cx="1066680" cy="9907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29000" y="5181480"/>
              <a:ext cx="1066680" cy="9907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orm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29200" y="5181480"/>
              <a:ext cx="1066680" cy="9907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yn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27960" y="5181480"/>
              <a:ext cx="1066680" cy="9907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ABA-BE2B-4B34-9D3B-B9F3362DD526}" type="slidenum">
              <a:t>37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I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with multipl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processes needs to access the same data structure,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process holds the data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 1: message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dicated process holds the data, all the others communicate with it to read/update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ineffici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905120" y="4419720"/>
            <a:ext cx="5789520" cy="2133360"/>
            <a:chOff x="1905120" y="4419720"/>
            <a:chExt cx="5789520" cy="2133360"/>
          </a:xfrm>
        </p:grpSpPr>
        <p:sp>
          <p:nvSpPr>
            <p:cNvPr id="550" name=""/>
            <p:cNvSpPr/>
            <p:nvPr/>
          </p:nvSpPr>
          <p:spPr>
            <a:xfrm>
              <a:off x="1905120" y="4419720"/>
              <a:ext cx="1066680" cy="9903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29000" y="4419720"/>
              <a:ext cx="1066680" cy="9903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orm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29200" y="4419720"/>
              <a:ext cx="1066680" cy="9903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yn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27960" y="4419720"/>
              <a:ext cx="1066680" cy="9903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65640" y="5562720"/>
              <a:ext cx="1066680" cy="9903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36840" y="5410080"/>
              <a:ext cx="1828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91120" y="53341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102280" y="5410080"/>
              <a:ext cx="23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330880" y="5334120"/>
              <a:ext cx="1527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D4F-A6BF-46C1-AA0F-DD74E94FB4A0}" type="slidenum">
              <a:t>38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V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soluti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 2: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rocess holds the data and makes that part of its memory shareable with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 not very effici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a lot of proces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handling becomes very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3FD-8ABA-4DC1-A6FC-009FA61955D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Hist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gram for computing G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049480"/>
            <a:ext cx="3589920" cy="20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int gcd(int a, int 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while (a!=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if (a &lt; b) b = b-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else a = a –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876920" y="1905120"/>
            <a:ext cx="2133360" cy="2439720"/>
            <a:chOff x="4876920" y="1905120"/>
            <a:chExt cx="2133360" cy="2439720"/>
          </a:xfrm>
        </p:grpSpPr>
        <p:sp>
          <p:nvSpPr>
            <p:cNvPr id="106" name=""/>
            <p:cNvSpPr/>
            <p:nvPr/>
          </p:nvSpPr>
          <p:spPr>
            <a:xfrm>
              <a:off x="6400800" y="3936960"/>
              <a:ext cx="6094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89520" y="3936960"/>
              <a:ext cx="609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393696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00800" y="3530520"/>
              <a:ext cx="6094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89520" y="3530520"/>
              <a:ext cx="609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5305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3124080"/>
              <a:ext cx="6094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89520" y="3124080"/>
              <a:ext cx="609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312408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2717640"/>
              <a:ext cx="6094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89520" y="2717640"/>
              <a:ext cx="609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271764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2311560"/>
              <a:ext cx="6094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89520" y="2311560"/>
              <a:ext cx="6098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2311560"/>
              <a:ext cx="914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1905120"/>
              <a:ext cx="6094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89520" y="1905120"/>
              <a:ext cx="609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6920" y="19051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1905120"/>
              <a:ext cx="2133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2311560"/>
              <a:ext cx="213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76920" y="2717640"/>
              <a:ext cx="2133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3124080"/>
              <a:ext cx="2133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76920" y="4343400"/>
              <a:ext cx="2133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1905120"/>
              <a:ext cx="144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89520" y="1905120"/>
              <a:ext cx="180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1905120"/>
              <a:ext cx="144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08840" y="1905120"/>
              <a:ext cx="144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3530520"/>
              <a:ext cx="2133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76920" y="3936960"/>
              <a:ext cx="2133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668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ery time the program is launched, a new process is generated and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14D-EFC9-40F6-AEFA-83A1D3BC8CF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y using threa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4880" y="1110960"/>
            <a:ext cx="762012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of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a thread takes far less time than creating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of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 switch is faster than process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 of the same process run in the same memory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 naturally access the same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343160" y="4564080"/>
            <a:ext cx="6629400" cy="2057400"/>
            <a:chOff x="1343160" y="4564080"/>
            <a:chExt cx="6629400" cy="2057400"/>
          </a:xfrm>
        </p:grpSpPr>
        <p:sp>
          <p:nvSpPr>
            <p:cNvPr id="564" name=""/>
            <p:cNvSpPr/>
            <p:nvPr/>
          </p:nvSpPr>
          <p:spPr>
            <a:xfrm>
              <a:off x="1343160" y="4564080"/>
              <a:ext cx="6629400" cy="205740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1724040" y="4716360"/>
              <a:ext cx="5791320" cy="990720"/>
              <a:chOff x="1724040" y="4716360"/>
              <a:chExt cx="5791320" cy="990720"/>
            </a:xfrm>
          </p:grpSpPr>
          <p:sp>
            <p:nvSpPr>
              <p:cNvPr id="566" name=""/>
              <p:cNvSpPr/>
              <p:nvPr/>
            </p:nvSpPr>
            <p:spPr>
              <a:xfrm>
                <a:off x="1724040" y="4716360"/>
                <a:ext cx="1066680" cy="990720"/>
              </a:xfrm>
              <a:prstGeom prst="ellipse">
                <a:avLst/>
              </a:prstGeom>
              <a:solidFill>
                <a:srgbClr val="e3db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Inp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247920" y="4716360"/>
                <a:ext cx="1067040" cy="990720"/>
              </a:xfrm>
              <a:prstGeom prst="ellipse">
                <a:avLst/>
              </a:prstGeom>
              <a:solidFill>
                <a:srgbClr val="e3db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Form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48120" y="4716360"/>
                <a:ext cx="1067040" cy="990720"/>
              </a:xfrm>
              <a:prstGeom prst="ellipse">
                <a:avLst/>
              </a:prstGeom>
              <a:solidFill>
                <a:srgbClr val="e3db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Synta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48320" y="4716360"/>
                <a:ext cx="1067040" cy="990720"/>
              </a:xfrm>
              <a:prstGeom prst="ellipse">
                <a:avLst/>
              </a:prstGeom>
              <a:solidFill>
                <a:srgbClr val="e3db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Graphi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3552840" y="6012000"/>
              <a:ext cx="2133720" cy="4572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03000" y="6087960"/>
              <a:ext cx="114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5C7-F869-45CD-9195-9182A4A4E652}" type="slidenum">
              <a:t>40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reads support in O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4880" y="1231560"/>
            <a:ext cx="762012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OS implement threads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S supports directly onl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 are implemented as “special process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S supports only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es are threads’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S natively supports both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 Windows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come back to this part later, after we have studied the problem of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now we need to abstract away the different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543-8F8B-4AB1-A2D7-2A1C7527A7D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: provides the abstraction of memory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: provide the abstraction of execution t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heduler manages threa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do not normally shar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threads of the same process shar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explore all the different ways in which two threads can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next section we will only refer to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639-8C11-4232-A5F7-77577394F77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71400" y="142560"/>
            <a:ext cx="78105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sercizi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440" y="1234800"/>
            <a:ext cx="414828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ate il seguent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55720" y="4994280"/>
            <a:ext cx="308448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potesi di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cessore a 32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 = 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uble = 8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ar = 1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739800" y="1708200"/>
            <a:ext cx="3924360" cy="3141720"/>
            <a:chOff x="739800" y="1708200"/>
            <a:chExt cx="3924360" cy="3141720"/>
          </a:xfrm>
        </p:grpSpPr>
        <p:sp>
          <p:nvSpPr>
            <p:cNvPr id="580" name=""/>
            <p:cNvSpPr/>
            <p:nvPr/>
          </p:nvSpPr>
          <p:spPr>
            <a:xfrm>
              <a:off x="739800" y="1708200"/>
              <a:ext cx="3924360" cy="3141720"/>
            </a:xfrm>
            <a:prstGeom prst="roundRect">
              <a:avLst>
                <a:gd name="adj" fmla="val 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39800" y="1708200"/>
              <a:ext cx="3924360" cy="3141720"/>
            </a:xfrm>
            <a:prstGeom prst="roundRect">
              <a:avLst>
                <a:gd name="adj" fmla="val 5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void *threadA(void *arg)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t i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s = *((double *) arg)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vect[3]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or (i=0; i&lt;3; i++) vect[i] = 0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hile (1) 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ultiply(vect)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f (length(vect) &gt;s)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rmalize(vect)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ask_endcycle();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892760" y="974880"/>
            <a:ext cx="4024080" cy="5392440"/>
            <a:chOff x="4892760" y="974880"/>
            <a:chExt cx="4024080" cy="5392440"/>
          </a:xfrm>
        </p:grpSpPr>
        <p:sp>
          <p:nvSpPr>
            <p:cNvPr id="583" name=""/>
            <p:cNvSpPr/>
            <p:nvPr/>
          </p:nvSpPr>
          <p:spPr>
            <a:xfrm>
              <a:off x="4892760" y="974880"/>
              <a:ext cx="4024080" cy="5392440"/>
            </a:xfrm>
            <a:custGeom>
              <a:avLst/>
              <a:gdLst>
                <a:gd name="textAreaLeft" fmla="*/ 360 w 4024080"/>
                <a:gd name="textAreaRight" fmla="*/ 4023720 w 4024080"/>
                <a:gd name="textAreaTop" fmla="*/ 360 h 5392440"/>
                <a:gd name="textAreaBottom" fmla="*/ 5392080 h 5392440"/>
              </a:gdLst>
              <a:ahLst/>
              <a:rect l="textAreaLeft" t="textAreaTop" r="textAreaRight" b="textAreaBottom"/>
              <a:pathLst>
                <a:path w="21600" h="28944">
                  <a:moveTo>
                    <a:pt x="7" y="0"/>
                  </a:moveTo>
                  <a:arcTo wR="7" hR="7" stAng="16200000" swAng="-5400000"/>
                  <a:lnTo>
                    <a:pt x="0" y="28937"/>
                  </a:lnTo>
                  <a:arcTo wR="7" hR="7" stAng="10800000" swAng="-5400000"/>
                  <a:lnTo>
                    <a:pt x="21593" y="28944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92760" y="974880"/>
              <a:ext cx="4024080" cy="5392440"/>
            </a:xfrm>
            <a:custGeom>
              <a:avLst/>
              <a:gdLst>
                <a:gd name="textAreaLeft" fmla="*/ 360 w 4024080"/>
                <a:gd name="textAreaRight" fmla="*/ 4023720 w 4024080"/>
                <a:gd name="textAreaTop" fmla="*/ 360 h 5392440"/>
                <a:gd name="textAreaBottom" fmla="*/ 5392080 h 5392440"/>
              </a:gdLst>
              <a:ahLst/>
              <a:rect l="textAreaLeft" t="textAreaTop" r="textAreaRight" b="textAreaBottom"/>
              <a:pathLst>
                <a:path w="21600" h="28944">
                  <a:moveTo>
                    <a:pt x="7" y="0"/>
                  </a:moveTo>
                  <a:arcTo wR="7" hR="7" stAng="16200000" swAng="-5400000"/>
                  <a:lnTo>
                    <a:pt x="0" y="28937"/>
                  </a:lnTo>
                  <a:arcTo wR="7" hR="7" stAng="10800000" swAng="-5400000"/>
                  <a:lnTo>
                    <a:pt x="21593" y="28944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mat[3][3]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void multiply(double v[])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t i,j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ris[3]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or(i=0; i&lt;3; i++) 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is[i] = 0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or (j=0; j&lt;3; j++) ris[i] += mat[i][j] * v[i];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or (i=0; i&lt;3; i++) v[i] = ris[i]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eturn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length(double v[])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eturn sqrt(v[0]*v[0] + v[1]*v[1] + v[2]*v[2])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void normalize(double v[])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t i;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l = length(v)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or (i=0; i&lt;3; i++) v[i] /= l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eturn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A2D-6E63-4845-8522-248BCC021A5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2406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sercizi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440" y="1555560"/>
            <a:ext cx="815508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man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egnare la struttura dello stack e calcolare la sua dimensione in 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vere cosa succede quando arriva una interr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un sistema time sharing, descrivere cosa succede quando il quanto di esecuzione del thread è termi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64D-FEA5-4974-8506-1689835D4800}" type="slidenum">
              <a:t>4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sta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4880" y="1290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S can execute many processes “at the same 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one process can execute at some instant of time, however, by us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ime sha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 OS can switch between all the processes that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OS point of view, it is important to understand which process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rocess, during its lifetime can be in one of the following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Star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process is being create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Read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process is ready to be execut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Executing 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process is executing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Block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process is waiting on a conditio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Termina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process is about to termin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681-3A3F-435D-A1E8-883A61A4C2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sta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pat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is selected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emp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leaves the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 on condi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is blocked on a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 tr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is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terminat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733920"/>
            <a:ext cx="1219320" cy="761760"/>
          </a:xfrm>
          <a:prstGeom prst="ellipse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1218960" cy="761760"/>
          </a:xfrm>
          <a:prstGeom prst="ellipse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7240" y="3733920"/>
            <a:ext cx="1219320" cy="761760"/>
          </a:xfrm>
          <a:prstGeom prst="ellipse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1120" y="5486400"/>
            <a:ext cx="1219320" cy="762120"/>
          </a:xfrm>
          <a:prstGeom prst="ellipse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5562720"/>
            <a:ext cx="1218960" cy="761760"/>
          </a:xfrm>
          <a:prstGeom prst="ellipse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1148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43434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128" y="7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4646160" y="365868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128" y="7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4197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570560" y="4419720"/>
            <a:ext cx="1374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114800" y="4494240"/>
            <a:ext cx="1440" cy="10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48040" y="3733920"/>
            <a:ext cx="336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90400" y="3276720"/>
            <a:ext cx="336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4440" y="4191120"/>
            <a:ext cx="3207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66720" y="4952880"/>
            <a:ext cx="336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68840" y="4800600"/>
            <a:ext cx="336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3240" y="4648320"/>
            <a:ext cx="2584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19E-9442-4403-96F1-502103A3049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que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gl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76720" y="2666880"/>
            <a:ext cx="1600200" cy="533520"/>
            <a:chOff x="3276720" y="2666880"/>
            <a:chExt cx="1600200" cy="533520"/>
          </a:xfrm>
        </p:grpSpPr>
        <p:sp>
          <p:nvSpPr>
            <p:cNvPr id="160" name=""/>
            <p:cNvSpPr/>
            <p:nvPr/>
          </p:nvSpPr>
          <p:spPr>
            <a:xfrm>
              <a:off x="3276720" y="266688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65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79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893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07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21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035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551640" y="2438280"/>
            <a:ext cx="9144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13800" y="22096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8954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8954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36920" y="2494080"/>
            <a:ext cx="749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Ad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037040" y="4343400"/>
            <a:ext cx="1600200" cy="533520"/>
            <a:chOff x="4037040" y="4343400"/>
            <a:chExt cx="1600200" cy="533520"/>
          </a:xfrm>
        </p:grpSpPr>
        <p:sp>
          <p:nvSpPr>
            <p:cNvPr id="173" name=""/>
            <p:cNvSpPr/>
            <p:nvPr/>
          </p:nvSpPr>
          <p:spPr>
            <a:xfrm>
              <a:off x="4037040" y="434340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86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800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14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28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42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656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2438280" y="2893680"/>
            <a:ext cx="1800" cy="76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365760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08840" y="33526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00080" y="3352680"/>
            <a:ext cx="130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Pre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37200" y="2514600"/>
            <a:ext cx="101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08840" y="36576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35800" y="4572000"/>
            <a:ext cx="1374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80520" y="3962520"/>
            <a:ext cx="177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ed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45600" y="4648320"/>
            <a:ext cx="1555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Wait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435040" y="4572000"/>
            <a:ext cx="160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438280" y="3656160"/>
            <a:ext cx="18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08760" y="4648320"/>
            <a:ext cx="1386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Even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B50-947C-4825-AA6A-ECD4CF7AC8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que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processor with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200400" y="2666880"/>
            <a:ext cx="1600200" cy="533520"/>
            <a:chOff x="3200400" y="2666880"/>
            <a:chExt cx="1600200" cy="533520"/>
          </a:xfrm>
        </p:grpSpPr>
        <p:sp>
          <p:nvSpPr>
            <p:cNvPr id="195" name=""/>
            <p:cNvSpPr/>
            <p:nvPr/>
          </p:nvSpPr>
          <p:spPr>
            <a:xfrm>
              <a:off x="3200400" y="266688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4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148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2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576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290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086600" y="1371600"/>
            <a:ext cx="9144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37840" y="22096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8954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28954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62400" y="2494080"/>
            <a:ext cx="749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Ad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962520" y="5562720"/>
            <a:ext cx="1600200" cy="533160"/>
            <a:chOff x="3962520" y="5562720"/>
            <a:chExt cx="1600200" cy="533160"/>
          </a:xfrm>
        </p:grpSpPr>
        <p:sp>
          <p:nvSpPr>
            <p:cNvPr id="208" name=""/>
            <p:cNvSpPr/>
            <p:nvPr/>
          </p:nvSpPr>
          <p:spPr>
            <a:xfrm>
              <a:off x="3962520" y="5562720"/>
              <a:ext cx="1600200" cy="5331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23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037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51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65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179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893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2362320" y="2894040"/>
            <a:ext cx="1440" cy="19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876920"/>
            <a:ext cx="58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22320" y="4572000"/>
            <a:ext cx="130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Pre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46960" y="2514600"/>
            <a:ext cx="101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559120" y="5791320"/>
            <a:ext cx="2670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04200" y="5181480"/>
            <a:ext cx="177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ed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69280" y="5867280"/>
            <a:ext cx="1555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Wait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360520" y="5791320"/>
            <a:ext cx="160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362320" y="4874760"/>
            <a:ext cx="144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32800" y="5911920"/>
            <a:ext cx="1386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Even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85160" y="2438280"/>
            <a:ext cx="9144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85160" y="3505320"/>
            <a:ext cx="9144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800600" y="1827360"/>
            <a:ext cx="2286000" cy="10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2895480"/>
            <a:ext cx="2286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99560" y="1828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99560" y="28954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28160" y="1828800"/>
            <a:ext cx="144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99560" y="39625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4F2-7C66-43A8-A1F9-D47D9EB92E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ple blocking que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76720" y="1752480"/>
            <a:ext cx="1600200" cy="533520"/>
            <a:chOff x="3276720" y="1752480"/>
            <a:chExt cx="1600200" cy="533520"/>
          </a:xfrm>
        </p:grpSpPr>
        <p:sp>
          <p:nvSpPr>
            <p:cNvPr id="235" name=""/>
            <p:cNvSpPr/>
            <p:nvPr/>
          </p:nvSpPr>
          <p:spPr>
            <a:xfrm>
              <a:off x="3276720" y="175248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65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179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893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07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21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035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551640" y="1523880"/>
            <a:ext cx="9144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13800" y="12952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810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19810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36920" y="1579680"/>
            <a:ext cx="749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Ad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037040" y="3429000"/>
            <a:ext cx="1600200" cy="533520"/>
            <a:chOff x="4037040" y="3429000"/>
            <a:chExt cx="1600200" cy="533520"/>
          </a:xfrm>
        </p:grpSpPr>
        <p:sp>
          <p:nvSpPr>
            <p:cNvPr id="248" name=""/>
            <p:cNvSpPr/>
            <p:nvPr/>
          </p:nvSpPr>
          <p:spPr>
            <a:xfrm>
              <a:off x="4037040" y="342900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086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00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514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228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42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656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2438280" y="1979280"/>
            <a:ext cx="1800" cy="76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74320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2438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00080" y="2438280"/>
            <a:ext cx="130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Pre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37200" y="1600200"/>
            <a:ext cx="101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08840" y="2743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635800" y="3657600"/>
            <a:ext cx="1374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49200" y="3733920"/>
            <a:ext cx="1724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Wait condi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435040" y="3657600"/>
            <a:ext cx="160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438280" y="2741760"/>
            <a:ext cx="18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08760" y="3733920"/>
            <a:ext cx="1386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Even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37040" y="4343400"/>
            <a:ext cx="1600200" cy="533520"/>
            <a:chOff x="4037040" y="4343400"/>
            <a:chExt cx="1600200" cy="533520"/>
          </a:xfrm>
        </p:grpSpPr>
        <p:sp>
          <p:nvSpPr>
            <p:cNvPr id="267" name=""/>
            <p:cNvSpPr/>
            <p:nvPr/>
          </p:nvSpPr>
          <p:spPr>
            <a:xfrm>
              <a:off x="4037040" y="434340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086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800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14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28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42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656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008840" y="36576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635800" y="4572000"/>
            <a:ext cx="1374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49200" y="4648320"/>
            <a:ext cx="1724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Wait condi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435040" y="4572000"/>
            <a:ext cx="160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438280" y="3656160"/>
            <a:ext cx="18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08760" y="4648320"/>
            <a:ext cx="1386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Even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037040" y="5257800"/>
            <a:ext cx="1600200" cy="533520"/>
            <a:chOff x="4037040" y="5257800"/>
            <a:chExt cx="1600200" cy="533520"/>
          </a:xfrm>
        </p:grpSpPr>
        <p:sp>
          <p:nvSpPr>
            <p:cNvPr id="281" name=""/>
            <p:cNvSpPr/>
            <p:nvPr/>
          </p:nvSpPr>
          <p:spPr>
            <a:xfrm>
              <a:off x="4037040" y="525780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086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800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14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28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42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656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008840" y="4572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635800" y="5486400"/>
            <a:ext cx="1374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49200" y="5562720"/>
            <a:ext cx="1724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Wait condi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435040" y="5486400"/>
            <a:ext cx="160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438280" y="4570560"/>
            <a:ext cx="18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08760" y="5562720"/>
            <a:ext cx="1386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Even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C77-0220-42F8-A000-8115C3F809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