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notesSlide9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72D48-A208-483F-8D77-5E20369C970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3B2-F70D-46D7-B67A-F23C5FCE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E64-7BC2-41EA-80EE-3694AA1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8DC-CE19-4617-923D-44F89326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107-5E0D-4875-8FCD-988BFCB8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B38C-7CEE-44C8-A9DE-CB7055B8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A5C7-80C3-4C5C-B48C-1F42EA81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BE9A-E16D-46BA-95E2-25EED08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AF8C-9FC9-43B9-9287-38339218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66F-A2A4-4B0D-AAEA-76B226A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A052-F22E-4B82-BB76-3331A97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069B-0163-4CA1-B445-FDD577B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79B-2C5F-40A2-B5E0-B8CF5DD7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309B-2451-44FA-83D4-A74244A0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6775-1EFD-40A8-A4C6-6C91997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E57F-D344-4C62-B249-F297D21E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238C-0745-4BB2-8F0E-A09AACC3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3F08-65AE-4AA9-BA20-E808F4C2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864-AD50-480D-B88E-DA3A8496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C78-9D1D-49F1-A6F4-6D2342CA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C3B-296F-4A5F-90B1-6EE0861B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E06-AA3A-4D36-8F63-C7FE97C7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724-AECF-4B51-BEA0-DFF65DE2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911-4713-439C-B83E-DE7D9581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4CF-BD5A-4780-A1B6-2C340D7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C8D8D-F499-44B8-850B-AD19A24A4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3AF87-3355-4BED-8F37-B9C187997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urrency: mutual exclusion and synchronis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4952880"/>
            <a:ext cx="2133720" cy="106704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ssage pa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client/serv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rver manages the resource exclus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the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rocess needs to access the resource, it sends a request to th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printing a file, or asking for the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rver can send back the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rver can also be on a remot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basic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and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89520" y="41911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89520" y="5410080"/>
            <a:ext cx="11430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76720" y="5334120"/>
            <a:ext cx="761760" cy="228600"/>
            <a:chOff x="3276720" y="5334120"/>
            <a:chExt cx="761760" cy="228600"/>
          </a:xfrm>
        </p:grpSpPr>
        <p:sp>
          <p:nvSpPr>
            <p:cNvPr id="133" name=""/>
            <p:cNvSpPr/>
            <p:nvPr/>
          </p:nvSpPr>
          <p:spPr>
            <a:xfrm>
              <a:off x="3276720" y="5334120"/>
              <a:ext cx="761760" cy="2286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7984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620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4111560" y="4724280"/>
            <a:ext cx="168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111560" y="5559480"/>
            <a:ext cx="1682640" cy="38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17240" y="5257800"/>
            <a:ext cx="91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467-79F7-491C-A7CC-C9667AFB8AC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 with MP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2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ducer executes send(consumer, dat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nsumer executes receive(producer, da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for a special communication structure (already contained in the send/receive semanti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4610160"/>
            <a:ext cx="20574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32320" y="4610160"/>
            <a:ext cx="20574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51436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D90-8B33-4CA0-B17D-E7C0F91F9C7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ous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4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2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chronous send/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_send(consumer, 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_receive(producer, &amp;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85080" y="175248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89400" y="175248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32640" y="22096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89720" y="2133720"/>
            <a:ext cx="18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31720" y="251460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32640" y="274320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59640" y="359568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313760" y="38098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656320" y="274320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656320" y="38098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785920" y="388620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32640" y="39625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89720" y="3962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11120" y="3138480"/>
            <a:ext cx="10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808600" y="28195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71960" y="373392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76280" y="373392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9424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41148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65960" y="565308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94240" y="472428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87840" y="458640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57913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57913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890440" y="480060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94240" y="5943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594360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22160" y="5119560"/>
            <a:ext cx="10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71800" y="58672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FAC-CAA1-4DF1-BCA4-7536EC3198E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sync send/ Syn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ynchronous send / synchronous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_send(consumer, 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_receive(producer, &amp;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61400" y="198108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065720" y="198108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59640" y="2362320"/>
            <a:ext cx="18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42680" y="274320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731360" y="382428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483320" y="4038480"/>
            <a:ext cx="15264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5840" y="297180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18120" y="30481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43600" y="312408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59640" y="41911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48280" y="373392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52600" y="373392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71800" y="411480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42280" y="565308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472428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65600" y="458640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4240" y="57913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4240" y="47242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966760" y="480060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5943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71800" y="5943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96680" y="5119560"/>
            <a:ext cx="10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58672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4D2-F4AD-4A84-95F9-41A05DD124D8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symmetri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metric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ive(source, &amp;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ten, we do not know who is the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a web serv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grammer cannot know in advance the address of the browser that will request th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browser can ask for the sam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ymmetric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= receive(&amp;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E00-7551-408A-8F17-07AA1329499D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ssage pass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source needs one thread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ads manager is responsible for giving access to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let’s try to implement mutual exclusion with message passing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read will ensure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hread that wants to access the resourec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a message to the manager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the critical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a message to signal the leaving of the critical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A67-83BB-4EAD-9C5D-A34108313DD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 send / syn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08800" y="1432080"/>
            <a:ext cx="371484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manag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hread_t sour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ource = s_receive(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source, 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09640" y="1432080"/>
            <a:ext cx="302004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thread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028520" y="4267080"/>
            <a:ext cx="7277400" cy="1905120"/>
            <a:chOff x="1028520" y="4267080"/>
            <a:chExt cx="7277400" cy="1905120"/>
          </a:xfrm>
        </p:grpSpPr>
        <p:sp>
          <p:nvSpPr>
            <p:cNvPr id="596" name=""/>
            <p:cNvSpPr/>
            <p:nvPr/>
          </p:nvSpPr>
          <p:spPr>
            <a:xfrm>
              <a:off x="3124080" y="4800600"/>
              <a:ext cx="15264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57400" y="5486400"/>
              <a:ext cx="6248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57400" y="6095880"/>
              <a:ext cx="1447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28520" y="4572000"/>
              <a:ext cx="1046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68120" y="5149800"/>
              <a:ext cx="423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64160" y="5759280"/>
              <a:ext cx="4244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09680" y="48769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740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76720" y="4876920"/>
              <a:ext cx="20574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24080" y="5410080"/>
              <a:ext cx="15264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200400" y="494964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32320" y="4800600"/>
              <a:ext cx="15264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23600" y="518148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2320" y="5410080"/>
              <a:ext cx="15264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408640" y="494964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0532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579840" y="4873680"/>
              <a:ext cx="144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8496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37240" y="4876920"/>
              <a:ext cx="1600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374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57600" y="609588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8496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7240" y="6095880"/>
              <a:ext cx="160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3744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313760" y="4950000"/>
              <a:ext cx="1440" cy="10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89720" y="609588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56960" y="571500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67120" y="4267080"/>
              <a:ext cx="1066680" cy="304920"/>
            </a:xfrm>
            <a:prstGeom prst="wedgeRectCallout">
              <a:avLst>
                <a:gd name="adj1" fmla="val 90398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65640" y="4267080"/>
              <a:ext cx="533520" cy="304920"/>
            </a:xfrm>
            <a:prstGeom prst="wedgeRectCallout">
              <a:avLst>
                <a:gd name="adj1" fmla="val 22939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4303800"/>
              <a:ext cx="1066680" cy="304560"/>
            </a:xfrm>
            <a:prstGeom prst="wedgeRectCallout">
              <a:avLst>
                <a:gd name="adj1" fmla="val 60152"/>
                <a:gd name="adj2" fmla="val 108842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89720" y="48769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60640" y="4267080"/>
              <a:ext cx="533160" cy="304920"/>
            </a:xfrm>
            <a:prstGeom prst="wedgeRectCallout">
              <a:avLst>
                <a:gd name="adj1" fmla="val -30703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89000" y="5029200"/>
              <a:ext cx="685800" cy="304920"/>
            </a:xfrm>
            <a:prstGeom prst="wedgeRectCallout">
              <a:avLst>
                <a:gd name="adj1" fmla="val 122175"/>
                <a:gd name="adj2" fmla="val 7593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70640" y="5029200"/>
              <a:ext cx="685800" cy="304920"/>
            </a:xfrm>
            <a:prstGeom prst="wedgeRectCallout">
              <a:avLst>
                <a:gd name="adj1" fmla="val -64004"/>
                <a:gd name="adj2" fmla="val 8631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33520" y="5638680"/>
              <a:ext cx="685800" cy="304920"/>
            </a:xfrm>
            <a:prstGeom prst="wedgeRectCallout">
              <a:avLst>
                <a:gd name="adj1" fmla="val 126962"/>
                <a:gd name="adj2" fmla="val 7593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18320" y="5638680"/>
              <a:ext cx="685800" cy="304920"/>
            </a:xfrm>
            <a:prstGeom prst="wedgeRectCallout">
              <a:avLst>
                <a:gd name="adj1" fmla="val -80916"/>
                <a:gd name="adj2" fmla="val 8690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B42-5B92-4C9F-9DFA-5EF5EE342362}" type="slidenum">
              <a:t>105</a:t>
            </a:fld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ith Async send and syn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7280" y="1295280"/>
            <a:ext cx="366156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manag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hread_t sour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ource = s_receive(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_send(source,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source,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90160" y="1295280"/>
            <a:ext cx="394056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thread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manager, 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028520" y="4267080"/>
            <a:ext cx="7275600" cy="1905120"/>
            <a:chOff x="1028520" y="4267080"/>
            <a:chExt cx="7275600" cy="1905120"/>
          </a:xfrm>
        </p:grpSpPr>
        <p:sp>
          <p:nvSpPr>
            <p:cNvPr id="636" name=""/>
            <p:cNvSpPr/>
            <p:nvPr/>
          </p:nvSpPr>
          <p:spPr>
            <a:xfrm>
              <a:off x="281952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54864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57400" y="609588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28520" y="4572000"/>
              <a:ext cx="1046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8120" y="5149800"/>
              <a:ext cx="423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4160" y="5759280"/>
              <a:ext cx="4244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09680" y="4876920"/>
              <a:ext cx="6098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5740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05320" y="487692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19520" y="5410080"/>
              <a:ext cx="15228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895480" y="494964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2320" y="4800600"/>
              <a:ext cx="15264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52200" y="518148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32320" y="5410080"/>
              <a:ext cx="15264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408640" y="494964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8620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962520" y="4873680"/>
              <a:ext cx="144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496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89520" y="4876920"/>
              <a:ext cx="14479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374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1960" y="6095880"/>
              <a:ext cx="144756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9112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89520" y="6095880"/>
              <a:ext cx="1447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744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313760" y="4950000"/>
              <a:ext cx="1440" cy="10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89720" y="609588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89720" y="48769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01680" y="571500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512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71800" y="4876920"/>
              <a:ext cx="380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24080" y="548640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71800" y="5410080"/>
              <a:ext cx="15228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51240" y="5410080"/>
              <a:ext cx="15228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29000" y="495288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05320" y="54864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84960" y="5486400"/>
              <a:ext cx="2819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37040" y="6095880"/>
              <a:ext cx="15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372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13560" y="4952880"/>
              <a:ext cx="1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724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67120" y="4267080"/>
              <a:ext cx="914400" cy="304920"/>
            </a:xfrm>
            <a:prstGeom prst="wedgeRectCallout">
              <a:avLst>
                <a:gd name="adj1" fmla="val 113777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61080" y="4267080"/>
              <a:ext cx="533160" cy="304920"/>
            </a:xfrm>
            <a:prstGeom prst="wedgeRectCallout">
              <a:avLst>
                <a:gd name="adj1" fmla="val 81893"/>
                <a:gd name="adj2" fmla="val 11815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8920" y="4267080"/>
              <a:ext cx="1067040" cy="304920"/>
            </a:xfrm>
            <a:prstGeom prst="wedgeRectCallout">
              <a:avLst>
                <a:gd name="adj1" fmla="val 17912"/>
                <a:gd name="adj2" fmla="val 11709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25720" y="4267080"/>
              <a:ext cx="533160" cy="304920"/>
            </a:xfrm>
            <a:prstGeom prst="wedgeRectCallout">
              <a:avLst>
                <a:gd name="adj1" fmla="val -30703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32120" y="4267080"/>
              <a:ext cx="685800" cy="304920"/>
            </a:xfrm>
            <a:prstGeom prst="wedgeRectCallout">
              <a:avLst>
                <a:gd name="adj1" fmla="val 34833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14920" y="4267080"/>
              <a:ext cx="685800" cy="304920"/>
            </a:xfrm>
            <a:prstGeom prst="wedgeRectCallout">
              <a:avLst>
                <a:gd name="adj1" fmla="val -31208"/>
                <a:gd name="adj2" fmla="val 126412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27B-6EFD-4A12-9F5F-9081395BD735}" type="slidenum">
              <a:t>106</a:t>
            </a:fld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SIGN METHODOLOGY WITH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DAA-B3CF-4A03-A49B-775BD4C21945}" type="slidenum">
              <a:t>107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different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33080" y="1371600"/>
            <a:ext cx="3909960" cy="463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resource is a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ask for services through functions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ynchronize through mutexes and condit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371600"/>
            <a:ext cx="4114800" cy="463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ach resource has a manager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hreads ask for services through messages and receive response through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hey synchronize through blocking rece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8E2-0140-4171-9457-9020BD39E68F}" type="slidenum">
              <a:t>108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ources and Mana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ach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“manager” thread takes care of executing the services on behalf of the clients/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tructure of a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for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ode the message, execute th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send back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nager sequentializes al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6A7-3754-4417-B666-867DB427FE9A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operative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251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Coopera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 know abou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do not nee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using protection, we have less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need to access the same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ion of the resource is de-centr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Shared memo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be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ad model of execution is the be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244-1939-42F7-889D-333BDD78BAD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o program the data structur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again, first, design the interface: that is, which functions (services) the threads need to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utual exclusion is automatically guaranteed by the mana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2AB-9CFD-4F20-8F41-9C838D758299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in the shared memory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e behavior of th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which conditions a calling thread should be bloc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all different 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4C7-2EC4-485A-A63B-D8E1F1D500B5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in the shared memory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un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blocked thread should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the functions that should unblock those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ting all tog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 a state diagram for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S: the various states of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: threads that send the reques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544-F1E8-42E1-9ABD-20BE06417786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: Brid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expla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 data structur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blocking and unblock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w the stat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D2E-E91B-4396-B08D-1AF7A7CFCEB9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ding 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block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queue of message requests (requests that cannot be completed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(or more) integer variable(s) to code the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rite the initialization function, to be called by the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494-5F90-4A0E-8107-98C0FDF104A2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un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092240"/>
            <a:ext cx="815328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code the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for any message, and decod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blocking conditions (if an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hread has to be block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 the message in the corresponding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 the code, change stat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thread has to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the message from the corresponding blocking queue, and send back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 the message, send the message and wait for the response (with a receiv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7EF-4200-42D8-938B-310C96F9E7C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e of co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A6F-B8A5-47C5-8E3B-E04C1E762F49}" type="slidenum">
              <a:t>11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4880" y="380880"/>
            <a:ext cx="76201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operation and Compe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ion is best resolved by using the message pass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it can be implemented using a shared memory paradigm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peration is best implemented by using a shared memory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can be realized by using pure message passing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memory or message pa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past, there were OS that supported only shared memory or only 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F25-9DCB-4EC1-A72F-A9E233B57E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petition and co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eneral purpouse OS needs to support both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t least protection for compet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support client/server models. So we need message passing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support shared memory for reducing th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special OS supports only one of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many RTOS support only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D43-1B58-42AD-8D27-EDAFDDE391C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ual exclusion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97E-A543-488D-852C-824A8071D84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ed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memor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the first one to be supported in old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he simplest one and the closest to th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reads can access the same memory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9625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9625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9625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181480"/>
            <a:ext cx="4953240" cy="990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FC4-16CE-48E9-9880-2C988B3F43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do not know in advance the relative speed of th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nce, we do not know the order of execution of the hardwar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 the example of incrementing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865760"/>
            <a:ext cx="1143000" cy="82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x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54680" y="443376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Tahoma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5480" y="4422600"/>
            <a:ext cx="22014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04960" y="4419720"/>
            <a:ext cx="22032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648-2347-4395-932F-4A89FE1E89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d interle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74800" y="2220840"/>
            <a:ext cx="3735360" cy="175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R0, x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R0, x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R0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ST 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, R0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R0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, R0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583-D5CC-48D6-836E-A674DC74532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5486400"/>
            <a:ext cx="18288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23" y="7995"/>
                </a:moveTo>
                <a:lnTo>
                  <a:pt x="-900" y="2492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n-consis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4240" y="3962520"/>
            <a:ext cx="167652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568" y="-5229"/>
                </a:moveTo>
                <a:lnTo>
                  <a:pt x="-982" y="2025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onsistenc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fte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r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=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5240" y="4038120"/>
            <a:ext cx="3200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 interle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1680" y="1676520"/>
            <a:ext cx="3894840" cy="17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in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in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A() : a(1), b(1) {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inc() { a = a + 1; b = b +1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double() { b = b * 2; a = a * 2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} obj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219320"/>
            <a:ext cx="333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hared object (sw resource)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55160" y="1600200"/>
            <a:ext cx="2255040" cy="13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* threadA(void *)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obj.inc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11600" y="3429000"/>
            <a:ext cx="2288520" cy="13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* threadB(void *)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obj.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5680"/>
            <a:ext cx="3124440" cy="134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a = a + 1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FreeSans"/>
              </a:rPr>
              <a:t>a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b = b * 2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FreeSans"/>
              </a:rPr>
              <a:t>b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b = b + 1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FreeSans"/>
              </a:rPr>
              <a:t>b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a = a * 2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FreeSans"/>
              </a:rPr>
              <a:t>a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986-ACE7-427D-8AAA-82387F23CD4F}" type="slidenum">
              <a:t>1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resource, we can state some consistency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sistency property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boolean expression on the values of the intern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sistency property must hold before and after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not hol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operations are properly sequentialized, the consistency properties must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 a resource, and l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(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 a set of consistency properties on th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 = { C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current program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, for every possible interleaving of the operations on the resource, the consistency properties hold after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578-D648-4DA1-8571-894579C728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need for concurr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many reason for 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users may be connected to the same system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user can have its own processes that execute concurrently with the processes of the oth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 many operations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listen to music, write with a word processor, burn a CD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all different and independ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be done “at the same ti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EDF-4167-4C8A-8966-741750ED3F4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1147680"/>
            <a:ext cx="3940560" cy="53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lass Circular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nt array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nt head, tail, n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ircularArray() : head(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tail(0), num(0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bool insert(int ele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f (num == 10)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array[head] = el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head = (head + 1) %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num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bool extract(int &amp;ele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f (num == 0)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elem = array[tail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tail = (tail + 1) %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num - 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} que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DD5-9A86-413C-A515-257E54EE8A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352680" y="2925720"/>
            <a:ext cx="1067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187" y="-17997"/>
                </a:moveTo>
                <a:lnTo>
                  <a:pt x="-1543" y="540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925720"/>
            <a:ext cx="11430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1" y="-8618"/>
                </a:moveTo>
                <a:lnTo>
                  <a:pt x="-1440" y="2492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nse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2163600"/>
            <a:ext cx="38124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163600"/>
            <a:ext cx="38124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704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36040" y="208764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 tail = 0;  n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5840" y="300204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 (5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16360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6040" y="3459240"/>
            <a:ext cx="278208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1;  tail = 0;  num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54F-049F-42E9-8D41-9B78BA0F1BFD}" type="slidenum">
              <a:t>21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81080" y="29703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940" y="-19394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27417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29" y="-10289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nsert 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89520" y="388944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3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205596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205596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704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05596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2055960"/>
            <a:ext cx="38124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59720" y="197964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 tail = 0;  n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89520" y="297504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 (5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59720" y="3427560"/>
            <a:ext cx="278208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1;  tail = 0;  num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59720" y="4346640"/>
            <a:ext cx="278208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2;  tail = 0;  num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3F1-AC9F-4F93-ADDE-B247A99DA817}" type="slidenum">
              <a:t>22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nserting I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0369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39" y="-15687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0369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255" y="-14501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220032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20032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704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59720" y="212256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9;  tail = 5;  num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440" y="2657520"/>
            <a:ext cx="1371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9520" y="311940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6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89520" y="3571920"/>
            <a:ext cx="289584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tail = 5; num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7227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22" y="-38803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AEA-BA3B-4B33-A1FA-53922B098957}" type="slidenum">
              <a:t>23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Extr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704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704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59720" y="226692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 tail = 5;  n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3181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39" y="-15687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38671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22" y="-38803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89520" y="3262320"/>
            <a:ext cx="289584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extract (int &amp;elem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89520" y="3714840"/>
            <a:ext cx="289584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tail = 6; num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2724120"/>
            <a:ext cx="16002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3181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39" y="-15687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34324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234324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140-38BE-494F-931E-60DF3F8B7AF9}" type="slidenum">
              <a:t>24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sistency proper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233360"/>
            <a:ext cx="8096400" cy="49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Let INS(k) be the data inserted in the queue after the k-th successful call of the inser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Let EXT(k) be the data extracted from the queue after the k-th successful call  of the extrac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C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onsistency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1: for all k,  EXT(k) == INS(k)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2: (num==0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</a:rPr>
              <a:t>OR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num == 10) 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⇔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(head == tail)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C3: (0 &lt; num &lt; 9) ⇒ (num == (head – tail) % 10)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These properties must hold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before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 or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after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 the insert and extract operation, not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d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C48-8A28-4DC4-83AF-36D4E49C4D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666880" y="3352680"/>
            <a:ext cx="3808440" cy="381240"/>
            <a:chOff x="2666880" y="3352680"/>
            <a:chExt cx="3808440" cy="381240"/>
          </a:xfrm>
        </p:grpSpPr>
        <p:sp>
          <p:nvSpPr>
            <p:cNvPr id="264" name=""/>
            <p:cNvSpPr/>
            <p:nvPr/>
          </p:nvSpPr>
          <p:spPr>
            <a:xfrm>
              <a:off x="2666880" y="33526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844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9112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2320" y="33526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1356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9444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056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144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2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insert operation is performed by two processes, some consistency property may be viol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93400" y="4343400"/>
            <a:ext cx="220140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(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14960" y="4343400"/>
            <a:ext cx="220320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(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24040" y="2666880"/>
            <a:ext cx="21438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9112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44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5144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5C9-F4EF-4A8A-A6CC-3A8C7C3DE6C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19320" y="1295280"/>
            <a:ext cx="3809880" cy="381240"/>
            <a:chOff x="1219320" y="1295280"/>
            <a:chExt cx="3809880" cy="381240"/>
          </a:xfrm>
        </p:grpSpPr>
        <p:sp>
          <p:nvSpPr>
            <p:cNvPr id="285" name=""/>
            <p:cNvSpPr/>
            <p:nvPr/>
          </p:nvSpPr>
          <p:spPr>
            <a:xfrm>
              <a:off x="1219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12952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2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4320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8620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6564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48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24080" y="12952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3200" y="1295280"/>
              <a:ext cx="38088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4080" y="1295280"/>
              <a:ext cx="38124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2320" y="1295280"/>
              <a:ext cx="38088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05320" y="1295280"/>
              <a:ext cx="38088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936040" y="198108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7;  tail = 3;  num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8120" y="297648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5) ;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438280"/>
            <a:ext cx="2514600" cy="1295640"/>
          </a:xfrm>
          <a:prstGeom prst="wedgeRectCallout">
            <a:avLst>
              <a:gd name="adj1" fmla="val 58875"/>
              <a:gd name="adj2" fmla="val 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if (num == 10) 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array[head]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num 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8120" y="343368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2) ;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TB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8120" y="4038480"/>
            <a:ext cx="2514600" cy="1295640"/>
          </a:xfrm>
          <a:prstGeom prst="wedgeRectCallout">
            <a:avLst>
              <a:gd name="adj1" fmla="val -32365"/>
              <a:gd name="adj2" fmla="val -65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if (num == 10) 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array[head]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num 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854520"/>
            <a:ext cx="3505320" cy="22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Helvetica-Narrow"/>
              </a:rPr>
              <a:t>i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f (num == 10) return false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array[head] = 5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if (num == 10) return false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array[head] = 2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head = (head + 1) % 10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num ++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return true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num ++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return true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18120" y="5410080"/>
            <a:ext cx="2514600" cy="73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Final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9; tail = 3; num = 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12952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5320" y="1295280"/>
            <a:ext cx="1067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895" y="8310"/>
                </a:moveTo>
                <a:lnTo>
                  <a:pt x="-1543" y="540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(2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1905120"/>
            <a:ext cx="10666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2738" y="-16637"/>
                </a:moveTo>
                <a:lnTo>
                  <a:pt x="23143" y="540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(1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03320" y="2662200"/>
            <a:ext cx="1739880" cy="801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1" lang="en-GB" sz="1800" spc="-1" strike="noStrike" u="sng" baseline="-25000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904-6C91-4418-9410-D2A94DFD93E9}" type="slidenum">
              <a:t>27</a:t>
            </a:fld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rrectn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vious program is not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exists a possible interleaving of two operations that leaves the resource in a inconsist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ng the non-correctness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suffices to find a count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ng the correctness is no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prove the correctness for every possible interleaving of every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E6D-3680-45FA-B963-12E59242990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ssumption: one producer / one consum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one thread calls insert (produc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one thread calls extract (consum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program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! operations num++ and num-- are not atom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previous examples on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8F8-B728-4B56-852E-7F61E0A5064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need for concurr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247760"/>
            <a:ext cx="762012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dvantage of block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some thread waits for a blocking condition, another thread performs another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llelism in multi-process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have a multi-processor machine, independent activities can be carried out on different processors are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058-B568-4FC9-A379-46249AE4787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ritical se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red object where the conflict may happen is a “re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rts of the code where the problem may happen are called “critical se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ritical section is a sequence of operations that cannot be interleaved with other operations on the sam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critical sections on the same resource must be properly sequent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say that two critical sections on the same resource must execute in </a:t>
            </a: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05D-5B46-4063-A424-F3316DD64EF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SW solution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one general mechanism to protect critical sections and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algorithm by D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improved by Pet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by Lam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7F4-C3B9-463B-88AE-C39944D3CB7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kker'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23600" y="2514600"/>
            <a:ext cx="2524680" cy="35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0: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f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turn ≠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urn ≠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:= 1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:= false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43920" y="2514600"/>
            <a:ext cx="2524680" cy="35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1: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f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turn ≠ 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urn ≠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:= 0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:= false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43200" y="139536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0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1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urn = 0;   // 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582-638C-4778-9013-2D259D82252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eterson'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71920" y="2984400"/>
            <a:ext cx="3164760" cy="230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0: flag[0] = 1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= 1;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flag[1] &amp;&amp; turn ==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// end of critical section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lag[0] = 0;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68280" y="2984400"/>
            <a:ext cx="3164760" cy="230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0: flag[1] = 1;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= 0;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 flag[0] &amp;&amp; turn == 0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// end of critical section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lag[1]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1600200"/>
            <a:ext cx="2057400" cy="914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flag[0]  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flag[1]  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turn     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F58-DFE5-436D-9193-60DAF96247B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amport's bakery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07840" y="1143000"/>
            <a:ext cx="6096600" cy="54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Entering[N];   //  init to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   Number[N];   // init to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lock(int 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ntering[i]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umber[i] = 1 + max(Number[1], ..., Number[N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ntering[i]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 = 1; j &lt;= N; j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Entering[j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(Number[j] != 0) &amp;&amp; ((Number[j], j) &lt; (Number[i], i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unlock(integer i) { Number[i] = 0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hread(integer 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ock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// The critical section goes her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unlock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414-B7E2-4105-8DEA-1108B59D5C3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 with the previous solu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these solutions are based 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usy-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gorithms perform one or more loops for checking flags: in single processor systems, this is a waste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algorithms require special variables (flags and numbers) for each thread; cannot be easily generalized to an arbitrary (unknown) number of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a more effici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84D-8F29-4D2B-BAD9-228883555E5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Q&amp;D solutions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ingle processo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able interrupts during a ciritic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critical section is long, no interrupt can arrive during the critic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a timer interrupt thas arrives every 1 m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critical section lasts for more than 1 msec, a timer interrupt could be l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urrency is disabled during the critical s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ust avoid conflicts on the resource, not disabling interrup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3C3-ABF9-4BA0-9C1E-D7A9ACE0DB7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Q&amp;D solutions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gle processo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scheduler, it is possible to disable preemption for a limited interval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high priority critical thread needs to execute, it cannot make preemption and it is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high priority task does not access the resour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50240" y="4749840"/>
            <a:ext cx="2538360" cy="9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disable preemp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enable preemp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29160" y="4597560"/>
            <a:ext cx="241776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510" y="10289"/>
                </a:moveTo>
                <a:lnTo>
                  <a:pt x="-681" y="2025"/>
                </a:lnTo>
              </a:path>
              <a:path w="21600" h="21600">
                <a:moveTo>
                  <a:pt x="-681" y="0"/>
                </a:moveTo>
                <a:lnTo>
                  <a:pt x="-681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tch may 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ring the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423-BB13-4DBE-9ABE-B75EB645A64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Q&amp;D solutions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flag s for each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lock(s)/unlock(s) around the critic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y waiting: if the critical section is long, we waste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not be used in single process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73240" y="4495680"/>
            <a:ext cx="1976040" cy="175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lock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unlock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9C5-27FF-4934-91E0-D75C045A5F4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C31-5B13-4840-8F46-CC5AED94734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oretical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ystem is a set of concurr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n be processes or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teract in two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ccess the hardware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exchan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ctivities compete for the resources and/or cooperate for some comm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68E-A1FF-442B-9A0E-98B633DCCC1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s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tual exclusion is not the onl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 way of synchronise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producer/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we have two threa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duces some integers and sends them to another thread (the PRODUCE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one takes the integer and elaborates it (CONSUME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5105520"/>
            <a:ext cx="20574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2320" y="5105520"/>
            <a:ext cx="20574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563868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378-DFB4-4593-86BE-FEB2B95F696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wo threads have differen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 the producer is much faster than the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store the integers in a queue, so that no data i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use the CircularArra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354-ED60-4EC3-BFFB-6A178AD3249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4880" y="4495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 with this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queue is full, the producer actively 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queue is empty, the consumer actively 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0440" y="1955880"/>
            <a:ext cx="3635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produc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obtain dat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!queue.insert(dat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36800" y="1955880"/>
            <a:ext cx="390096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consum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!queue.extract(&amp;dat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use dat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28800" y="1320840"/>
            <a:ext cx="21438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66C-5DA7-4896-8A21-F7851D6DA1F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more general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to provide a general mechanism for synch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chronise two threads on on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block the producer when the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utual exclusion between critical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two insertions operation to inter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1A3-EFB3-4C83-95B7-C1C79FAAD6F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D27-54C8-41A1-952B-2463F38E68C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eneral mechanis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jikstra proposed the semaphor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maphore is an abstract entity that con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erations on a semaphore are considered 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3E2-489A-4B33-B9C4-D524DC74E9C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aphores are basic mechanisms for providing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been shown that every kind of synchronization and mutual exclusion can be implemented by using sempa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analyze possible implementation of the semaphore mechanism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99560" y="3786120"/>
            <a:ext cx="4565160" cy="23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lass Semaphor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ed queue&gt; block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(int n) : count (n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FF5-404A-4D6E-A16F-32971FBB9E3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wait operation has the following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ounter == 0, the requiring thread is bloc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removed from the ready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nserted in the blocked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ounter &gt; 0, then counter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gnal operation has the following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ounter == 0 and there is some blocked thread, unblock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hread is removed from the blocked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nserted in the ready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wise, increment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AE5-131D-423C-AE0C-38B843C836F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1273320"/>
            <a:ext cx="3975120" cy="480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lass Semaphor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ed queue&gt; block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(int n) : count (n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wai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counter ==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 the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counter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ignal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some blocked thread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nblock the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counter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E79-7A37-4AC3-BD66-8D926A4EAC8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use a semaphore for critical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semaphore initialized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entering the critical section, perform a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leaving the critical section, perform a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41760" y="3352680"/>
            <a:ext cx="191952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72600" y="3859200"/>
            <a:ext cx="2890440" cy="23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31800" y="3894120"/>
            <a:ext cx="2890440" cy="23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4D6-2FE3-4106-A099-9EC0F7B7217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our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source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HW resource like a I/O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W resource, i.e. a dat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both case, access to a resource must be regulated to avoid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wo processes want to print on the same printer, their access must be sequentialised, otherwise the two printing could be intermangl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wo threads access the same data structure, the operation on the data must be sequentialized otherwise the data could be inconsist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DBB-D13A-4769-9577-84A5A280D88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65400" y="1676520"/>
            <a:ext cx="2320920" cy="2057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95000" y="1295280"/>
            <a:ext cx="14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maph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6760" y="190512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1905120"/>
            <a:ext cx="45720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43200" y="1905120"/>
            <a:ext cx="4572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8640" y="1371600"/>
            <a:ext cx="315288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wait()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 (1)&gt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s.wait(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 (2)&gt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signal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&lt;critical section&gt;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s.signal(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1905120"/>
            <a:ext cx="45720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2895480"/>
            <a:ext cx="63324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25600" y="2590920"/>
            <a:ext cx="177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09960" y="2895480"/>
            <a:ext cx="63324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76360" y="2895480"/>
            <a:ext cx="63360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876920"/>
            <a:ext cx="63324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09960" y="4876920"/>
            <a:ext cx="63324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4876920"/>
            <a:ext cx="63360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79880" y="4724280"/>
            <a:ext cx="844560" cy="8384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75000" y="5181480"/>
            <a:ext cx="70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4876920"/>
            <a:ext cx="633240" cy="60948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efde3"/>
                </a:solidFill>
                <a:latin typeface="Tahoma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09960" y="4876920"/>
            <a:ext cx="6332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efde3"/>
                </a:solidFill>
                <a:latin typeface="Tahoma"/>
              </a:rPr>
              <a:t>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109960" y="4876920"/>
            <a:ext cx="1266480" cy="609480"/>
            <a:chOff x="2109960" y="4876920"/>
            <a:chExt cx="1266480" cy="609480"/>
          </a:xfrm>
        </p:grpSpPr>
        <p:sp>
          <p:nvSpPr>
            <p:cNvPr id="392" name=""/>
            <p:cNvSpPr/>
            <p:nvPr/>
          </p:nvSpPr>
          <p:spPr>
            <a:xfrm>
              <a:off x="2743200" y="4876920"/>
              <a:ext cx="63324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09960" y="4876920"/>
              <a:ext cx="63324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109960" y="4876920"/>
            <a:ext cx="1266480" cy="609480"/>
            <a:chOff x="2109960" y="4876920"/>
            <a:chExt cx="1266480" cy="609480"/>
          </a:xfrm>
        </p:grpSpPr>
        <p:sp>
          <p:nvSpPr>
            <p:cNvPr id="395" name=""/>
            <p:cNvSpPr/>
            <p:nvPr/>
          </p:nvSpPr>
          <p:spPr>
            <a:xfrm>
              <a:off x="2109960" y="4876920"/>
              <a:ext cx="633240" cy="6094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3200" y="4876920"/>
              <a:ext cx="63324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743200" y="2895480"/>
            <a:ext cx="6332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efde3"/>
                </a:solidFill>
                <a:latin typeface="Tahoma"/>
              </a:rPr>
              <a:t>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109960" y="4876920"/>
            <a:ext cx="1266480" cy="609480"/>
            <a:chOff x="2109960" y="4876920"/>
            <a:chExt cx="1266480" cy="609480"/>
          </a:xfrm>
        </p:grpSpPr>
        <p:sp>
          <p:nvSpPr>
            <p:cNvPr id="399" name=""/>
            <p:cNvSpPr/>
            <p:nvPr/>
          </p:nvSpPr>
          <p:spPr>
            <a:xfrm>
              <a:off x="2743200" y="4876920"/>
              <a:ext cx="63324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09960" y="4876920"/>
              <a:ext cx="63324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743200" y="2895480"/>
            <a:ext cx="63324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81A-E907-4BA6-85F4-A5DCE2F295A3}" type="slidenum">
              <a:t>50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2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2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se a thread TA wants to synchronize with thread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 TA cannot execute &lt;code TA2&gt; before thread TB complete &lt;code TB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363996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54640" y="360360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06800" y="48006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598-7F74-4F77-AB91-4BB8DD38FC7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81532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it out with pen and pap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231948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s.wai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 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75360" y="231948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s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 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1687680"/>
            <a:ext cx="342900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Semaphore s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BA3-2EE9-49F5-94CC-FCFBE1406A25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Symmetric 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415880"/>
            <a:ext cx="8153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se a thread TA wants to synchronize with thread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 TA cannot execute &lt;code TA2&gt; before thread TB complete &lt;code TB1&gt;, and vice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363996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54640" y="360504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886200" y="479988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53C-FF1C-4BDF-877A-BD0D433FFC9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have 2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ization to N thre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90A-4A3D-45FB-BAAF-BFFB7E15C2C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producer/consum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roducer executes queue.insert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he producer to be blocked when the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ducer will be unblocked when there is some spac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consumer executes queue.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he consumer to be blocked when the queue is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will be unblocked when there is some spac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attempt: one producer and one consumer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F88-8171-44DE-85D8-8A686A39983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76600" y="1162080"/>
            <a:ext cx="3875040" cy="500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CircularArra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head, t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, f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() : head(0),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(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(0), full(1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insert(int elem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wait(f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rray[head] = e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ignal(emp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extract(int &amp;elem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wait(emp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em = array[tail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 = (tail + 1) %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ignal(f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657-0376-4F8A-8617-FE21A92D9D2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ic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the counter of empty is the number of elements in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number of times we can call extract without 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the counter of full is the complement of the elements in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number of times we can call insert without 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 that the implementation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() never overwrites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ract() always gets an element of the que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315-7C58-4754-A9AE-087839F5DB7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s/consum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let’s combine mutual exclusion and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system in which there are many producers and many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ant to implement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ant to protect the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1BD-7A08-435B-95EB-04B7DABC347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oes it work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995400"/>
            <a:ext cx="4497120" cy="279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CircularArra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head, t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full, 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mut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() : head(0), tail(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(0), full(10), mutex(1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insert(int ele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extract(int &amp;el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30040" y="3954600"/>
            <a:ext cx="3437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insert(int 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ull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rray[head]=e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(head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46520" y="3938760"/>
            <a:ext cx="37026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extract(int &amp;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em = array[tail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 = (tail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ull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D13-008E-4DED-8634-3DEB9E0645A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action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 can interact according to two funda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activities access the same memo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activities communicate each other by sending messages through OS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analize both models i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45A-D757-401D-B60F-4CA26B51C73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rrect 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995400"/>
            <a:ext cx="4268520" cy="279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CircularArra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head, t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full, 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mut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() : head(0), tail(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(0), full(10), mutex(1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insert(int ele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extract(int &amp;el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30040" y="3954600"/>
            <a:ext cx="3437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insert(int 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full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rray[head]=e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(head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46520" y="3938760"/>
            <a:ext cx="37026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extract(int &amp;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em = array[tail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 = (tail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full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F56-294D-48B7-AB8A-66BE321C6EA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read executes mutex.wait() and then blocks on a synchronisation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unblocked another thread must enter a critical section guarded by the same mutex semaph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the first thread cannot be unblocked and free the mut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tuation cannot be solved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54B-D607-47BC-A9D5-A985FDD7207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maphore imple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() and signal() involve a possible thread-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they must be implemented as system cal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blocked thread must be removed from state RUNNING and be moved in the semaphore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maphore is itself a shar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() and signal() are critical sec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must run with interrupt disabled and by using lock() and unlock() primi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FE5-AEF0-4FDC-9B87-C2DBAD1E4EB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6480" y="1266840"/>
            <a:ext cx="3115800" cy="28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emaphore::wait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sav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counter==0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 the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 else counter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restor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36840" y="3171960"/>
            <a:ext cx="3173760" cy="28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emaphore::signal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sav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counter== 0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nblock a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 else counter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restor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F26-DCBA-4929-91AE-3F51113F70B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X THREADS AND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884-47CF-4439-BFDA-44411EA0027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e slides on p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10E-3F6C-419D-B0C9-2B0C48EFFB3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33E-DB9E-4F07-A9FC-1442E228FA3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SIGN METHODOLOGY FOR SHARED MEMOR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04D-76A7-417F-A7B5-EA458DF4B63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present here a structured methodology for programming in shared mem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thodology leads to “safe”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necessarily optimize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rs can always use their intelligence and come up with “elegant”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E2E-55A6-4B7C-8533-6EB971B4CD7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ed memory 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 is a se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s that interact by accessin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tructures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hared resour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ata structure can be se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t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t of functions operating on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the data structures only through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831-1057-43F3-895D-CCDDD89E001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ource Al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ion of resource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: one activity at time only is granted access to th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: many activity can access the resourc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: once the resource is granted, it is never re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: resource can be granted and revoked dynam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267080"/>
            <a:ext cx="4114800" cy="20574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8006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12040" y="4343400"/>
            <a:ext cx="133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7400" y="4343400"/>
            <a:ext cx="98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440" y="4267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01960" y="4967280"/>
            <a:ext cx="83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1400" y="5729400"/>
            <a:ext cx="118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56272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0040" y="4267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2920" y="4876920"/>
            <a:ext cx="1066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1040" y="496728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47520" y="572940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17160" y="572940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FC6-11F6-449C-99CF-B77732141FD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bject Oriented 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16400" y="1612800"/>
            <a:ext cx="274320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lass SharedDat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first, las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haredDat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insert(int 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extrac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730520" y="1523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43000" y="39718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14600" y="4097160"/>
            <a:ext cx="4800600" cy="20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truct SharedDat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first, las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;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haredData_init(struct SharedData *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SharedData_insert(struct SharedData *d,  int 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SharedData_extract(struct SharedData *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A8A-F6D5-4EC9-A9B7-75AEAD3BEF7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ed Data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apsulating the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ata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already include the mechanisms for mutual exclusion and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CircularArray dat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s on the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use the semaphores inside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only access the data structure through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D4C-3495-48CB-BAC5-9F05F1C379D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o program the data structur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design the interface: that is, which functions the threads need to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implicity, all functions on the same data struture should be in 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be, this is not optimized, but it is SA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057-1B16-496A-B98E-A0F41B454DE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ach data struc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mutual exclusion semaphore, initialized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ac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fter starting the function, take the semaphore, and leave it before re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22F-93A2-46A5-859B-FF1D99A3E4E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84400" y="1960560"/>
            <a:ext cx="3200400" cy="3886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lass MyDat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t 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MyData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init(&amp;m, 0,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myf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wait(&amp;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post(&amp;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D02-CCC2-4996-9D5C-CEEF9433F72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e behavior of th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which conditions a calling thread should be bloc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all different 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715-103A-425F-99B5-529BD51A78BC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un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blocked thread should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the functions that should unblock those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ting all tog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 a state diagram for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S: the various states of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: threads that call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DC5-B1A0-4DBE-A74A-C02E910C546E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: CircularArray with Mana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expla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 data structur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blocking and unblock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w the stat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7A9-D913-403C-8D77-F04C492F65C2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ding 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block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emaphore initialized to 0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locking semaphore)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integer that counts the number of blocked threads on the condition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locking counte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it to 0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(or more) integer variable(s) to code the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rite the initialization function (constructor in C++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C07-69AF-4629-B7DE-EFA697165914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un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91880"/>
            <a:ext cx="815328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code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the mutex at the 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blocking conditions (if an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hread has to be block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ment the blocking counter, signal on the mutex, wait on the blocking semaphore, wait on the mu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 the code, change stat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unbloc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thread has to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ment the blocked counter, signal the semap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487-18C8-4379-8A54-5FC9F7696466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operative vs Competit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3240" y="1155600"/>
            <a:ext cx="762012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teraction between concurrent activities (threads or processes) can be classifi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itive 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activities compete for th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ctivity does not know anything about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must manage the resources so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perative 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ties cooperate to perform an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activity knows about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must synchronize on particular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C63-88C9-412A-A0B9-D95BA8649B6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co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CEF-1A5C-461B-A231-02B34DE3A880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subtle err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“man in the middle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blocking conditions in a while()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762-C589-47DF-90A1-0F8CAA325964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ssing “le baton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(more elegant)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836-20C2-465C-AE9F-4BC0EB8BBEE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THREADS – MUTEXES AND CONDI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D74-370A-43E3-9D6F-2DD9458E228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s are a language structure equivalent to semaphores, but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nitor is similar to an object in a O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variables and provides procedures to other softwar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one thread can execute a procedure at a certa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other thread that has invoked the procedure is blocked and waits for the first threads to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a monitor implicitely provides 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80B-4D66-40B7-97B2-6658704BA7C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6201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s support synchronization wit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dition variable is a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operations are defined on a condit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() -&gt; suspends the calling thread on th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al() -&gt; resume execution of one thread blocked on th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() and signal() operation on a condition variable are different from wait and signal on a semaph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t any counter in a condition vari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do a signal on a condition variable with an empty queue, the signal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E10-F52E-444E-8507-84A29D27F7C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 in Jav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 provides something that vaguely resembles 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synchronized” keyword allows to define classes with protec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“synchronized” class has one implicit conditio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“signal” one thread with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otify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and all threads with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otifyAll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F86-D6F7-4B63-8E76-5C8145F7F99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 in POSI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not possible to provide monitor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and C++ do not provide any concurrency control mechanism; they are “purely sequential langua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X allows something similar to Monitors through library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2FB-C668-4B89-8879-89A80EBF9F7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lides on POSIX 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E2B-306D-48E2-AB86-BD1F5E9779E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rcises on POSIX 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B25-87AC-4214-BB63-DEADA1AAD35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peting activ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tive and competitive activities need different models of execution and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Compe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ties need to be “protected” from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arate memory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model is the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location of the resource and the synchronization must be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itive activities requests for services to a central manager (the OS or some dedicated process) which allocates the resources in a fai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is usually done through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E14-EB2C-4400-B9A9-3D6C1E46DF4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SYNCHRONIZ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ERS - 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D5A-47B2-4ED5-95C8-B166C26CDCF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aders/wri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shared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read the content of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readers can read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rite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one writer is writing no other reader or writer can access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emaphores to implement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4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8A0-7EAF-4DB2-AA5B-3AB1ACD3E363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imple imple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25000" y="1219320"/>
            <a:ext cx="398772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Buff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ws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n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uffer() : wsem(1), x(1), nr(0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wri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21200" y="3657600"/>
            <a:ext cx="2902680" cy="279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rea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1) 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0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79400" y="4390920"/>
            <a:ext cx="236016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writ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write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504-16DF-4043-B4C7-1C2C2BE2643B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starv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se we have 2 readers (R1 and R2) and 1 writer (W1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that R1 starts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R1 is reading, W1 blocks because it wants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R2 starts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R1 finishes, but, since R2 is reading, W1 cannot be unb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R2 finishes to read, R1 starts to read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R2 finishes, W1 cannot be unblocked because R1 is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E16-EDB2-4F12-B848-5484DC2F5CBA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ority to writers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84800" y="1174680"/>
            <a:ext cx="634068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Buff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x, y, z, wsem, rs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nr, n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uffer() : x(1), y(1), z(1), wsem(1), rsem(1), nr(0), nw(0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42240" y="2784600"/>
            <a:ext cx="33598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rea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z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1) 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z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0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83600" y="2784600"/>
            <a:ext cx="3466440" cy="32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writ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==1) r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write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 == 0) r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8CB-0E43-40B4-8103-C53008DA7455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solve the readers/writers problem in the general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tarvation fo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tarvation for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tain a FIFO ordering with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t least one writer is blocked, every next reader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t least one reader is blocked, every next writer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ingle semaph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F20-B206-4BE2-90DC-DF3FC00D25CF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5600" y="1536840"/>
            <a:ext cx="5226840" cy="37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class Buff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int nbr, nb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int nr, n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Semaphore rsem, ws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Semaphore 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Buffer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nbw(0),nbr(0), nr(0), nw(0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rsem(0), wsem(0) 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void 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void wri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49D-99D4-48DA-BE19-F9C731C6906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2840" y="1295280"/>
            <a:ext cx="4016520" cy="426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read(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 || nbw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b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rsem.wait();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nbr&g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nbr--;rsem.signal(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buffer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bw &amp;&amp; nr == 0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5840" y="1295280"/>
            <a:ext cx="4092840" cy="426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write(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 || nbw || nr || nbr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bw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wsem.wait();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bw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buffer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br) {nbr--; rsem.signal(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se if (nbw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4F2-3233-4797-BB63-F1838DFB1DA3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7D3-F928-4DF3-A7F6-8BD6CFBD735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ssage pa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passing systems are based on the basic concept of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basic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(destination, messag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ive(source, &amp;messag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operations can be synchronous or a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e can be symmetric or asym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4A6-345A-4258-9ED2-C98577F4EFF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