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78BE5-896A-404E-BEE7-138BF82D39B3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58800" y="685800"/>
            <a:ext cx="5541840" cy="343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18FD-EAC9-4F6B-93CD-504D4925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06E7-A3C5-45CB-975A-73B25584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CA33-B56D-48E4-881A-9A44FD98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CC86-88E5-472C-9A0F-DD097D6F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6A50-DDDA-4AB0-A556-7F1E70DC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40C7-5DCF-4B77-B203-6BD7EE8C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6A19-E5B9-4600-AC23-82394FE1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8981-4E55-4828-86AC-F6450938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6AD0-14A2-4889-87A0-7737682F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D993-57C2-436A-AD81-60C81430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0196-2401-4F6F-9B9A-08878F18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5E0-E332-413F-BEDA-0C449F38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D70B-4912-466A-AE00-DBB3DF4E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71E4-54DE-40B9-82D7-7D858473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FDB9-676E-432F-B7DC-37106878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4E58-5D8F-4ABB-90B9-B77C4A0F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4232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98480" y="152388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4232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98480" y="3911040"/>
            <a:ext cx="26247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2875-0A44-4990-9183-9735C46E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4FB4-9D67-4757-9450-FBCC55F2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3AED-EE23-44FE-860E-3ABC7495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28C2-C9E5-4F18-9007-2D938675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152280"/>
            <a:ext cx="7237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D5C6-6573-417B-BC9F-370F0241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D871-397B-46CC-A419-52F98F7B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63240" y="391104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3089-264E-471E-B294-2259CCED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3240" y="1523880"/>
            <a:ext cx="3978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8151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7CDD-824F-4BBB-A96B-607F87A3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237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1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6E6591-FA54-42E3-9FF4-FF61FEB914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8088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219320" cy="119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733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F18D8-0F73-4EDA-ACD9-BF72C7D0B0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66543" b="49852"/>
          <a:stretch/>
        </p:blipFill>
        <p:spPr>
          <a:xfrm>
            <a:off x="4191120" y="228600"/>
            <a:ext cx="1065240" cy="106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b05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52880" y="1955880"/>
            <a:ext cx="281628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0" y="1219320"/>
            <a:ext cx="48546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cuola Superiore Sant’An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4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Deadlock and Starvatio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3880" y="5105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useppe Lip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nditions for deadlo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tual ex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one process may use the resource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ld and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process may hold allocated resources when it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pree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esource cannot be rev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three above conditions hold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4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ircular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2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closed chain of threads exists such that each thread holds at least one resources needed by the next thread in the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 a deadlock can occu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4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necessary and sufficient conditions for a dead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E2BC-5466-4A0A-84F7-8ADD8C68BBD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How to solve the problem of deadlo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prevent deadlock from happening we can distinguish two class of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ic: we impose strict rules in the way resources may be requested so that a deadlock cannot occ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ynamic: dynamically, we avoid the system to enter in dangerous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sic idea is to avoid that one of the previous conditions 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dlock prevention (static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dlock avoidance (dynamic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dlock detection (dynamic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24F4-9684-4BE5-99BD-14104E782FB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ndi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tual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annot be disallowed. If a resource must be accessed in mutual exclusion, there is nothing else we can d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ld and w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impose the tasks to take all resources at the same time with a singl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very restrictive! Even if we use the resource for a small interval of time, we must take it at the beginn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61DC-D035-4F1A-AF53-D62E14F02EB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ndi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pree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technique can be done only if we can actually suspend what we are doing on a resource and give it to another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the “processor” resource, this is what we do with a thread swit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other kinds of resources, we should “undo” what we were doing on the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ay not be possible in many cas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0E51-3E82-467F-A732-C3CA426B040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ndi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rcular w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ondition can be prevented by defining a linear ordering of th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: we impose that each thread must access resources in a certain well-defined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41840" y="3701880"/>
            <a:ext cx="2201400" cy="25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threadA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1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2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1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2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9080" y="3657600"/>
            <a:ext cx="2203200" cy="25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threadB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2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1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2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1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3581280"/>
            <a:ext cx="3048120" cy="2971800"/>
          </a:xfrm>
          <a:custGeom>
            <a:avLst/>
            <a:gdLst/>
            <a:ahLst/>
            <a:rect l="l" t="t" r="r" b="b"/>
            <a:pathLst>
              <a:path w="8466" h="8256">
                <a:moveTo>
                  <a:pt x="0" y="0"/>
                </a:moveTo>
                <a:lnTo>
                  <a:pt x="8465" y="8255"/>
                </a:ln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45080" y="3505320"/>
            <a:ext cx="3051000" cy="2971800"/>
          </a:xfrm>
          <a:custGeom>
            <a:avLst/>
            <a:gdLst/>
            <a:ahLst/>
            <a:rect l="l" t="t" r="r" b="b"/>
            <a:pathLst>
              <a:path w="8475" h="8256">
                <a:moveTo>
                  <a:pt x="8474" y="0"/>
                </a:moveTo>
                <a:lnTo>
                  <a:pt x="0" y="8255"/>
                </a:ln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BF8C-7BE2-423A-9564-E8C52BBC2CEF}" type="slidenum">
              <a:t>14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2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Why this strategy work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 us define a oriented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vertex can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hread (round vertex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source (square vertex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rrow from a thread to a resource denotes that the thread requires the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rrow from a resource to a thread denotes that the resource is granted to the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dlock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eadlock happens if at some point in time there is a cycle in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95EC-F4E2-40C7-B563-34DB6D96A13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Grap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79720" y="1339920"/>
            <a:ext cx="2201400" cy="25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threadA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1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2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1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2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48880" y="1339920"/>
            <a:ext cx="2203200" cy="25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threadB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2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1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2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1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4419720"/>
            <a:ext cx="609480" cy="6094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14600" y="5410080"/>
            <a:ext cx="609480" cy="60984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4419720"/>
            <a:ext cx="533520" cy="5331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5486400"/>
            <a:ext cx="533520" cy="5335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120840" y="4648320"/>
            <a:ext cx="14540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8120" y="4876920"/>
            <a:ext cx="1523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3120840" y="5711400"/>
            <a:ext cx="1454040" cy="8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124080" y="4873680"/>
            <a:ext cx="144792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A2E6-CE18-4D4D-97B1-BC158FA0FE9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or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all threads access resources in a given order, a deadlock cannot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of: by contradi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se that a deadlock occurs. Then, there is a cy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hypothesis all threads access resources by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fore, each thread is blocked on a resource that has an order number grater than the resources it hol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rting from a thread and following the cycle, the order number of the resource should always increase. However, since there is a cycle, we go back to the first thread. Then there must be a thread T that holds a resource Ra and requests a Resource Rb with Ra &lt; 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a contradiction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F6A4-4F0C-42C1-8330-44195B8E7E8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00200" y="196560"/>
            <a:ext cx="72388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Hierarchies of loc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use the previous technique effici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vide the software into layers (usually the SW is already in layers!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layer defines its own locks and semaph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ayer can only call functions from the same layer or from lower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is way the resource ordering is automatically guarant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7CFD-57C1-44B7-934F-069D6402378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eadlock avoida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technique consists in monitoring the system to avoid dead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heck the behaviour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we see that we are going into a dangerous situation, we block the thread that is doing the request, even if the resource is 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D420-412D-4822-BC7D-16FA6F8788F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eadlo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dlock is the situation in which a group of threads are permanently blocked waiting for some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dlock can happen in many subtl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re we will study ways of avoiding deadlock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C4BF-ADC2-465F-8E45-CFB56FED54F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Naive approa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R1, R2, ... Rm): total amount of each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V1, V2, ..., Vm): amount of free resources at time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i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o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567240" y="2590920"/>
                <a:ext cx="150804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576600" y="4375080"/>
                <a:ext cx="148752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5414-16BE-4C61-9B92-A47F02E34C5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Naive approa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42640" y="23619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dlock avoidance r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ew thread T(n+1) is started only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568520" y="1295280"/>
                <a:ext cx="15652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k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014720" y="1476360"/>
                <a:ext cx="1438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,i: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278400" y="1447920"/>
                <a:ext cx="1500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,i: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817800" y="3809880"/>
                <a:ext cx="20401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k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1143000" y="4952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1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o restricti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7D98-C8E3-40A5-B8F9-41FF821A42A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25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case of the semaph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1, 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1,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1,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b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evious rule w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3745080" y="4665600"/>
                <a:ext cx="20332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366A-30D7-4F8A-907A-FC178F80683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banker’s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ies to identify “safe st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e a thread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situation after the request is unsafe (i.e. it leads to a deadlock) block the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wise, grant the resour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8C7-6A92-449E-988D-279EC16BC84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banker’s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36040" y="1830240"/>
            <a:ext cx="7070760" cy="313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// M is the number of different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// N is the number of distinct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class Bank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nt avail[M];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// How many are left for each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nt request[N,M];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// How much each process requ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int assigned[N, M]; // how much each process is 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// p identifies the process. p is in [0,N-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// r identifies the resource. r is in [0, M-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bool try(int p, int 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B01D-EDD8-489C-BCBC-469B2C7624E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 banker’s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07560" y="1295280"/>
            <a:ext cx="3361320" cy="328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bool Bank::try(int p, int r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bool flag[N];int i,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bool ok =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or (i=0; i&lt;N; i++) flag[i]=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nt my_avail[M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or (j=0; j&lt;M; j++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y_avail[j] = avail[j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y_avail[r]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equest[p,r]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assigned[p,r]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615560" y="1287360"/>
            <a:ext cx="3670560" cy="52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while (i&lt;N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flag[i]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ok =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or (j=0; j&lt;M; j++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request[i,j]&gt;my_avail[j]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ok 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ok &amp;&amp; fla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or (j=0; j&lt;M; j++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my_avail[j] += assigned[i,j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lag[i] 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else i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bool safe =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for (i=0; i&lt;N; i++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flag[i]) safe 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if (safe) 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avail[p,r]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return saf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290520"/>
                <a:tab algn="l" pos="480960"/>
                <a:tab algn="l" pos="75888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4601-AAE5-453B-8990-196BA866818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eadlock det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his strategy, we monitor the system to check for deadlock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hey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look for cycles between threads an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often should we loo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complex thing to do, so it takes precious processi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an be done not so o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ce we discover deadlock, we mus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re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dea is to kill some blocked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4E9B-B0B9-4426-B9F7-588B85B2868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Recove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Arial"/>
              <a:buAutoNum type="arabicPeriod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ort all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d in almost all OS. The simplest thing to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Arial"/>
              <a:buAutoNum type="arabicPeriod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threads define saf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heck poi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When the OS discover a deadlock, all involved threads are restarted to a previous check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378000">
              <a:lnSpc>
                <a:spcPct val="12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blem. The can go in the same deadlock aga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Arial"/>
              <a:buAutoNum type="arabicPeriod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ort one thread a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ads are aborted one after the other until deadlock dis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Arial"/>
              <a:buAutoNum type="arabicPeriod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ively preempt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empt resources one at time until the deadlock dis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603-49D0-4C07-8287-28991BD50A29}" type="slidenum">
              <a:t>27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440" y="5095800"/>
            <a:ext cx="1600200" cy="39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7269" y="19750"/>
                </a:moveTo>
                <a:lnTo>
                  <a:pt x="-1029" y="6322"/>
                </a:lnTo>
              </a:path>
              <a:path w="21600" h="21600">
                <a:moveTo>
                  <a:pt x="-1029" y="0"/>
                </a:moveTo>
                <a:lnTo>
                  <a:pt x="-1029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EADLOCK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of deadlo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24600" y="1295280"/>
            <a:ext cx="2201400" cy="25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threadA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1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2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1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2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34880" y="1295280"/>
            <a:ext cx="2203200" cy="25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threadB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2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1.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2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1.signa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80880" y="1295280"/>
            <a:ext cx="1838880" cy="58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emaphore s1(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emaphore s2(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952880"/>
            <a:ext cx="6856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715000"/>
            <a:ext cx="6856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4724280"/>
            <a:ext cx="114300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000" y="4495680"/>
            <a:ext cx="45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88560" y="5272200"/>
            <a:ext cx="45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5486400"/>
            <a:ext cx="114300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4114800"/>
            <a:ext cx="1066680" cy="304920"/>
          </a:xfrm>
          <a:prstGeom prst="wedgeRectCallout">
            <a:avLst>
              <a:gd name="adj1" fmla="val 37518"/>
              <a:gd name="adj2" fmla="val 15353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1.wait(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4724280"/>
            <a:ext cx="11430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6095880"/>
            <a:ext cx="1066680" cy="304920"/>
          </a:xfrm>
          <a:prstGeom prst="wedgeRectCallout">
            <a:avLst>
              <a:gd name="adj1" fmla="val 34620"/>
              <a:gd name="adj2" fmla="val -165092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2.wait(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5486400"/>
            <a:ext cx="11430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37040" y="4114800"/>
            <a:ext cx="1066680" cy="304920"/>
          </a:xfrm>
          <a:prstGeom prst="wedgeRectCallout">
            <a:avLst>
              <a:gd name="adj1" fmla="val -49430"/>
              <a:gd name="adj2" fmla="val 152004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2.wait(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37040" y="6095880"/>
            <a:ext cx="1066680" cy="304920"/>
          </a:xfrm>
          <a:prstGeom prst="wedgeRectCallout">
            <a:avLst>
              <a:gd name="adj1" fmla="val -49865"/>
              <a:gd name="adj2" fmla="val -166625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1.wait(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DC4B-2B52-4AC1-80CC-F21BB1DAB145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351240" y="2438280"/>
            <a:ext cx="1523880" cy="1371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3124080"/>
            <a:ext cx="152388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Graphical situ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5181480"/>
            <a:ext cx="44956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590920" y="1977840"/>
            <a:ext cx="1440" cy="320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0000" y="5365800"/>
            <a:ext cx="45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2960" y="1905120"/>
            <a:ext cx="45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2958480" y="5507640"/>
            <a:ext cx="83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t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3798720" y="5507640"/>
            <a:ext cx="83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94880" y="4281480"/>
            <a:ext cx="83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94880" y="3595680"/>
            <a:ext cx="83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t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351240" y="2130480"/>
            <a:ext cx="1440" cy="30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114800" y="2130480"/>
            <a:ext cx="1440" cy="30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4956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38098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51240" y="3809880"/>
            <a:ext cx="76212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Dead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inevi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65040" y="2895480"/>
            <a:ext cx="126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lease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65040" y="2286000"/>
            <a:ext cx="126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lease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4368240" y="5691240"/>
            <a:ext cx="126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lease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5114880" y="5672160"/>
            <a:ext cx="126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lease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90920" y="31240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24382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876920" y="2130480"/>
            <a:ext cx="1440" cy="30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37240" y="2130480"/>
            <a:ext cx="1440" cy="30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4876920"/>
            <a:ext cx="762120" cy="1440"/>
          </a:xfrm>
          <a:custGeom>
            <a:avLst/>
            <a:gdLst/>
            <a:ahLst/>
            <a:rect l="l" t="t" r="r" b="b"/>
            <a:pathLst>
              <a:path w="2117" h="5">
                <a:moveTo>
                  <a:pt x="0" y="0"/>
                </a:moveTo>
                <a:lnTo>
                  <a:pt x="2116" y="4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4113360"/>
            <a:ext cx="1440" cy="765000"/>
          </a:xfrm>
          <a:custGeom>
            <a:avLst/>
            <a:gdLst/>
            <a:ahLst/>
            <a:rect l="l" t="t" r="r" b="b"/>
            <a:pathLst>
              <a:path w="5" h="2126">
                <a:moveTo>
                  <a:pt x="0" y="2125"/>
                </a:moveTo>
                <a:lnTo>
                  <a:pt x="4" y="0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3124080"/>
            <a:ext cx="762120" cy="6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75320" y="1600200"/>
            <a:ext cx="1067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416" y="41669"/>
                </a:moveTo>
                <a:lnTo>
                  <a:pt x="-1543" y="0"/>
                </a:lnTo>
              </a:path>
              <a:path w="21600" h="21600">
                <a:moveTo>
                  <a:pt x="-1543" y="0"/>
                </a:moveTo>
                <a:lnTo>
                  <a:pt x="-1543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 and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ant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85160" y="3276720"/>
            <a:ext cx="10666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780" y="10800"/>
                </a:moveTo>
                <a:lnTo>
                  <a:pt x="-1543" y="0"/>
                </a:lnTo>
              </a:path>
              <a:path w="21600" h="21600">
                <a:moveTo>
                  <a:pt x="-1543" y="0"/>
                </a:moveTo>
                <a:lnTo>
                  <a:pt x="-1543" y="21600"/>
                </a:lnTo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 and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an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6EFF-49EC-4C0D-B963-17455F5E9982}" type="slidenum">
              <a:t>4</a:t>
            </a:fld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76720" y="2209680"/>
            <a:ext cx="1523880" cy="1371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37040" y="2895480"/>
            <a:ext cx="152388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3581280"/>
            <a:ext cx="76176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Dead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inevi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37040" y="2895480"/>
            <a:ext cx="762120" cy="6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Graphical situ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4952880"/>
            <a:ext cx="44956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514600" y="1749240"/>
            <a:ext cx="1440" cy="320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64040" y="5137200"/>
            <a:ext cx="45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26640" y="1676520"/>
            <a:ext cx="45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2884320" y="5279040"/>
            <a:ext cx="83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t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3720960" y="5279040"/>
            <a:ext cx="83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18920" y="4052880"/>
            <a:ext cx="83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18920" y="3367080"/>
            <a:ext cx="83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t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276720" y="1901880"/>
            <a:ext cx="1440" cy="30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037040" y="1901880"/>
            <a:ext cx="1440" cy="30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42670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35812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88720" y="2666880"/>
            <a:ext cx="126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lease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88720" y="2057400"/>
            <a:ext cx="126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lease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4291920" y="5462640"/>
            <a:ext cx="126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lease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5038200" y="5443560"/>
            <a:ext cx="126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lease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28954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22096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800600" y="1901880"/>
            <a:ext cx="1440" cy="30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560920" y="1901880"/>
            <a:ext cx="1800" cy="30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4648320"/>
            <a:ext cx="762120" cy="1440"/>
          </a:xfrm>
          <a:custGeom>
            <a:avLst/>
            <a:gdLst/>
            <a:ahLst/>
            <a:rect l="l" t="t" r="r" b="b"/>
            <a:pathLst>
              <a:path w="2117" h="5">
                <a:moveTo>
                  <a:pt x="0" y="0"/>
                </a:moveTo>
                <a:lnTo>
                  <a:pt x="2116" y="4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4648320"/>
            <a:ext cx="762120" cy="1440"/>
          </a:xfrm>
          <a:custGeom>
            <a:avLst/>
            <a:gdLst/>
            <a:ahLst/>
            <a:rect l="l" t="t" r="r" b="b"/>
            <a:pathLst>
              <a:path w="2117" h="5">
                <a:moveTo>
                  <a:pt x="0" y="0"/>
                </a:moveTo>
                <a:lnTo>
                  <a:pt x="2116" y="4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4648320"/>
            <a:ext cx="761760" cy="1440"/>
          </a:xfrm>
          <a:custGeom>
            <a:avLst/>
            <a:gdLst/>
            <a:ahLst/>
            <a:rect l="l" t="t" r="r" b="b"/>
            <a:pathLst>
              <a:path w="2117" h="5">
                <a:moveTo>
                  <a:pt x="0" y="0"/>
                </a:moveTo>
                <a:lnTo>
                  <a:pt x="2116" y="4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5840" y="3884760"/>
            <a:ext cx="1440" cy="765000"/>
          </a:xfrm>
          <a:custGeom>
            <a:avLst/>
            <a:gdLst/>
            <a:ahLst/>
            <a:rect l="l" t="t" r="r" b="b"/>
            <a:pathLst>
              <a:path w="5" h="2126">
                <a:moveTo>
                  <a:pt x="0" y="2125"/>
                </a:moveTo>
                <a:lnTo>
                  <a:pt x="4" y="0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80040" y="4648320"/>
            <a:ext cx="762120" cy="1440"/>
          </a:xfrm>
          <a:custGeom>
            <a:avLst/>
            <a:gdLst/>
            <a:ahLst/>
            <a:rect l="l" t="t" r="r" b="b"/>
            <a:pathLst>
              <a:path w="2117" h="5">
                <a:moveTo>
                  <a:pt x="0" y="0"/>
                </a:moveTo>
                <a:lnTo>
                  <a:pt x="2116" y="4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5840" y="3122640"/>
            <a:ext cx="1440" cy="765000"/>
          </a:xfrm>
          <a:custGeom>
            <a:avLst/>
            <a:gdLst/>
            <a:ahLst/>
            <a:rect l="l" t="t" r="r" b="b"/>
            <a:pathLst>
              <a:path w="5" h="2126">
                <a:moveTo>
                  <a:pt x="0" y="2125"/>
                </a:moveTo>
                <a:lnTo>
                  <a:pt x="4" y="0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5840" y="2360520"/>
            <a:ext cx="1440" cy="765360"/>
          </a:xfrm>
          <a:custGeom>
            <a:avLst/>
            <a:gdLst/>
            <a:ahLst/>
            <a:rect l="l" t="t" r="r" b="b"/>
            <a:pathLst>
              <a:path w="5" h="2127">
                <a:moveTo>
                  <a:pt x="0" y="2126"/>
                </a:moveTo>
                <a:lnTo>
                  <a:pt x="4" y="0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65840" y="1598760"/>
            <a:ext cx="1440" cy="765000"/>
          </a:xfrm>
          <a:custGeom>
            <a:avLst/>
            <a:gdLst/>
            <a:ahLst/>
            <a:rect l="l" t="t" r="r" b="b"/>
            <a:pathLst>
              <a:path w="5" h="2126">
                <a:moveTo>
                  <a:pt x="0" y="2125"/>
                </a:moveTo>
                <a:lnTo>
                  <a:pt x="4" y="0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DABF-6BB8-4A7C-BA0D-F7AB36B6C091}" type="slidenum">
              <a:t>5</a:t>
            </a:fld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ample with no deadlo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2209680"/>
            <a:ext cx="761760" cy="1371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2895480"/>
            <a:ext cx="76212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4952880"/>
            <a:ext cx="44956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514600" y="1749240"/>
            <a:ext cx="1440" cy="320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64040" y="5137200"/>
            <a:ext cx="45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26640" y="1676520"/>
            <a:ext cx="45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2884320" y="5279040"/>
            <a:ext cx="83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t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4415760" y="5247000"/>
            <a:ext cx="83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18920" y="4052880"/>
            <a:ext cx="83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18920" y="3367080"/>
            <a:ext cx="83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t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276720" y="1901880"/>
            <a:ext cx="1440" cy="30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037040" y="1901880"/>
            <a:ext cx="1440" cy="30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42670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14600" y="35812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88720" y="2666880"/>
            <a:ext cx="126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lease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8720" y="2057400"/>
            <a:ext cx="126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lease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3439440" y="5443560"/>
            <a:ext cx="126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lease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5038200" y="5443560"/>
            <a:ext cx="1261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lease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8954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14600" y="22096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800600" y="1901880"/>
            <a:ext cx="1440" cy="30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560920" y="1901880"/>
            <a:ext cx="1800" cy="30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4648320"/>
            <a:ext cx="762120" cy="1440"/>
          </a:xfrm>
          <a:custGeom>
            <a:avLst/>
            <a:gdLst/>
            <a:ahLst/>
            <a:rect l="l" t="t" r="r" b="b"/>
            <a:pathLst>
              <a:path w="2117" h="5">
                <a:moveTo>
                  <a:pt x="0" y="0"/>
                </a:moveTo>
                <a:lnTo>
                  <a:pt x="2116" y="4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3962520"/>
            <a:ext cx="762120" cy="1440"/>
          </a:xfrm>
          <a:custGeom>
            <a:avLst/>
            <a:gdLst/>
            <a:ahLst/>
            <a:rect l="l" t="t" r="r" b="b"/>
            <a:pathLst>
              <a:path w="2117" h="5">
                <a:moveTo>
                  <a:pt x="0" y="0"/>
                </a:moveTo>
                <a:lnTo>
                  <a:pt x="2116" y="4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79840" y="3884760"/>
            <a:ext cx="1440" cy="765000"/>
          </a:xfrm>
          <a:custGeom>
            <a:avLst/>
            <a:gdLst/>
            <a:ahLst/>
            <a:rect l="l" t="t" r="r" b="b"/>
            <a:pathLst>
              <a:path w="6" h="2126">
                <a:moveTo>
                  <a:pt x="0" y="2125"/>
                </a:moveTo>
                <a:lnTo>
                  <a:pt x="5" y="0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3274920"/>
            <a:ext cx="1440" cy="765360"/>
          </a:xfrm>
          <a:custGeom>
            <a:avLst/>
            <a:gdLst/>
            <a:ahLst/>
            <a:rect l="l" t="t" r="r" b="b"/>
            <a:pathLst>
              <a:path w="5" h="2127">
                <a:moveTo>
                  <a:pt x="0" y="2126"/>
                </a:moveTo>
                <a:lnTo>
                  <a:pt x="4" y="0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589120"/>
            <a:ext cx="1440" cy="765360"/>
          </a:xfrm>
          <a:custGeom>
            <a:avLst/>
            <a:gdLst/>
            <a:ahLst/>
            <a:rect l="l" t="t" r="r" b="b"/>
            <a:pathLst>
              <a:path w="5" h="2127">
                <a:moveTo>
                  <a:pt x="0" y="2126"/>
                </a:moveTo>
                <a:lnTo>
                  <a:pt x="4" y="0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19720" y="2590920"/>
            <a:ext cx="761760" cy="1440"/>
          </a:xfrm>
          <a:custGeom>
            <a:avLst/>
            <a:gdLst/>
            <a:ahLst/>
            <a:rect l="l" t="t" r="r" b="b"/>
            <a:pathLst>
              <a:path w="2117" h="5">
                <a:moveTo>
                  <a:pt x="0" y="0"/>
                </a:moveTo>
                <a:lnTo>
                  <a:pt x="2116" y="4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80040" y="2590920"/>
            <a:ext cx="762120" cy="1440"/>
          </a:xfrm>
          <a:custGeom>
            <a:avLst/>
            <a:gdLst/>
            <a:ahLst/>
            <a:rect l="l" t="t" r="r" b="b"/>
            <a:pathLst>
              <a:path w="2117" h="5">
                <a:moveTo>
                  <a:pt x="0" y="0"/>
                </a:moveTo>
                <a:lnTo>
                  <a:pt x="2116" y="4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43600" y="1827360"/>
            <a:ext cx="1440" cy="765000"/>
          </a:xfrm>
          <a:custGeom>
            <a:avLst/>
            <a:gdLst/>
            <a:ahLst/>
            <a:rect l="l" t="t" r="r" b="b"/>
            <a:pathLst>
              <a:path w="5" h="2126">
                <a:moveTo>
                  <a:pt x="0" y="2125"/>
                </a:moveTo>
                <a:lnTo>
                  <a:pt x="4" y="0"/>
                </a:lnTo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5075-7E3C-4281-8E90-5236D4E7C07C}" type="slidenum">
              <a:t>6</a:t>
            </a:fld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dur="indefinite" fill="hold">
                      <p:stCondLst>
                        <p:cond delay="indefinite"/>
                      </p:stCondLst>
                      <p:childTnLst>
                        <p:par>
                          <p:cTn id="1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dur="indefinite" fill="hold">
                      <p:stCondLst>
                        <p:cond delay="indefinite"/>
                      </p:stCondLst>
                      <p:childTnLst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Other examples of deadlo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4880" y="121932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d situations can happen even when the resource is not “on-off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ider a memory allo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601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se that the maximum memory allocable is 200 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45360" y="4103640"/>
            <a:ext cx="2520000" cy="23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void * threadA(void *)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request(80k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request(60k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release(140k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34400" y="4114800"/>
            <a:ext cx="2523240" cy="23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void * threadB(void *)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request(70k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request(80k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release(150k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3F74-D02E-4F9A-9A04-8DF5ECF0744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onsumable and reusable resourc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488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usabl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can be safely used by only one thread at time and is nod depleted by t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ads must request the resource and later release it, so it can b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us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y other thr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 are processor, memory, semaphor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buClr>
                <a:srgbClr val="8f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mabl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created and destroyed dynam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the resource is acquired by a thread, it is immediately “destroyed” and cannot be re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499"/>
              </a:spcBef>
              <a:buClr>
                <a:srgbClr val="906d58"/>
              </a:buClr>
              <a:buFont typeface="Wingdings" charset="2"/>
              <a:buChar char="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 are messages in a FIFO queue, interrupts, I/O dat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B6A8-F8E7-49FF-AAD2-716BBC21288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4880" y="375840"/>
            <a:ext cx="7620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Deadlock with consumable resourc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91520" y="1371600"/>
            <a:ext cx="3638520" cy="180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threadA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_receive_from(threadB, msg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_send(threadB, msg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27240" y="1371600"/>
            <a:ext cx="3637080" cy="180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void *threadB(void *)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_receive_from(threadA, msg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s_send(threadA, msg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4648320"/>
            <a:ext cx="6627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5562720"/>
            <a:ext cx="6627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6320" y="4267080"/>
            <a:ext cx="45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4880" y="5043600"/>
            <a:ext cx="45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76520" y="4419720"/>
            <a:ext cx="91440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76520" y="5334120"/>
            <a:ext cx="914400" cy="228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3733920"/>
            <a:ext cx="3048120" cy="304560"/>
          </a:xfrm>
          <a:prstGeom prst="wedgeRectCallout">
            <a:avLst>
              <a:gd name="adj1" fmla="val -74222"/>
              <a:gd name="adj2" fmla="val 16758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_receive_from(threadB,msg1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5943600"/>
            <a:ext cx="3048120" cy="304920"/>
          </a:xfrm>
          <a:prstGeom prst="wedgeRectCallout">
            <a:avLst>
              <a:gd name="adj1" fmla="val -62009"/>
              <a:gd name="adj2" fmla="val -169689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_receive_from(threadA,msg1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I Gennaio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0701-2231-483A-95EB-14B58C8FF24A}" type="slidenum">
              <a:t>9</a:t>
            </a:fld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dur="indefinite" fill="hold">
                      <p:stCondLst>
                        <p:cond delay="indefinite"/>
                      </p:stCondLst>
                      <p:childTnLst>
                        <p:par>
                          <p:cTn id="2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dur="indefinite" fill="hold">
                      <p:stCondLst>
                        <p:cond delay="indefinite"/>
                      </p:stCondLst>
                      <p:childTnLst>
                        <p:par>
                          <p:cTn id="2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dur="indefinite" fill="hold">
                      <p:stCondLst>
                        <p:cond delay="indefinite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