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99DEE-1B2F-453B-8C7F-416EFDA1297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33F-41B7-4431-A260-75F0DB3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E39-F3D0-4332-960E-6681CA6A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2A6-EB31-47A8-A19F-3624BACD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EBE-A420-45B5-9FB2-E2B8E314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6A3-197A-4B7E-AD74-E44BFDF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DD75-F82F-437E-926E-C0FECE60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EDFC-72EE-41BD-ABEE-B324680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434-75BE-45B6-B028-AC1A0C57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3F5A-FEA3-4201-8CFB-828C6CD0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D09-1D32-4A11-AD07-0EF7988E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6E4-56C6-4421-A64B-87A6A71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7FD-6CC8-480D-A887-515F31B6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1BD-CF43-4751-916B-44D7AF7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8BFA-90DD-46BE-AEF6-93632BB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34B-2C0C-419C-8002-70005DA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F04-E8D0-44C5-B24B-0542E292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439-6289-47FA-B11E-92541A8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3AE-6192-4939-BF54-BD1ED98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456-15E0-4CFD-A4F8-5C88A91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E2A-F1BE-4A88-ABC2-0FC74610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C2E-0936-491C-91AE-00F2C22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074-71FF-4839-8F2A-7638DA1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38B-E981-4527-9CCD-23F6810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D57-A4B0-43F3-9070-8570994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AB25A-7EB9-4989-8220-FF44032F1C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8BFF-FCE9-48D4-879E-5BBAF725B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mory Manag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artiti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looking at modern virtual memory systems, we should look at simpler systems that are not used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by step we will complicate the management system to arrive to the modern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ynamic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emory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emory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0F2-6A14-4B40-9F4E-FFBF260956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hysical memory is divided into fixed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form partitions: they all have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uniform: they can have differen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can be loaded into a partition of equal or great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too big to be fit into a partition, it cannot be loaded. The programmer should work out a solution, for example by dividing the program into two smaller programs that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BFF-94D0-4E41-BE68-DF33524CBA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and Uniform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75760" y="1600200"/>
            <a:ext cx="2172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xed and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33960" y="22860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3960" y="29718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33960" y="36576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33960" y="43434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33960" y="50292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33960" y="266688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33960" y="312408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33960" y="40384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6200" y="5791320"/>
            <a:ext cx="126684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538" y="-32697"/>
                </a:moveTo>
                <a:lnTo>
                  <a:pt x="22800" y="7267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esn’t 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678720" y="2438280"/>
            <a:ext cx="2080440" cy="2324160"/>
            <a:chOff x="6678720" y="2438280"/>
            <a:chExt cx="2080440" cy="2324160"/>
          </a:xfrm>
        </p:grpSpPr>
        <p:sp>
          <p:nvSpPr>
            <p:cNvPr id="135" name=""/>
            <p:cNvSpPr/>
            <p:nvPr/>
          </p:nvSpPr>
          <p:spPr>
            <a:xfrm>
              <a:off x="7749360" y="4114800"/>
              <a:ext cx="1009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was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678720" y="24382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678720" y="30481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678720" y="38098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3920" y="2438280"/>
              <a:ext cx="144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43920" y="4419720"/>
              <a:ext cx="63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2DF-3E2B-41F4-89CB-A3EC637E77B9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and non-uniform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62320" y="1600200"/>
            <a:ext cx="160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n-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33960" y="2286000"/>
            <a:ext cx="1548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3960" y="2666880"/>
            <a:ext cx="1548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304812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33960" y="373392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3960" y="4419720"/>
            <a:ext cx="154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33960" y="23623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33960" y="320040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3960" y="274320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33960" y="48006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678720" y="2362320"/>
            <a:ext cx="2183400" cy="2953800"/>
            <a:chOff x="6678720" y="2362320"/>
            <a:chExt cx="2183400" cy="2953800"/>
          </a:xfrm>
        </p:grpSpPr>
        <p:sp>
          <p:nvSpPr>
            <p:cNvPr id="158" name=""/>
            <p:cNvSpPr/>
            <p:nvPr/>
          </p:nvSpPr>
          <p:spPr>
            <a:xfrm>
              <a:off x="7651080" y="4114800"/>
              <a:ext cx="12110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was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(less th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efore)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678720" y="23623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678720" y="274320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678720" y="31240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43920" y="236232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3920" y="4419720"/>
              <a:ext cx="63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678720" y="46483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D2C-DF8E-4F96-A8D4-AB5A7C4A43FC}" type="slidenum">
              <a:t>1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lacement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144440"/>
            <a:ext cx="82594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form part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vial: every program can be loaded in any partition, it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ll partitions are full, one process is swapp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uniform part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 each process to the smallest partition that can hol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wo process can fit in the same partitions, one is swapp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queue for every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 each process to the smallest free partition that can hol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re are no more partitions, swap out the process in the smallest partition that can hold the desir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0B3-6FE9-4737-9641-CB827DC1DB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 with fixed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orm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: we may waste a lot of space (small programs will occupy one partition). This problem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uniform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lgorithm: reduces internal fragmentation, but a lot of swapping in and out. Some part of memory may remain un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algorithm: good use of memory, but 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3D8-2813-4561-9415-0E9776D588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ynamic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overcome the internal fragmentation memory, we can compute the size of each partition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system start-up there is only one singl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rocess is loaded, if there is a free partition bi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e partition is splitted in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one has exactly the size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one has the remaining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CB3-333E-41CC-8217-8704A570479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ynamic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33960" y="34290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33960" y="2286000"/>
            <a:ext cx="154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33960" y="25909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38920" y="4572000"/>
            <a:ext cx="18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ragm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12840" y="1600200"/>
            <a:ext cx="22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ynamic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289-F9C3-4E03-A88F-76E27E3647AF}" type="slidenum">
              <a:t>17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process are created and destroyed, a lot of small partitions may a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alled “ho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oblem is called “external fragmen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may be overcome wi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takes a lot of tim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on Disk de-fragm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E00-5A8C-48D4-A32A-E01E56CD5B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33960" y="2286000"/>
            <a:ext cx="154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90760" y="20574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90760" y="251460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90760" y="320040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2480" y="129528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90760" y="36576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90760" y="4724280"/>
            <a:ext cx="15480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90760" y="5486400"/>
            <a:ext cx="1548000" cy="3808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33960" y="25909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33960" y="34290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76560" y="2286000"/>
            <a:ext cx="2131200" cy="647640"/>
            <a:chOff x="6676560" y="2286000"/>
            <a:chExt cx="2131200" cy="647640"/>
          </a:xfrm>
        </p:grpSpPr>
        <p:sp>
          <p:nvSpPr>
            <p:cNvPr id="201" name=""/>
            <p:cNvSpPr/>
            <p:nvPr/>
          </p:nvSpPr>
          <p:spPr>
            <a:xfrm>
              <a:off x="7302600" y="2286000"/>
              <a:ext cx="1505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E does n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t her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6676560" y="2435400"/>
              <a:ext cx="70956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133960" y="4343400"/>
            <a:ext cx="1548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33960" y="4952880"/>
            <a:ext cx="1548000" cy="3812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33960" y="4343400"/>
            <a:ext cx="15480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24840" y="4343400"/>
            <a:ext cx="136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rag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40D-79D7-4784-BDD8-935B2A199016}" type="slidenum">
              <a:t>19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5084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view of hardware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cesses and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currency: mutual exclusion and synchro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adlock and Sta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Memor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/O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7F-FBCD-49A2-B537-FDE048C79B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lacement algorith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1360" y="1219320"/>
            <a:ext cx="82454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acement algorithm is very important to minimise the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free partition to split when a process must be lo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smallest partition which the process fi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generates a small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first partition we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next partition after the last one we hav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one is best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best! depends on the sequence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678-F022-4E43-B6A1-694E90E21B5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ddy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8160" y="1219320"/>
            <a:ext cx="82882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4880" indent="-52488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similar to the dynamic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tions can only be of siz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there is one singl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rocess of size s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smallest i such that s &lt;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 = ln(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a block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n it is assigne to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, find the smallest block with size greater than s, suppose it is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lit the block into two smaller blocks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4160" indent="-33624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==k-1, assign one block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4160" indent="-33624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go to 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AF7-AAAE-4DE4-BB06-AD79C82FD8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ddy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 good compromise between speed and need to reduce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l fragmentation is not so big, especially for smal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ther superi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n some special application it is useful and it is still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F8B-09E9-469F-8D50-D8648CCC8F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672-10A0-4699-9E7E-F0538A4BBF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2480" y="1218960"/>
            <a:ext cx="810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way to relocate the process when it is first loaded and when it is swapped i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the address references in the program must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l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o actual address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address: a reference in memory made by the program that needs to be translated into actual addres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ve address: a reference in memory relative to some know point, for example the beginning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address: the real address in the physical memory after th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302-ABD8-4A71-88DD-692A8EDFD7C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ardware support for 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high-end processor have an internal module called MMU (memory management uni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reference in memory is first passed to the MMU that actually translates the logical address into a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8D5-FE9D-4B5F-951D-D46A12E7BA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is divided in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am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mall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similar to fixed 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se are very small (tipically 4K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mory of each process is also divided into pages of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age of the process can be loaded into on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ges must not be necessarily consecutive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fragmentation is very s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the last part of the las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rnal fragmentation i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pages can be moved out 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does not need to be entirely on the main memory at the sam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DF7-928D-4CD5-816D-D44C321C5BE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s an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8360" y="18288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50040" y="59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484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50040" y="1447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54840" y="1447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48360" y="22860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48360" y="27432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48360" y="32004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48360" y="36576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48360" y="41148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48360" y="45720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48360" y="50292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360" y="54864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70000" y="1447920"/>
            <a:ext cx="1081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fram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81200" y="17524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0" y="22096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0" y="26668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1200" y="31240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0" y="35812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6760" y="1386000"/>
            <a:ext cx="135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87680" y="48006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87680" y="52578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87680" y="57150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96600" y="4433760"/>
            <a:ext cx="135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1880" y="41148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48360" y="45720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48360" y="50292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41880" y="22860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48360" y="27432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48360" y="36576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8360" y="32004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48360" y="54864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7B2-181B-4A37-9320-47060B50D332}" type="slidenum">
              <a:t>27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logical address can be divided into two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part is the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cond part is the offset relative to the beginning of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pages of 4 Kb, addresses on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 bits are for pag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 bits are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maintains a page table for ea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ach page, it stores the frame address in the re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ranslate logical addresses into physical addresses we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ain the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ain the fram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the offset to the fram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support: see nex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9D1-64E2-4C75-856B-0A965E6278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75000" y="1838160"/>
            <a:ext cx="27432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8200" y="183816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7440" y="173664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08840" y="145728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5240" y="145728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87680" y="29052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1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30880" y="29052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30880" y="31338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30880" y="33624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30880" y="35910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38196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30880" y="40482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30880" y="42768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30880" y="45054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30880" y="47340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68240" y="5038560"/>
            <a:ext cx="149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64240" y="29052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64240" y="31338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64240" y="33624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64240" y="35910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64240" y="38196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64240" y="40482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64240" y="42768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64240" y="45054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64240" y="47340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7680" y="31338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87680" y="33624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11...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87680" y="35910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10...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87680" y="38196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87680" y="40482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00...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87680" y="42768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87680" y="45054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00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87680" y="47340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9800" y="2219400"/>
            <a:ext cx="1415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6520" y="2523960"/>
            <a:ext cx="6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58" idx="2"/>
            <a:endCxn id="263" idx="0"/>
          </p:cNvCxnSpPr>
          <p:nvPr/>
        </p:nvCxnSpPr>
        <p:spPr>
          <a:xfrm flipV="1" rot="10800000">
            <a:off x="3058560" y="2066400"/>
            <a:ext cx="16880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4572000" y="4113360"/>
            <a:ext cx="2743200" cy="1611000"/>
            <a:chOff x="4572000" y="4113360"/>
            <a:chExt cx="2743200" cy="1611000"/>
          </a:xfrm>
        </p:grpSpPr>
        <p:sp>
          <p:nvSpPr>
            <p:cNvPr id="295" name=""/>
            <p:cNvSpPr/>
            <p:nvPr/>
          </p:nvSpPr>
          <p:spPr>
            <a:xfrm>
              <a:off x="4572000" y="5495760"/>
              <a:ext cx="27432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1000...00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95920" y="4113360"/>
              <a:ext cx="382680" cy="1374480"/>
              <a:chOff x="5695920" y="4113360"/>
              <a:chExt cx="382680" cy="137448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6076800" y="4113360"/>
                <a:ext cx="1800" cy="13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95920" y="4133880"/>
                <a:ext cx="38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751800" y="2066400"/>
            <a:ext cx="1828800" cy="3657960"/>
            <a:chOff x="6751800" y="2066400"/>
            <a:chExt cx="1828800" cy="3657960"/>
          </a:xfrm>
        </p:grpSpPr>
        <p:sp>
          <p:nvSpPr>
            <p:cNvPr id="300" name=""/>
            <p:cNvSpPr/>
            <p:nvPr/>
          </p:nvSpPr>
          <p:spPr>
            <a:xfrm>
              <a:off x="7313760" y="5495760"/>
              <a:ext cx="126684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0100...1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endCxn id="300" idx="0"/>
            </p:cNvCxnSpPr>
            <p:nvPr/>
          </p:nvCxnSpPr>
          <p:spPr>
            <a:xfrm>
              <a:off x="6751800" y="2066400"/>
              <a:ext cx="1195920" cy="342972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2" name=""/>
          <p:cNvSpPr/>
          <p:nvPr/>
        </p:nvSpPr>
        <p:spPr>
          <a:xfrm>
            <a:off x="3577680" y="5775480"/>
            <a:ext cx="2154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E04-3D22-4210-B367-713295C7823A}" type="slidenum">
              <a:t>29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 for a memor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l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892-5811-4415-B633-C3654DB4B7B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8080" y="1219320"/>
            <a:ext cx="8116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to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gram is divided into “segments” of differe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segment is assigned a base address and a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gram is associated a “segment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similar to paging but segments are fewer and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vision in segments is usually done by the compiler and by the lin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one or more segments for the code, one or more segments fo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F42-4762-4D1C-AA06-EEDA23B185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using paging and segmentation, we are ready to implement a memory management system (virtual memor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, virtual memory is based on pag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hought all modern virtual memory systems use both paging and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start by describing the basic hardware mechanisms necessary to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EC6-716F-423F-BB8F-89F23F55C97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start by analysing the paging mechanism in more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age table, we need two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: is the page is present in memory. In virtual memory it is possible to swap out only some of the proces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: set to 1 when the page is modified. If it is not modified we do not need to write it to disk when we swap out (think of code pages for examp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bits can b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: if the page is shar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: if the page was recently us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062-86D0-45F8-B131-C79425FC56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ardware structures for 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e table must be load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page tables may be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maximum number of elements of a process page 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means that page tables are stor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tables are kerne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stay on the virtual memory of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page table can be swapped out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D08-4BF8-49AF-9DFF-C4ADBC2DBCE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wo-level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ocessor makes use of a two leve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ot page table holds address of segments of the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ge number is divided into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bits for the index in the root 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bits are offsets in the 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mechanism consists in using an 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40B-0D6A-4206-8BDA-8A9658A4485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wo-level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304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972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368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7704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0344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06520" y="2362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06520" y="2590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6520" y="2819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6520" y="3048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28680" y="3276720"/>
            <a:ext cx="20264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oot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ontains the ph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ress of the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evel page tabl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27440" y="2133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27440" y="2362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27440" y="2590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27440" y="2819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27440" y="3276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27440" y="3505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27440" y="3733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3962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2744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2744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2744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86880" y="5545080"/>
            <a:ext cx="233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ontains the ph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ress of the fram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14" idx="2"/>
            <a:endCxn id="320" idx="0"/>
          </p:cNvCxnSpPr>
          <p:nvPr/>
        </p:nvCxnSpPr>
        <p:spPr>
          <a:xfrm flipV="1" rot="10800000">
            <a:off x="2074320" y="1752120"/>
            <a:ext cx="140724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1" idx="3"/>
            <a:endCxn id="329" idx="1"/>
          </p:cNvCxnSpPr>
          <p:nvPr/>
        </p:nvCxnSpPr>
        <p:spPr>
          <a:xfrm>
            <a:off x="2743200" y="2704680"/>
            <a:ext cx="984960" cy="6865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978520" y="3886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3760" y="388620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16" idx="2"/>
            <a:endCxn id="329" idx="0"/>
          </p:cNvCxnSpPr>
          <p:nvPr/>
        </p:nvCxnSpPr>
        <p:spPr>
          <a:xfrm flipV="1" rot="10800000">
            <a:off x="4395240" y="1752120"/>
            <a:ext cx="423000" cy="1524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1" idx="3"/>
            <a:endCxn id="340" idx="1"/>
          </p:cNvCxnSpPr>
          <p:nvPr/>
        </p:nvCxnSpPr>
        <p:spPr>
          <a:xfrm>
            <a:off x="5064120" y="3848040"/>
            <a:ext cx="915120" cy="1533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6409440" y="4191120"/>
            <a:ext cx="1956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15" idx="2"/>
            <a:endCxn id="341" idx="0"/>
          </p:cNvCxnSpPr>
          <p:nvPr/>
        </p:nvCxnSpPr>
        <p:spPr>
          <a:xfrm>
            <a:off x="6118200" y="1752120"/>
            <a:ext cx="1829520" cy="2134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941400" y="5181480"/>
            <a:ext cx="2219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ch table is 4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10 bits of addres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d it occup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actly on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898640" y="4416480"/>
            <a:ext cx="13968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320920" y="4950000"/>
            <a:ext cx="1195560" cy="15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109960" y="3959280"/>
            <a:ext cx="1406520" cy="11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C24-D4AF-44AF-BE52-BED9D6445D36}" type="slidenum">
              <a:t>35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nslation lookaside buffer is used to speed up the paging mechanis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access in memory would require two more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or getting the fram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one for the re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LB is a cache for frame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small array that contains a small subset of elements of the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anaged like 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ing the principle of locality of a program, only rarely we need to access the page table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BD5-5AA0-455B-B79E-FEEEC3A063D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25360" y="3809880"/>
            <a:ext cx="7315200" cy="28195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 (succesful hit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9240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6576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908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9484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640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8280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2209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2438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2666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2895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6520" y="22096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6520" y="24382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6520" y="2666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6520" y="28954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27680" y="3230640"/>
            <a:ext cx="2590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L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nside processo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76360" y="4876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5105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6360" y="5334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77120" y="3886200"/>
            <a:ext cx="2149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root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6548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6548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6548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6548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6548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65480" y="5791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65480" y="6019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5480" y="6248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074320" y="1752120"/>
            <a:ext cx="3023280" cy="553320"/>
            <a:chOff x="2074320" y="1752120"/>
            <a:chExt cx="3023280" cy="553320"/>
          </a:xfrm>
        </p:grpSpPr>
        <p:cxnSp>
          <p:nvCxnSpPr>
            <p:cNvPr id="383" name=""/>
            <p:cNvCxnSpPr/>
            <p:nvPr/>
          </p:nvCxnSpPr>
          <p:spPr>
            <a:xfrm flipV="1" rot="10800000">
              <a:off x="2074320" y="1847520"/>
              <a:ext cx="1686600" cy="45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"/>
            <p:cNvCxnSpPr/>
            <p:nvPr/>
          </p:nvCxnSpPr>
          <p:spPr>
            <a:xfrm flipV="1" rot="10800000">
              <a:off x="2418480" y="1751760"/>
              <a:ext cx="2679120" cy="267120"/>
            </a:xfrm>
            <a:prstGeom prst="bentConnector3">
              <a:avLst>
                <a:gd name="adj1" fmla="val 499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5" name=""/>
          <p:cNvSpPr/>
          <p:nvPr/>
        </p:nvSpPr>
        <p:spPr>
          <a:xfrm>
            <a:off x="4246200" y="2209680"/>
            <a:ext cx="121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in TLB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79880" y="2666880"/>
            <a:ext cx="2320920" cy="228600"/>
            <a:chOff x="4079880" y="2666880"/>
            <a:chExt cx="2320920" cy="228600"/>
          </a:xfrm>
        </p:grpSpPr>
        <p:sp>
          <p:nvSpPr>
            <p:cNvPr id="387" name=""/>
            <p:cNvSpPr/>
            <p:nvPr/>
          </p:nvSpPr>
          <p:spPr>
            <a:xfrm>
              <a:off x="5064120" y="2666880"/>
              <a:ext cx="133668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"/>
            <p:cNvCxnSpPr>
              <a:endCxn id="387" idx="1"/>
            </p:cNvCxnSpPr>
            <p:nvPr/>
          </p:nvCxnSpPr>
          <p:spPr>
            <a:xfrm>
              <a:off x="4079880" y="2781360"/>
              <a:ext cx="9849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9" name=""/>
          <p:cNvSpPr/>
          <p:nvPr/>
        </p:nvSpPr>
        <p:spPr>
          <a:xfrm>
            <a:off x="6400800" y="2666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55" idx="2"/>
            <a:endCxn id="389" idx="0"/>
          </p:cNvCxnSpPr>
          <p:nvPr/>
        </p:nvCxnSpPr>
        <p:spPr>
          <a:xfrm>
            <a:off x="6397560" y="1752480"/>
            <a:ext cx="635760" cy="91512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89" idx="3"/>
            <a:endCxn id="392" idx="3"/>
          </p:cNvCxnSpPr>
          <p:nvPr/>
        </p:nvCxnSpPr>
        <p:spPr>
          <a:xfrm>
            <a:off x="7666200" y="2781360"/>
            <a:ext cx="141840" cy="262944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7733160" y="2133720"/>
            <a:ext cx="11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81960" y="42670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81960" y="47242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81960" y="51814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81960" y="56386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680160" y="395928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07320" y="395928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680160" y="609300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807320" y="609300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8D0-07A3-4A10-A1A5-C886FC0C439B}" type="slidenum">
              <a:t>37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 (miss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25360" y="3809880"/>
            <a:ext cx="7315200" cy="28195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7500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4692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024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7564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756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360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51080" y="20876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51080" y="23162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51080" y="25448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51080" y="27734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20876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23162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25448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27734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5560" y="2971800"/>
            <a:ext cx="2590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L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nside processo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6360" y="4876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76360" y="5105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5334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7636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94400" y="3886200"/>
            <a:ext cx="2149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root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6548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6548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548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6548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6548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65480" y="5791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65480" y="6019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165480" y="6248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2666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04" idx="2"/>
            <a:endCxn id="431" idx="0"/>
          </p:cNvCxnSpPr>
          <p:nvPr/>
        </p:nvCxnSpPr>
        <p:spPr>
          <a:xfrm>
            <a:off x="6679800" y="1752480"/>
            <a:ext cx="35460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1" idx="3"/>
            <a:endCxn id="434" idx="3"/>
          </p:cNvCxnSpPr>
          <p:nvPr/>
        </p:nvCxnSpPr>
        <p:spPr>
          <a:xfrm>
            <a:off x="7666200" y="2781360"/>
            <a:ext cx="141840" cy="262944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7586280" y="2133720"/>
            <a:ext cx="1337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05" idx="2"/>
            <a:endCxn id="423" idx="0"/>
          </p:cNvCxnSpPr>
          <p:nvPr/>
        </p:nvCxnSpPr>
        <p:spPr>
          <a:xfrm flipV="1" rot="10800000">
            <a:off x="3831480" y="1752120"/>
            <a:ext cx="1545480" cy="2743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03" idx="2"/>
            <a:endCxn id="418" idx="0"/>
          </p:cNvCxnSpPr>
          <p:nvPr/>
        </p:nvCxnSpPr>
        <p:spPr>
          <a:xfrm flipV="1" rot="10800000">
            <a:off x="2144160" y="1752120"/>
            <a:ext cx="1897560" cy="3125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19" idx="3"/>
            <a:endCxn id="423" idx="1"/>
          </p:cNvCxnSpPr>
          <p:nvPr/>
        </p:nvCxnSpPr>
        <p:spPr>
          <a:xfrm flipV="1">
            <a:off x="2812680" y="4609440"/>
            <a:ext cx="3531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4" idx="3"/>
            <a:endCxn id="440" idx="2"/>
          </p:cNvCxnSpPr>
          <p:nvPr/>
        </p:nvCxnSpPr>
        <p:spPr>
          <a:xfrm flipV="1">
            <a:off x="4500360" y="2895120"/>
            <a:ext cx="1230840" cy="1944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064120" y="2666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81960" y="42670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81960" y="47242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81960" y="51814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81960" y="56386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680160" y="395928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807320" y="395928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680160" y="609300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807320" y="609300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0" idx="1"/>
            <a:endCxn id="410" idx="3"/>
          </p:cNvCxnSpPr>
          <p:nvPr/>
        </p:nvCxnSpPr>
        <p:spPr>
          <a:xfrm rot="10800000">
            <a:off x="3585600" y="2429640"/>
            <a:ext cx="1477080" cy="35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D3C-C0C3-4D48-A63B-D838BBCBC706}" type="slidenum">
              <a:t>38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fa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f a page is not present in main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process accesses a page with P=0, an exception (trap) occurs and an operating system interrupt handler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rupt is part of the virtual memory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must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to load just one page or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to unload some oth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615-4BB6-42AA-851B-6F1918343C9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programs can be in memory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o not know where in memory the program will be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over, a program can be swapp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is swapped in, we cannot expect it to be loaded in the sam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deal with absolute addr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an absolute branch in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FF1-87DD-46FD-B6C0-82C5F28E78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ost modern processors, paging and segmentation techniques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external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ce way of supporting 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internal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5D5-33BD-410F-B4CF-4F73EF02FA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2A1-A37D-4D3B-80DB-5EBDB48B2A2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bining segments and p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8240" y="1219320"/>
            <a:ext cx="791856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rocess, a set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segment, a different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ress is divided into thre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men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set in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egment is associated a base address (that starts with the page table) and a bound address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t the segment base address by looking in the segmen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with the 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o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 the page numer: obtain an address in a pag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 the fram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 the offset: obtain the final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425-78F7-4EF6-BF17-C7E1BEA09F5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s and p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60600" y="16002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16002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33960" y="16002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85840" y="1219320"/>
            <a:ext cx="1543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gment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69280" y="1219320"/>
            <a:ext cx="111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13040" y="1219320"/>
            <a:ext cx="79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7640" y="43434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4572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47640" y="48006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47640" y="5029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47640" y="54864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47640" y="5715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47640" y="59436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47640" y="6172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>
            <a:stCxn id="458" idx="1"/>
            <a:endCxn id="464" idx="1"/>
          </p:cNvCxnSpPr>
          <p:nvPr/>
        </p:nvCxnSpPr>
        <p:spPr>
          <a:xfrm flipV="1" rot="10800000">
            <a:off x="1546920" y="1714320"/>
            <a:ext cx="915120" cy="27439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1215720" y="1981080"/>
            <a:ext cx="880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el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59" idx="2"/>
            <a:endCxn id="464" idx="0"/>
          </p:cNvCxnSpPr>
          <p:nvPr/>
        </p:nvCxnSpPr>
        <p:spPr>
          <a:xfrm flipV="1" rot="10800000">
            <a:off x="2214000" y="1828440"/>
            <a:ext cx="2180160" cy="25153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5486400" y="4572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1640" y="45720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6" idx="3"/>
            <a:endCxn id="475" idx="1"/>
          </p:cNvCxnSpPr>
          <p:nvPr/>
        </p:nvCxnSpPr>
        <p:spPr>
          <a:xfrm flipV="1">
            <a:off x="2882880" y="4685760"/>
            <a:ext cx="2604240" cy="2293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60" idx="3"/>
            <a:endCxn id="476" idx="0"/>
          </p:cNvCxnSpPr>
          <p:nvPr/>
        </p:nvCxnSpPr>
        <p:spPr>
          <a:xfrm>
            <a:off x="6609960" y="1714320"/>
            <a:ext cx="950040" cy="285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75440" y="2895480"/>
            <a:ext cx="352080" cy="3812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93600" y="3657600"/>
            <a:ext cx="16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79" idx="4"/>
            <a:endCxn id="480" idx="0"/>
          </p:cNvCxnSpPr>
          <p:nvPr/>
        </p:nvCxnSpPr>
        <p:spPr>
          <a:xfrm flipH="1">
            <a:off x="5438160" y="3276720"/>
            <a:ext cx="11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2460600" y="27432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99200" y="2362320"/>
            <a:ext cx="100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60600" y="29718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60600" y="32004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60600" y="34290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58" idx="1"/>
            <a:endCxn id="484" idx="1"/>
          </p:cNvCxnSpPr>
          <p:nvPr/>
        </p:nvCxnSpPr>
        <p:spPr>
          <a:xfrm>
            <a:off x="2460600" y="1714680"/>
            <a:ext cx="2160" cy="1372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3"/>
            <a:endCxn id="479" idx="2"/>
          </p:cNvCxnSpPr>
          <p:nvPr/>
        </p:nvCxnSpPr>
        <p:spPr>
          <a:xfrm>
            <a:off x="3657600" y="3086280"/>
            <a:ext cx="1618560" cy="21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79" idx="6"/>
            <a:endCxn id="476" idx="0"/>
          </p:cNvCxnSpPr>
          <p:nvPr/>
        </p:nvCxnSpPr>
        <p:spPr>
          <a:xfrm>
            <a:off x="5626080" y="3085920"/>
            <a:ext cx="1936080" cy="1486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5576040" y="2681280"/>
            <a:ext cx="35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06480" y="3214800"/>
            <a:ext cx="3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34640" y="5530680"/>
            <a:ext cx="272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one per each segment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D9B-A5BB-46A5-8FBE-87F7667E28B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1197000"/>
            <a:ext cx="84582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omputer system, the virtual address space consists of addresses of 16 bits length. The processor uses pages of 1 Kb (i.e. 10 bits). Moreover, the processor has a TLB containing only 2 page table entries. The TLB is managed with a LRU policy. Consider the following page table for process 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06480" y="2814480"/>
            <a:ext cx="2181240" cy="3776760"/>
            <a:chOff x="906480" y="2814480"/>
            <a:chExt cx="2181240" cy="3776760"/>
          </a:xfrm>
        </p:grpSpPr>
        <p:sp>
          <p:nvSpPr>
            <p:cNvPr id="496" name=""/>
            <p:cNvSpPr/>
            <p:nvPr/>
          </p:nvSpPr>
          <p:spPr>
            <a:xfrm>
              <a:off x="2657520" y="542772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81280" y="542772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06480" y="542772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57520" y="581508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81280" y="581508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6480" y="581508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57520" y="504036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81280" y="504036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6480" y="504036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57520" y="465300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81280" y="465300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6480" y="465300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57520" y="3882960"/>
              <a:ext cx="4302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81280" y="3882960"/>
              <a:ext cx="8762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06480" y="3882960"/>
              <a:ext cx="874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7520" y="4267080"/>
              <a:ext cx="4302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1280" y="4267080"/>
              <a:ext cx="8762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6480" y="4267080"/>
              <a:ext cx="874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57520" y="620244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81280" y="620244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06480" y="620244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57520" y="3500280"/>
              <a:ext cx="4302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81280" y="3500280"/>
              <a:ext cx="8762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06480" y="3500280"/>
              <a:ext cx="8748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57520" y="3195720"/>
              <a:ext cx="430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1280" y="3195720"/>
              <a:ext cx="876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6480" y="3195720"/>
              <a:ext cx="874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57520" y="2814480"/>
              <a:ext cx="430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81280" y="2814480"/>
              <a:ext cx="876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06480" y="2814480"/>
              <a:ext cx="87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6480" y="2814480"/>
              <a:ext cx="2179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6480" y="319572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06480" y="35002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6480" y="38829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06480" y="658980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6480" y="2814480"/>
              <a:ext cx="1440" cy="37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81280" y="2814480"/>
              <a:ext cx="1440" cy="37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57520" y="2814480"/>
              <a:ext cx="1440" cy="37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86280" y="2814480"/>
              <a:ext cx="1440" cy="37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06480" y="465300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06480" y="42670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06480" y="504036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06480" y="542772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06480" y="6202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6480" y="581508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727440" y="2743200"/>
            <a:ext cx="4959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the TLB is empty. For each memory reference (in read only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pute the real memory address after the translation, or write PF for a page fault, or IA for an illegal ac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pute how many memory accesses are necessary (consider the TLB mechanism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emory references in next slid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D5-4B95-496F-9668-3B6F798743B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547640" y="1227240"/>
            <a:ext cx="2181240" cy="4005000"/>
            <a:chOff x="1547640" y="1227240"/>
            <a:chExt cx="2181240" cy="4005000"/>
          </a:xfrm>
        </p:grpSpPr>
        <p:sp>
          <p:nvSpPr>
            <p:cNvPr id="544" name=""/>
            <p:cNvSpPr/>
            <p:nvPr/>
          </p:nvSpPr>
          <p:spPr>
            <a:xfrm>
              <a:off x="3297240" y="406872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21000" y="406872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47640" y="406872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97240" y="445608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21000" y="445608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47640" y="445608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7240" y="368136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21000" y="368136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47640" y="368136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97240" y="329400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21000" y="329400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47640" y="329400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97240" y="2523960"/>
              <a:ext cx="4302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1000" y="2523960"/>
              <a:ext cx="876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47640" y="2523960"/>
              <a:ext cx="874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97240" y="2908440"/>
              <a:ext cx="4302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21000" y="2908440"/>
              <a:ext cx="876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47640" y="2908440"/>
              <a:ext cx="874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97240" y="484344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1000" y="484344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47640" y="484344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97240" y="2141640"/>
              <a:ext cx="4302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21000" y="2141640"/>
              <a:ext cx="8762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47640" y="2141640"/>
              <a:ext cx="8748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97240" y="1760400"/>
              <a:ext cx="430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21000" y="1760400"/>
              <a:ext cx="876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47640" y="1760400"/>
              <a:ext cx="87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7240" y="1227240"/>
              <a:ext cx="430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1000" y="1227240"/>
              <a:ext cx="876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47640" y="1227240"/>
              <a:ext cx="87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47640" y="122724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7640" y="176040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47640" y="21416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47640" y="25239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47640" y="523080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7640" y="1227240"/>
              <a:ext cx="1800" cy="40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21000" y="1227240"/>
              <a:ext cx="144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97240" y="1227240"/>
              <a:ext cx="144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1227240"/>
              <a:ext cx="1440" cy="40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47640" y="329400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47640" y="2908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47640" y="36813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47640" y="406872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47640" y="4843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47640" y="44560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994200" y="1227240"/>
            <a:ext cx="4657680" cy="4008240"/>
            <a:chOff x="3994200" y="1227240"/>
            <a:chExt cx="4657680" cy="4008240"/>
          </a:xfrm>
        </p:grpSpPr>
        <p:sp>
          <p:nvSpPr>
            <p:cNvPr id="590" name=""/>
            <p:cNvSpPr/>
            <p:nvPr/>
          </p:nvSpPr>
          <p:spPr>
            <a:xfrm>
              <a:off x="7877160" y="253512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07240" y="253512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08600" y="2535120"/>
              <a:ext cx="2620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0111 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77160" y="292104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07240" y="292104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08600" y="292104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 0000 1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7160" y="330660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07240" y="330660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08600" y="330660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 1000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77160" y="369252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07240" y="369252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8600" y="369252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77160" y="407844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07240" y="407844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08600" y="407844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77160" y="446400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07240" y="446400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8600" y="446400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77160" y="484992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07240" y="484992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08600" y="484992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 1111 0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77160" y="2158920"/>
              <a:ext cx="7747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7240" y="2158920"/>
              <a:ext cx="1969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08600" y="2158920"/>
              <a:ext cx="2571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 0000 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77160" y="176040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7240" y="1760400"/>
              <a:ext cx="1969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08600" y="1760400"/>
              <a:ext cx="25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0101 0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77160" y="1227240"/>
              <a:ext cx="774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# mem ac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07240" y="1227240"/>
              <a:ext cx="1969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hysical add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8600" y="1227240"/>
              <a:ext cx="189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Virtual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4200" y="1227240"/>
              <a:ext cx="465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08600" y="17604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08600" y="215892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08600" y="253512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994200" y="5230440"/>
              <a:ext cx="4649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08600" y="1227240"/>
              <a:ext cx="1440" cy="40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07240" y="1227240"/>
              <a:ext cx="1440" cy="40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77160" y="1227240"/>
              <a:ext cx="1440" cy="40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646840" y="1227240"/>
              <a:ext cx="4680" cy="400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08600" y="484992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08600" y="44640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08600" y="407844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08600" y="369252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08600" y="33066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08600" y="292104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907240" y="1760400"/>
            <a:ext cx="19699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010 10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1 0101 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25360" y="305604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25360" y="412272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07240" y="214164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101 1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07240" y="252252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010 10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1 0111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77160" y="1760400"/>
            <a:ext cx="7747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877160" y="214164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877160" y="252252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07240" y="2903400"/>
            <a:ext cx="19699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101 1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 0000 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877160" y="2903400"/>
            <a:ext cx="7747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07240" y="328464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010 0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 1000 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25360" y="450360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877160" y="328464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384720" y="560232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84720" y="585468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8160" y="560232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18160" y="585468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84720" y="5602320"/>
            <a:ext cx="2649240" cy="250920"/>
            <a:chOff x="3384720" y="5602320"/>
            <a:chExt cx="2649240" cy="250920"/>
          </a:xfrm>
        </p:grpSpPr>
        <p:sp>
          <p:nvSpPr>
            <p:cNvPr id="653" name=""/>
            <p:cNvSpPr/>
            <p:nvPr/>
          </p:nvSpPr>
          <p:spPr>
            <a:xfrm>
              <a:off x="3384720" y="560232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8160" y="560232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384720" y="5854680"/>
            <a:ext cx="2649240" cy="250920"/>
            <a:chOff x="3384720" y="5854680"/>
            <a:chExt cx="2649240" cy="250920"/>
          </a:xfrm>
        </p:grpSpPr>
        <p:sp>
          <p:nvSpPr>
            <p:cNvPr id="656" name=""/>
            <p:cNvSpPr/>
            <p:nvPr/>
          </p:nvSpPr>
          <p:spPr>
            <a:xfrm>
              <a:off x="3384720" y="585468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8160" y="585468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1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354400" y="5641920"/>
            <a:ext cx="771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384720" y="5602320"/>
            <a:ext cx="2649240" cy="250920"/>
            <a:chOff x="3384720" y="5602320"/>
            <a:chExt cx="2649240" cy="250920"/>
          </a:xfrm>
        </p:grpSpPr>
        <p:sp>
          <p:nvSpPr>
            <p:cNvPr id="660" name=""/>
            <p:cNvSpPr/>
            <p:nvPr/>
          </p:nvSpPr>
          <p:spPr>
            <a:xfrm>
              <a:off x="3384720" y="5602320"/>
              <a:ext cx="1315800" cy="25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18160" y="5602320"/>
              <a:ext cx="1315800" cy="25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65-2CF3-4E01-A5EB-2B8567BA8E8A}" type="slidenum">
              <a:t>45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ING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RTUAL MEMORY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0BB-4B7C-4037-8DE9-CA676F65183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11000" y="1218960"/>
            <a:ext cx="79311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ifferent techniques can be used to implement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all techniques are based on p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“things” to be dec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tc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AND PAGING: Pages can be loaded on demand (i.e. only when a page fault occu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GING: Pages can also be loaded in advance (to take advance of the disk mechanism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paging, this is not a problem, since all frames are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acem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page has to be u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772-F6FF-4D45-BCDC-76B205044B2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1280" y="1218960"/>
            <a:ext cx="80740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any pages are to be allocated to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to unloa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me process that made the page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ll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ng the set of pages to be consider, which has to be actually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1 and 2 are referred as the “resident set management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3 is referred as the “replacement policy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D99-818C-4A68-9C64-F97553296CE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start from the la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bjective is to replace the pages so to have the least number of page 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al (cannot be implemen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in first-out (FIF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al policy is used as a reference to see how good is on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the page for which the next reference time is the lon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lgorithm results in the least number of page 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t is not possible to know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B25-4102-4177-9879-8252D2CD43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process must be protected from the malicious or unwanted interferences from oth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not be done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address calculation in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 contrast with relo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to do a check at run-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5DC-A1DE-4521-BACC-AAA03F25E14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RU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age, maintain a time-stamp of the time the page was referenc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load the page with the smalled time-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takes a lot of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quires a list of pages ordered by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a page is referenced, update the time-stamp and re-order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ordering takes up a lo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feasible in a real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E60-D1C5-4AA0-A160-BABB03BF219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page loaded in memory is the first to be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circular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page is loaded, insert it in the head of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page must be unloaded, remove from the tail of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ittl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ver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7D2-24DF-4074-A79B-597525C86BC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 combination of both LRU and 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a reasonabl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age has a use bit (U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the page is first loaded,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the page is accessed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ne pointer to a certain page, initially pag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all frames in turn, 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age has U=1 -&gt; U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age has U=0, unloa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0DE-4F4C-40B3-9E7D-AB59E115B96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Clock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67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68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68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69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69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69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70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70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1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71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1336680" y="1336680"/>
            <a:ext cx="7032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ally, all use bit are se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age is loaded,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719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361040" y="3657600"/>
            <a:ext cx="734040" cy="685800"/>
            <a:chOff x="4361040" y="3657600"/>
            <a:chExt cx="734040" cy="685800"/>
          </a:xfrm>
        </p:grpSpPr>
        <p:sp>
          <p:nvSpPr>
            <p:cNvPr id="723" name=""/>
            <p:cNvSpPr/>
            <p:nvPr/>
          </p:nvSpPr>
          <p:spPr>
            <a:xfrm>
              <a:off x="4361040" y="39625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16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664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727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751800" y="5029200"/>
            <a:ext cx="734040" cy="685800"/>
            <a:chOff x="6751800" y="5029200"/>
            <a:chExt cx="734040" cy="685800"/>
          </a:xfrm>
        </p:grpSpPr>
        <p:sp>
          <p:nvSpPr>
            <p:cNvPr id="731" name=""/>
            <p:cNvSpPr/>
            <p:nvPr/>
          </p:nvSpPr>
          <p:spPr>
            <a:xfrm>
              <a:off x="675180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024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5716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35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165480" y="3657600"/>
            <a:ext cx="734400" cy="685800"/>
            <a:chOff x="3165480" y="3657600"/>
            <a:chExt cx="734400" cy="685800"/>
          </a:xfrm>
        </p:grpSpPr>
        <p:sp>
          <p:nvSpPr>
            <p:cNvPr id="739" name=""/>
            <p:cNvSpPr/>
            <p:nvPr/>
          </p:nvSpPr>
          <p:spPr>
            <a:xfrm>
              <a:off x="31654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6480" y="39625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71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743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361040" y="5029200"/>
            <a:ext cx="734040" cy="685800"/>
            <a:chOff x="4361040" y="5029200"/>
            <a:chExt cx="734040" cy="685800"/>
          </a:xfrm>
        </p:grpSpPr>
        <p:sp>
          <p:nvSpPr>
            <p:cNvPr id="747" name=""/>
            <p:cNvSpPr/>
            <p:nvPr/>
          </p:nvSpPr>
          <p:spPr>
            <a:xfrm>
              <a:off x="4361040" y="53341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1168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6640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1957320" y="5029200"/>
            <a:ext cx="734400" cy="685800"/>
            <a:chOff x="1957320" y="5029200"/>
            <a:chExt cx="734400" cy="685800"/>
          </a:xfrm>
        </p:grpSpPr>
        <p:sp>
          <p:nvSpPr>
            <p:cNvPr id="751" name=""/>
            <p:cNvSpPr/>
            <p:nvPr/>
          </p:nvSpPr>
          <p:spPr>
            <a:xfrm>
              <a:off x="195732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0976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6304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165480" y="5029200"/>
            <a:ext cx="734400" cy="685800"/>
            <a:chOff x="3165480" y="5029200"/>
            <a:chExt cx="734400" cy="685800"/>
          </a:xfrm>
        </p:grpSpPr>
        <p:sp>
          <p:nvSpPr>
            <p:cNvPr id="755" name=""/>
            <p:cNvSpPr/>
            <p:nvPr/>
          </p:nvSpPr>
          <p:spPr>
            <a:xfrm>
              <a:off x="316548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16480" y="53341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120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CBB-2BB8-4131-8A8A-07C53E8E1E78}" type="slidenum">
              <a:t>53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3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3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dur="indefinite" fill="hold">
                            <p:stCondLst>
                              <p:cond delay="7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dur="indefinite" fill="hold">
                            <p:stCondLst>
                              <p:cond delay="8"/>
                            </p:stCondLst>
                            <p:childTnLst>
                              <p:par>
                                <p:cTn id="3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fill="hold">
                            <p:stCondLst>
                              <p:cond delay="9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Clock: page fa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replac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ointer is shifted clockwise until it finds U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t passes, if it finds U=1 then sets U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time, the first page is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76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76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77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77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77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78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78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9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79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79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968480" y="3657600"/>
            <a:ext cx="734400" cy="1295280"/>
            <a:chOff x="1968480" y="3657600"/>
            <a:chExt cx="734400" cy="1295280"/>
          </a:xfrm>
        </p:grpSpPr>
        <p:grpSp>
          <p:nvGrpSpPr>
            <p:cNvPr id="803" name=""/>
            <p:cNvGrpSpPr/>
            <p:nvPr/>
          </p:nvGrpSpPr>
          <p:grpSpPr>
            <a:xfrm>
              <a:off x="1968480" y="3657600"/>
              <a:ext cx="734400" cy="685800"/>
              <a:chOff x="1968480" y="3657600"/>
              <a:chExt cx="734400" cy="685800"/>
            </a:xfrm>
          </p:grpSpPr>
          <p:sp>
            <p:nvSpPr>
              <p:cNvPr id="804" name=""/>
              <p:cNvSpPr/>
              <p:nvPr/>
            </p:nvSpPr>
            <p:spPr>
              <a:xfrm>
                <a:off x="196848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2092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3742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2039760" y="4419720"/>
              <a:ext cx="56376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165480" y="3657600"/>
            <a:ext cx="767520" cy="1295280"/>
            <a:chOff x="3165480" y="3657600"/>
            <a:chExt cx="76752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3165480" y="3657600"/>
              <a:ext cx="767520" cy="685800"/>
              <a:chOff x="3165480" y="3657600"/>
              <a:chExt cx="767520" cy="685800"/>
            </a:xfrm>
          </p:grpSpPr>
          <p:sp>
            <p:nvSpPr>
              <p:cNvPr id="811" name=""/>
              <p:cNvSpPr/>
              <p:nvPr/>
            </p:nvSpPr>
            <p:spPr>
              <a:xfrm>
                <a:off x="316548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4492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60432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2400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572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6756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96276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79800" y="57913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37500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67560" y="57913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96276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4373640" y="3657600"/>
            <a:ext cx="766080" cy="1295280"/>
            <a:chOff x="4373640" y="3657600"/>
            <a:chExt cx="766080" cy="1295280"/>
          </a:xfrm>
        </p:grpSpPr>
        <p:grpSp>
          <p:nvGrpSpPr>
            <p:cNvPr id="824" name=""/>
            <p:cNvGrpSpPr/>
            <p:nvPr/>
          </p:nvGrpSpPr>
          <p:grpSpPr>
            <a:xfrm>
              <a:off x="4373640" y="3657600"/>
              <a:ext cx="766080" cy="685800"/>
              <a:chOff x="4373640" y="3657600"/>
              <a:chExt cx="766080" cy="685800"/>
            </a:xfrm>
          </p:grpSpPr>
          <p:sp>
            <p:nvSpPr>
              <p:cNvPr id="825" name=""/>
              <p:cNvSpPr/>
              <p:nvPr/>
            </p:nvSpPr>
            <p:spPr>
              <a:xfrm>
                <a:off x="437364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5308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1104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44496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556240" y="3657600"/>
            <a:ext cx="766080" cy="1295280"/>
            <a:chOff x="5556240" y="3657600"/>
            <a:chExt cx="766080" cy="1295280"/>
          </a:xfrm>
        </p:grpSpPr>
        <p:grpSp>
          <p:nvGrpSpPr>
            <p:cNvPr id="830" name=""/>
            <p:cNvGrpSpPr/>
            <p:nvPr/>
          </p:nvGrpSpPr>
          <p:grpSpPr>
            <a:xfrm>
              <a:off x="5556240" y="3657600"/>
              <a:ext cx="766080" cy="685800"/>
              <a:chOff x="5556240" y="3657600"/>
              <a:chExt cx="766080" cy="685800"/>
            </a:xfrm>
          </p:grpSpPr>
          <p:sp>
            <p:nvSpPr>
              <p:cNvPr id="831" name=""/>
              <p:cNvSpPr/>
              <p:nvPr/>
            </p:nvSpPr>
            <p:spPr>
              <a:xfrm>
                <a:off x="555624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3568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99364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5632560" y="44197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680160" y="3657600"/>
            <a:ext cx="767520" cy="1295280"/>
            <a:chOff x="6680160" y="3657600"/>
            <a:chExt cx="767520" cy="1295280"/>
          </a:xfrm>
        </p:grpSpPr>
        <p:grpSp>
          <p:nvGrpSpPr>
            <p:cNvPr id="836" name=""/>
            <p:cNvGrpSpPr/>
            <p:nvPr/>
          </p:nvGrpSpPr>
          <p:grpSpPr>
            <a:xfrm>
              <a:off x="6680160" y="3657600"/>
              <a:ext cx="767520" cy="685800"/>
              <a:chOff x="6680160" y="3657600"/>
              <a:chExt cx="767520" cy="685800"/>
            </a:xfrm>
          </p:grpSpPr>
          <p:sp>
            <p:nvSpPr>
              <p:cNvPr id="837" name=""/>
              <p:cNvSpPr/>
              <p:nvPr/>
            </p:nvSpPr>
            <p:spPr>
              <a:xfrm>
                <a:off x="668016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5960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190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675792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968480" y="5029200"/>
            <a:ext cx="767520" cy="1295280"/>
            <a:chOff x="1968480" y="5029200"/>
            <a:chExt cx="767520" cy="1295280"/>
          </a:xfrm>
        </p:grpSpPr>
        <p:grpSp>
          <p:nvGrpSpPr>
            <p:cNvPr id="842" name=""/>
            <p:cNvGrpSpPr/>
            <p:nvPr/>
          </p:nvGrpSpPr>
          <p:grpSpPr>
            <a:xfrm>
              <a:off x="1968480" y="5029200"/>
              <a:ext cx="767520" cy="685800"/>
              <a:chOff x="1968480" y="5029200"/>
              <a:chExt cx="767520" cy="685800"/>
            </a:xfrm>
          </p:grpSpPr>
          <p:sp>
            <p:nvSpPr>
              <p:cNvPr id="843" name=""/>
              <p:cNvSpPr/>
              <p:nvPr/>
            </p:nvSpPr>
            <p:spPr>
              <a:xfrm>
                <a:off x="196848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4792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40732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04480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178080" y="5029200"/>
            <a:ext cx="766080" cy="1295280"/>
            <a:chOff x="3178080" y="5029200"/>
            <a:chExt cx="766080" cy="1295280"/>
          </a:xfrm>
        </p:grpSpPr>
        <p:grpSp>
          <p:nvGrpSpPr>
            <p:cNvPr id="848" name=""/>
            <p:cNvGrpSpPr/>
            <p:nvPr/>
          </p:nvGrpSpPr>
          <p:grpSpPr>
            <a:xfrm>
              <a:off x="3178080" y="5029200"/>
              <a:ext cx="766080" cy="685800"/>
              <a:chOff x="3178080" y="5029200"/>
              <a:chExt cx="766080" cy="685800"/>
            </a:xfrm>
          </p:grpSpPr>
          <p:sp>
            <p:nvSpPr>
              <p:cNvPr id="849" name=""/>
              <p:cNvSpPr/>
              <p:nvPr/>
            </p:nvSpPr>
            <p:spPr>
              <a:xfrm>
                <a:off x="317808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557520" y="5334120"/>
                <a:ext cx="3812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1548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25440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73640" y="5029200"/>
            <a:ext cx="766080" cy="1295280"/>
            <a:chOff x="4373640" y="5029200"/>
            <a:chExt cx="766080" cy="1295280"/>
          </a:xfrm>
        </p:grpSpPr>
        <p:grpSp>
          <p:nvGrpSpPr>
            <p:cNvPr id="854" name=""/>
            <p:cNvGrpSpPr/>
            <p:nvPr/>
          </p:nvGrpSpPr>
          <p:grpSpPr>
            <a:xfrm>
              <a:off x="4373640" y="5029200"/>
              <a:ext cx="766080" cy="685800"/>
              <a:chOff x="4373640" y="5029200"/>
              <a:chExt cx="766080" cy="685800"/>
            </a:xfrm>
          </p:grpSpPr>
          <p:sp>
            <p:nvSpPr>
              <p:cNvPr id="855" name=""/>
              <p:cNvSpPr/>
              <p:nvPr/>
            </p:nvSpPr>
            <p:spPr>
              <a:xfrm>
                <a:off x="437364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75308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1104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4449600" y="57913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556240" y="5029200"/>
            <a:ext cx="766080" cy="1295280"/>
            <a:chOff x="5556240" y="5029200"/>
            <a:chExt cx="766080" cy="1295280"/>
          </a:xfrm>
        </p:grpSpPr>
        <p:grpSp>
          <p:nvGrpSpPr>
            <p:cNvPr id="860" name=""/>
            <p:cNvGrpSpPr/>
            <p:nvPr/>
          </p:nvGrpSpPr>
          <p:grpSpPr>
            <a:xfrm>
              <a:off x="5556240" y="5029200"/>
              <a:ext cx="766080" cy="685800"/>
              <a:chOff x="5556240" y="5029200"/>
              <a:chExt cx="766080" cy="685800"/>
            </a:xfrm>
          </p:grpSpPr>
          <p:sp>
            <p:nvSpPr>
              <p:cNvPr id="861" name=""/>
              <p:cNvSpPr/>
              <p:nvPr/>
            </p:nvSpPr>
            <p:spPr>
              <a:xfrm>
                <a:off x="555624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568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9364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563256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680160" y="5029200"/>
            <a:ext cx="767520" cy="1295280"/>
            <a:chOff x="6680160" y="5029200"/>
            <a:chExt cx="767520" cy="1295280"/>
          </a:xfrm>
        </p:grpSpPr>
        <p:grpSp>
          <p:nvGrpSpPr>
            <p:cNvPr id="866" name=""/>
            <p:cNvGrpSpPr/>
            <p:nvPr/>
          </p:nvGrpSpPr>
          <p:grpSpPr>
            <a:xfrm>
              <a:off x="6680160" y="5029200"/>
              <a:ext cx="767520" cy="685800"/>
              <a:chOff x="6680160" y="5029200"/>
              <a:chExt cx="767520" cy="685800"/>
            </a:xfrm>
          </p:grpSpPr>
          <p:sp>
            <p:nvSpPr>
              <p:cNvPr id="867" name=""/>
              <p:cNvSpPr/>
              <p:nvPr/>
            </p:nvSpPr>
            <p:spPr>
              <a:xfrm>
                <a:off x="668016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5960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1900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6757920" y="57913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968480" y="3657600"/>
            <a:ext cx="734400" cy="1295280"/>
            <a:chOff x="1968480" y="3657600"/>
            <a:chExt cx="734400" cy="1295280"/>
          </a:xfrm>
        </p:grpSpPr>
        <p:grpSp>
          <p:nvGrpSpPr>
            <p:cNvPr id="873" name=""/>
            <p:cNvGrpSpPr/>
            <p:nvPr/>
          </p:nvGrpSpPr>
          <p:grpSpPr>
            <a:xfrm>
              <a:off x="1968480" y="3657600"/>
              <a:ext cx="734400" cy="685800"/>
              <a:chOff x="1968480" y="3657600"/>
              <a:chExt cx="734400" cy="685800"/>
            </a:xfrm>
          </p:grpSpPr>
          <p:sp>
            <p:nvSpPr>
              <p:cNvPr id="874" name=""/>
              <p:cNvSpPr/>
              <p:nvPr/>
            </p:nvSpPr>
            <p:spPr>
              <a:xfrm>
                <a:off x="196848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2092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742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039760" y="4419720"/>
              <a:ext cx="56376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5BA-DFD0-4F79-8228-FF834D17C0EA}" type="slidenum">
              <a:t>54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clock: one more 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suppose that some page is used, and then another page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to be replaced is the least recently used from last clock turn (approximate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88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88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89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89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89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90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90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91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91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91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165480" y="3657600"/>
            <a:ext cx="767520" cy="685800"/>
            <a:chOff x="3165480" y="3657600"/>
            <a:chExt cx="767520" cy="685800"/>
          </a:xfrm>
        </p:grpSpPr>
        <p:sp>
          <p:nvSpPr>
            <p:cNvPr id="923" name=""/>
            <p:cNvSpPr/>
            <p:nvPr/>
          </p:nvSpPr>
          <p:spPr>
            <a:xfrm>
              <a:off x="316548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4492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0432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6694560" y="3657600"/>
            <a:ext cx="767520" cy="685800"/>
            <a:chOff x="6694560" y="3657600"/>
            <a:chExt cx="767520" cy="685800"/>
          </a:xfrm>
        </p:grpSpPr>
        <p:sp>
          <p:nvSpPr>
            <p:cNvPr id="927" name=""/>
            <p:cNvSpPr/>
            <p:nvPr/>
          </p:nvSpPr>
          <p:spPr>
            <a:xfrm>
              <a:off x="669456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7400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1334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4361040" y="5029200"/>
            <a:ext cx="767520" cy="685800"/>
            <a:chOff x="4361040" y="5029200"/>
            <a:chExt cx="767520" cy="685800"/>
          </a:xfrm>
        </p:grpSpPr>
        <p:sp>
          <p:nvSpPr>
            <p:cNvPr id="931" name=""/>
            <p:cNvSpPr/>
            <p:nvPr/>
          </p:nvSpPr>
          <p:spPr>
            <a:xfrm>
              <a:off x="4361040" y="5334120"/>
              <a:ext cx="379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740120" y="5334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9988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4361040" y="3657600"/>
            <a:ext cx="767520" cy="685800"/>
            <a:chOff x="4361040" y="3657600"/>
            <a:chExt cx="767520" cy="685800"/>
          </a:xfrm>
        </p:grpSpPr>
        <p:sp>
          <p:nvSpPr>
            <p:cNvPr id="935" name=""/>
            <p:cNvSpPr/>
            <p:nvPr/>
          </p:nvSpPr>
          <p:spPr>
            <a:xfrm>
              <a:off x="4361040" y="3962520"/>
              <a:ext cx="379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40120" y="3962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9988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165480" y="5029200"/>
            <a:ext cx="767520" cy="685800"/>
            <a:chOff x="3165480" y="5029200"/>
            <a:chExt cx="767520" cy="685800"/>
          </a:xfrm>
        </p:grpSpPr>
        <p:sp>
          <p:nvSpPr>
            <p:cNvPr id="939" name=""/>
            <p:cNvSpPr/>
            <p:nvPr/>
          </p:nvSpPr>
          <p:spPr>
            <a:xfrm>
              <a:off x="3165480" y="53341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44920" y="5334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0432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499000" y="3657600"/>
            <a:ext cx="767880" cy="685800"/>
            <a:chOff x="5499000" y="3657600"/>
            <a:chExt cx="767880" cy="685800"/>
          </a:xfrm>
        </p:grpSpPr>
        <p:sp>
          <p:nvSpPr>
            <p:cNvPr id="943" name=""/>
            <p:cNvSpPr/>
            <p:nvPr/>
          </p:nvSpPr>
          <p:spPr>
            <a:xfrm>
              <a:off x="549900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78440" y="3962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38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375000" y="586728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165480" y="3657600"/>
            <a:ext cx="767520" cy="1295280"/>
            <a:chOff x="3165480" y="3657600"/>
            <a:chExt cx="767520" cy="1295280"/>
          </a:xfrm>
        </p:grpSpPr>
        <p:grpSp>
          <p:nvGrpSpPr>
            <p:cNvPr id="948" name=""/>
            <p:cNvGrpSpPr/>
            <p:nvPr/>
          </p:nvGrpSpPr>
          <p:grpSpPr>
            <a:xfrm>
              <a:off x="3165480" y="3657600"/>
              <a:ext cx="767520" cy="685800"/>
              <a:chOff x="3165480" y="3657600"/>
              <a:chExt cx="767520" cy="685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16548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492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0432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32400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5486400" y="3657600"/>
            <a:ext cx="767520" cy="685800"/>
            <a:chOff x="5486400" y="3657600"/>
            <a:chExt cx="767520" cy="685800"/>
          </a:xfrm>
        </p:grpSpPr>
        <p:sp>
          <p:nvSpPr>
            <p:cNvPr id="954" name=""/>
            <p:cNvSpPr/>
            <p:nvPr/>
          </p:nvSpPr>
          <p:spPr>
            <a:xfrm>
              <a:off x="548640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6584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2524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6681960" y="3657600"/>
            <a:ext cx="775440" cy="685800"/>
            <a:chOff x="6681960" y="3657600"/>
            <a:chExt cx="775440" cy="685800"/>
          </a:xfrm>
        </p:grpSpPr>
        <p:sp>
          <p:nvSpPr>
            <p:cNvPr id="958" name=""/>
            <p:cNvSpPr/>
            <p:nvPr/>
          </p:nvSpPr>
          <p:spPr>
            <a:xfrm>
              <a:off x="6681960" y="3962520"/>
              <a:ext cx="387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67520" y="3962520"/>
              <a:ext cx="3873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2872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911240" y="5029200"/>
            <a:ext cx="769320" cy="685800"/>
            <a:chOff x="1911240" y="5029200"/>
            <a:chExt cx="769320" cy="685800"/>
          </a:xfrm>
        </p:grpSpPr>
        <p:sp>
          <p:nvSpPr>
            <p:cNvPr id="962" name=""/>
            <p:cNvSpPr/>
            <p:nvPr/>
          </p:nvSpPr>
          <p:spPr>
            <a:xfrm>
              <a:off x="1911240" y="53341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90680" y="5334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88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6E7-E535-4EA1-887D-8468A85A2E10}" type="slidenum">
              <a:t>55</a:t>
            </a:fld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4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4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4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4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L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approximat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overhead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is between LRU and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both the U and M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A12-39A9-47ED-9A99-29089686D76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 of unload a page, we can put it in a temporary buffer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is the need for more space, take from the buffer, and move an old page into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page in the buffer is needed, move that page again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if a page is immediately referenced after it has been moved to the buffer, we can move it again in the main memory at very littl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996-DC52-402A-909C-F60BE201042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How many pages are to be allocated to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to unloa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me process that made the page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ll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ng the set of pages to be consider, which has to be actually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FE1-7C69-4DA4-9CA6-46BE0C61212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ident set manag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 of pages in memory for a process is called “resident set s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rge should be the resident 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process is assigned a fixed number of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frames process nev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frames assigned to each process may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BEA-41B8-4B19-99B1-B8CB39EDE45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or more processes should be allowed to share some portion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ermit shard memor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llow two process to share (part of)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in contrast with prote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382-5B7C-4BBB-B856-3D2A69C9D9C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page fault occurs, which page should be unlo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polic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age of the same process should be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age from any process can be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B11-8270-44E9-BE2F-EDB2972111D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 and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ope and the resident set management are no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allocation and loc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frames allocated to process i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allocation and loc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frames allocated to process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, enlarge or restrict the residen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allocation and glob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frames allocated to process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al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228-0DF7-4C2A-83CC-5643B020F08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 and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1: fixed allocation and local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flexible and it is never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ing a priori the number of frames is too restr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3: variable allocation and global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unloaded, which process should be penal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possibilities, but a few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ze of the resident set of the process that made a page fault is in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ze of the resident set of the process that has been penalized is de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4EC-D16B-41FB-9D66-DA5FA5CE8F3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le allocation and local sco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research has been concentrated on this kind of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fault occurs, a frame from the same process’ resident set is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odically, the resident set size is increased or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uitively, if the number of page faults is large, it is better to increase the resident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number of page faults is very low, it is better to decrease the resident set size to make space for oth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mple page fault measurement is not the best thing to 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AED-B401-4C9B-83D8-13CB045471D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(t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k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e set of pages of a process that has been accessed in the las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ts in which the process ha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ing set is a non decreasing function o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reases, the working set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ing set changes as the tim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accesses only 1 page 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secutive units of time, the working set has siz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has a high degree of locality, the working set is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has a “jump” and changes abruptly from one set of pages to another set of pages, the working set enlarges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8C1-84C9-4F1C-83B3-6F38C4A711A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iodically remove from the resident set of a process the pages that are not in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can execute only if its resident set includes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keep track of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st does not always predict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timal value 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known and it depends on the proces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al strategies approximate the working se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6F1-5B3E-4F77-9106-6D9E4238BED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Fault Frequ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the keeping track of the working set, we track the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eference counter for each process, initialized to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a minimum threshold L and a maximum threshold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is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Use bit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the referenc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faul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reference counter is smaller than L, increase the resident se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reference counter is greater than H, decrease the resident set size by unloading the pages with use bi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reference counter to 0, and all us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B53-6B3F-4FAC-858D-E925881FCCF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F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sic idea is to “measure” the frequency of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age faults occur oft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reference counter between two faults does not increase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below L, then in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frequency -&gt; need to in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age faults occur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reference counter between two faults increases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greater then M, then de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frequency -&gt; need to reduc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512-DCBE-4ED1-A27A-8F258A4117C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F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ransient periods, when there is a shift to a new locality, there is a large number of page faults in a shor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erence counter cannot increase much, then always lower tha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ddenly, the size of the resident set could become very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 page fault there is an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ize of the resident set however is not reduced with the sam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ther process could suffer from these memory p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that change location takes all the space in a greed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find a better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628-3526-496F-9FB0-6492BEC3690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le-interval Sampled 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strategy, we define a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beginning of the interval, all use bits are reset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is accessed, its use bi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interval, the use bits ar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pages with use bit = 1 are kept in th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pages with use bit = 0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interval boundaries, the resident set can only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the interval, when a page fault occurs, the resident set is in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8C0-8EBC-49DD-9646-A3FCA6BB357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orga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memory is a linear array of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 program is often organised i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can be compiled separately and then linked togheter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dule should be read-only (for example the code) some other should be read/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can be shared among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2F1-63BC-4DDB-88D4-0C64DADC2FE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S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: minimum duration of the sampling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: maximum duration of the sampling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maximum number of page faults in th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time (e.g. number of memory referenc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virtual time since last sampling instance reaches L, suspend the process and scan the us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ard all the pages with use bit = 0, set all remaining pages’ use bi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, priori to an elapsed virtual time of L, Q page faults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virtual time is less than M, wait until the elapsed time is equal 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virtual time is greater than M, suspend the process and scan again the us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824-B8C9-4574-A1A3-ED2664D04D0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S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val is not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vary between M and L, depending on the amount of time in which Q page faults hav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number of page faults is large (for example during transitions) the interval is short (but never shorter than M), so the resident set cannot b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number of page faults is small, the interval is large (but never larger than L), and the resident set does not change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B08-659B-4EAC-89BF-0DA910E3999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ad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mber of processes that are totally of partially in memory is 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ltiprogramm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: Tr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are too many processes in memory at the same time, the resident sets are necessarily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igh number of page faults is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stem spends most of the time loading pages from the dis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utilisations falls down dra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794-6977-4F99-B029-EB14A4BAD62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ducing the multiprogramming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number of page faults is too large, we must reduce the number of processes in memory, by swapping out some process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=S criter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an time between faults must be equal to the average time needed to load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two are different the multiprogramming level is increased or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rocess to swap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ossibilit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 priorit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ul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s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C5C-B19D-4055-BFAC-2CC674C315BB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hysical organisatio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upport virtual memory, that is virtually infinite, the mass storage memory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re is no more memory space, some process is “swapped 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rocess must execute again, it is “swapped 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wapping is the responsibility of the memory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267-AB6E-4922-B590-763690DED7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628-F3BC-4B85-BC64-B55EDB7348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