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5DC60-7990-4888-819B-DBCEACB5279C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3E02-216A-4CEE-9AF8-D5B1F644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0128-C881-4722-B46D-E731FEDB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0974-D330-4A46-B984-18B1F43F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4232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9848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4232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9848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B390-975C-4962-A5CC-A0DD2DBEC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8BD4-920B-405A-A13B-254994896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40BA-CFEF-4028-933D-697A72BA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C3BB-BBA7-48C7-86D5-37DE5273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4FF4-4DAD-4B1F-A160-754A5763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C069-E087-49BA-9330-EC8CD6CB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237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1589-3E89-4C7A-963D-85F4E134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CEEF-B13F-4948-A84A-98214724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B7D7-5771-4C9D-B614-CA1F120E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6716-1C41-4C20-8286-438AC0DB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ED00-1950-430B-920C-34419B85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0EE8-5A91-43EC-BD9D-F27EACF3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99A2-4E74-41E1-8D53-3CC2D5238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4232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9848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4232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9848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6104-7FD9-4A4E-A69D-CC8A8E50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553B-2357-4948-B427-BA1D9C31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4FDF-E3DA-4430-B828-112DCACF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8BA8-9B94-4C00-B975-F9C6A1F9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237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6EA9-79A6-4C69-9EED-8E1D4366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3659-6236-46D5-B64F-7A6EA9F8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23B1-8EC3-4472-B216-D8D048BF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A1BE-B8A8-4C8F-9D0C-D11EA981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D356AF-979A-43D3-AEE8-70F0D71DBE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38088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b05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219320" cy="119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3733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BBE57-2222-4EEE-B27A-5E0CC59A89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66543" b="49852"/>
          <a:stretch/>
        </p:blipFill>
        <p:spPr>
          <a:xfrm>
            <a:off x="4191120" y="228600"/>
            <a:ext cx="1065240" cy="1066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00ff"/>
          </a:solidFill>
          <a:ln w="9360">
            <a:solidFill>
              <a:srgbClr val="b05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152880" y="1955880"/>
            <a:ext cx="2816280" cy="1438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0" y="1219320"/>
            <a:ext cx="48546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cuola Superiore Sant’Ann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Scheduling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523880" y="5105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useppe Lip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iority - bas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429000" y="1523880"/>
            <a:ext cx="1522440" cy="379440"/>
            <a:chOff x="3429000" y="1523880"/>
            <a:chExt cx="1522440" cy="379440"/>
          </a:xfrm>
        </p:grpSpPr>
        <p:sp>
          <p:nvSpPr>
            <p:cNvPr id="143" name=""/>
            <p:cNvSpPr/>
            <p:nvPr/>
          </p:nvSpPr>
          <p:spPr>
            <a:xfrm>
              <a:off x="3429000" y="1523880"/>
              <a:ext cx="1522440" cy="379440"/>
            </a:xfrm>
            <a:prstGeom prst="roundRect">
              <a:avLst>
                <a:gd name="adj" fmla="val 417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34000" y="1523880"/>
              <a:ext cx="144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16560" y="1523880"/>
              <a:ext cx="144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99120" y="1523880"/>
              <a:ext cx="144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79880" y="1523880"/>
              <a:ext cx="144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62440" y="1523880"/>
              <a:ext cx="144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46440" y="1523880"/>
              <a:ext cx="180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429000" y="2362320"/>
            <a:ext cx="1522440" cy="379440"/>
            <a:chOff x="3429000" y="2362320"/>
            <a:chExt cx="1522440" cy="379440"/>
          </a:xfrm>
        </p:grpSpPr>
        <p:sp>
          <p:nvSpPr>
            <p:cNvPr id="151" name=""/>
            <p:cNvSpPr/>
            <p:nvPr/>
          </p:nvSpPr>
          <p:spPr>
            <a:xfrm>
              <a:off x="3429000" y="2362320"/>
              <a:ext cx="1522440" cy="379440"/>
            </a:xfrm>
            <a:prstGeom prst="roundRect">
              <a:avLst>
                <a:gd name="adj" fmla="val 417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34000" y="2362320"/>
              <a:ext cx="144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16560" y="2362320"/>
              <a:ext cx="144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99120" y="2362320"/>
              <a:ext cx="144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79880" y="2362320"/>
              <a:ext cx="144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62440" y="2362320"/>
              <a:ext cx="144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46440" y="2362320"/>
              <a:ext cx="180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429000" y="3200400"/>
            <a:ext cx="1522440" cy="379440"/>
            <a:chOff x="3429000" y="3200400"/>
            <a:chExt cx="1522440" cy="379440"/>
          </a:xfrm>
        </p:grpSpPr>
        <p:sp>
          <p:nvSpPr>
            <p:cNvPr id="159" name=""/>
            <p:cNvSpPr/>
            <p:nvPr/>
          </p:nvSpPr>
          <p:spPr>
            <a:xfrm>
              <a:off x="3429000" y="3200400"/>
              <a:ext cx="1522440" cy="379440"/>
            </a:xfrm>
            <a:prstGeom prst="roundRect">
              <a:avLst>
                <a:gd name="adj" fmla="val 417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34000" y="3200400"/>
              <a:ext cx="144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16560" y="3200400"/>
              <a:ext cx="144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99120" y="3200400"/>
              <a:ext cx="144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079880" y="3200400"/>
              <a:ext cx="144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62440" y="3200400"/>
              <a:ext cx="144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646440" y="3200400"/>
              <a:ext cx="180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429000" y="4572000"/>
            <a:ext cx="1522440" cy="379440"/>
            <a:chOff x="3429000" y="4572000"/>
            <a:chExt cx="1522440" cy="379440"/>
          </a:xfrm>
        </p:grpSpPr>
        <p:sp>
          <p:nvSpPr>
            <p:cNvPr id="167" name=""/>
            <p:cNvSpPr/>
            <p:nvPr/>
          </p:nvSpPr>
          <p:spPr>
            <a:xfrm>
              <a:off x="3429000" y="4572000"/>
              <a:ext cx="1522440" cy="379440"/>
            </a:xfrm>
            <a:prstGeom prst="roundRect">
              <a:avLst>
                <a:gd name="adj" fmla="val 417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34000" y="4572000"/>
              <a:ext cx="144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16560" y="4572000"/>
              <a:ext cx="144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99120" y="4572000"/>
              <a:ext cx="144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79880" y="4572000"/>
              <a:ext cx="144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62440" y="4572000"/>
              <a:ext cx="144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46440" y="4572000"/>
              <a:ext cx="180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4951440" y="1251000"/>
            <a:ext cx="6447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RQ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67280" y="2071800"/>
            <a:ext cx="6447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R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67280" y="2909880"/>
            <a:ext cx="6447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R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57200" y="4281480"/>
            <a:ext cx="6645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RQ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705720" y="1219320"/>
            <a:ext cx="1217520" cy="1065240"/>
            <a:chOff x="6705720" y="1219320"/>
            <a:chExt cx="1217520" cy="1065240"/>
          </a:xfrm>
        </p:grpSpPr>
        <p:sp>
          <p:nvSpPr>
            <p:cNvPr id="179" name=""/>
            <p:cNvSpPr/>
            <p:nvPr/>
          </p:nvSpPr>
          <p:spPr>
            <a:xfrm>
              <a:off x="6705720" y="1219320"/>
              <a:ext cx="1217520" cy="106524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86440" y="1378080"/>
              <a:ext cx="858960" cy="74916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Run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952880" y="1752480"/>
            <a:ext cx="17528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1676520"/>
            <a:ext cx="762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943600" y="1749600"/>
            <a:ext cx="1440" cy="29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2514600"/>
            <a:ext cx="990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352680"/>
            <a:ext cx="990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52880" y="4724280"/>
            <a:ext cx="990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15200" y="2286000"/>
            <a:ext cx="144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663640" y="5562720"/>
            <a:ext cx="4654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666880" y="1673280"/>
            <a:ext cx="1800" cy="38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2514600"/>
            <a:ext cx="762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666880" y="3352680"/>
            <a:ext cx="7621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4724280"/>
            <a:ext cx="7621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2971800"/>
            <a:ext cx="12189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12840" y="2529000"/>
            <a:ext cx="87804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d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86480" y="2743200"/>
            <a:ext cx="15303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Pree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C5E9-B65D-415E-9BC7-B09E5B1681E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Other scheduling polici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C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y queue is ordered by arrival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 Robin (simpl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iodically preempts executing process and put it back in the ready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eady queue is ordered FI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N (Shortest Process Next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hortest process executes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n preemp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RT (Shortest Remaining Tim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ke SPN but preemp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RRN (Highest Response Ratio Next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cess with the highest response ratio executes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ke Round Robin but with multiple que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AA68-F869-46DB-AD63-EA5615B6B10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easur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process is identifi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rival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ice time 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ime to be completed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iting time w (time waiting to be serviced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ssor-bound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make little access to I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nsive processor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/O-bou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makes a big amount of I/O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nsive use of I/O devices, it is blocked most of the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rn around time (TAT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the total time that the process spends in the system, (service time + waiting tim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rmalized 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TAT = TAT/service time:   (w + s) /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23AF-4AC3-45E5-8D13-F02F2E87116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CF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policy is not very good for short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fact, if a short process arrives just after a long process, it must wait for the long process to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y high N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ss-bound processes have an advantage over I/O bound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 from the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1D83-DE79-4396-8040-CF8855F9353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Round Robi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ives an advantage to short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“slicing” long processes, the response time of short process is re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, process switch is not for free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rt quantum size imply high 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 from the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2922-A03F-4D16-8E0D-013D5188DD3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hortest process nex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 the shortest process from the 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requires an estimation of the execution time of a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can be obtained by averaging over past history, in exponential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can be obtained from past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 RR, it gives advantage to small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can lead to starva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9BF8-B251-4A8E-A403-6FA3D6E42C8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ultiple-feedback queu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62012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scheduler consist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780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 queues, RQ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..., RQ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780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queue is ordered in FIFO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780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fixed time quantum Q (like in Round Robin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780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Tahoma"/>
              <a:buChar char="–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cheduler chooses the first process in the highest priority queue and sets the timer equal to Q. Let RQ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e the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780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Tahoma"/>
              <a:buChar char="–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process completes or blocks before the timer expires, select the next process (go to 1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780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Tahoma"/>
              <a:buChar char="–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process has not yet completed by Q, move the process to the next queue RQ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(k+1)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780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Tahoma"/>
              <a:buChar char="–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a process is activated or it is unblocked, it goes in the highest priority queue RQ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780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Tahoma"/>
              <a:buChar char="–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iodically, processes can be “moved up” if they were not able to execute enough (to avoid starvation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733F-8385-42E0-BC6E-327402BF535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ultiple-feedback queu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scheduling policy tries to overcome the penalty for I/O bound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process always starts from RQ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hort process, will probably complete very 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I/O-bound process is always executed with very shor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long CPU-bound eventually goes in the last queue RQ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 system is heavily loaded, periodically the CPU-bound processes in the last queue are “promoted” to higher priority que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3F2C-773D-429C-BE7A-42E26BF28564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chedul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heduling is the activity of selecting which process/thread should be executed 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distinguish 3 types of schedu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term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fore creating a process, decides if it must be activ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dium term schedu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ides if a process has to swapped out/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rt term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ides which process has to be executed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8E6E-7E81-4165-A37E-5A0570D6C47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chedul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895480" y="1400040"/>
            <a:ext cx="1219320" cy="762120"/>
            <a:chOff x="2895480" y="1400040"/>
            <a:chExt cx="1219320" cy="762120"/>
          </a:xfrm>
        </p:grpSpPr>
        <p:sp>
          <p:nvSpPr>
            <p:cNvPr id="102" name=""/>
            <p:cNvSpPr/>
            <p:nvPr/>
          </p:nvSpPr>
          <p:spPr>
            <a:xfrm>
              <a:off x="2895480" y="1400040"/>
              <a:ext cx="1219320" cy="762120"/>
            </a:xfrm>
            <a:prstGeom prst="ellipse">
              <a:avLst/>
            </a:prstGeom>
            <a:solidFill>
              <a:srgbClr val="e6e3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76560" y="1512720"/>
              <a:ext cx="858960" cy="536760"/>
            </a:xfrm>
            <a:prstGeom prst="roundRect">
              <a:avLst>
                <a:gd name="adj" fmla="val 29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914400" y="2695680"/>
            <a:ext cx="1751040" cy="760320"/>
            <a:chOff x="914400" y="2695680"/>
            <a:chExt cx="1751040" cy="760320"/>
          </a:xfrm>
        </p:grpSpPr>
        <p:sp>
          <p:nvSpPr>
            <p:cNvPr id="105" name=""/>
            <p:cNvSpPr/>
            <p:nvPr/>
          </p:nvSpPr>
          <p:spPr>
            <a:xfrm>
              <a:off x="914400" y="2695680"/>
              <a:ext cx="1751040" cy="760320"/>
            </a:xfrm>
            <a:prstGeom prst="ellipse">
              <a:avLst/>
            </a:prstGeom>
            <a:solidFill>
              <a:srgbClr val="e6e3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73240" y="2808360"/>
              <a:ext cx="1233360" cy="534960"/>
            </a:xfrm>
            <a:prstGeom prst="roundRect">
              <a:avLst>
                <a:gd name="adj" fmla="val 29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dy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usp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343400" y="2695680"/>
            <a:ext cx="1219320" cy="760320"/>
            <a:chOff x="4343400" y="2695680"/>
            <a:chExt cx="1219320" cy="760320"/>
          </a:xfrm>
        </p:grpSpPr>
        <p:sp>
          <p:nvSpPr>
            <p:cNvPr id="108" name=""/>
            <p:cNvSpPr/>
            <p:nvPr/>
          </p:nvSpPr>
          <p:spPr>
            <a:xfrm>
              <a:off x="4343400" y="2695680"/>
              <a:ext cx="1219320" cy="760320"/>
            </a:xfrm>
            <a:prstGeom prst="ellipse">
              <a:avLst/>
            </a:prstGeom>
            <a:solidFill>
              <a:srgbClr val="e6e3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24480" y="2808360"/>
              <a:ext cx="858600" cy="534960"/>
            </a:xfrm>
            <a:prstGeom prst="roundRect">
              <a:avLst>
                <a:gd name="adj" fmla="val 29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Re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7238880" y="2695680"/>
            <a:ext cx="1447920" cy="760320"/>
            <a:chOff x="7238880" y="2695680"/>
            <a:chExt cx="1447920" cy="760320"/>
          </a:xfrm>
        </p:grpSpPr>
        <p:sp>
          <p:nvSpPr>
            <p:cNvPr id="111" name=""/>
            <p:cNvSpPr/>
            <p:nvPr/>
          </p:nvSpPr>
          <p:spPr>
            <a:xfrm>
              <a:off x="7238880" y="2695680"/>
              <a:ext cx="1447920" cy="760320"/>
            </a:xfrm>
            <a:prstGeom prst="ellipse">
              <a:avLst/>
            </a:prstGeom>
            <a:solidFill>
              <a:srgbClr val="e6e3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53440" y="2808360"/>
              <a:ext cx="1020600" cy="534960"/>
            </a:xfrm>
            <a:prstGeom prst="roundRect">
              <a:avLst>
                <a:gd name="adj" fmla="val 29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Run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143000" y="4371840"/>
            <a:ext cx="1522440" cy="762120"/>
            <a:chOff x="1143000" y="4371840"/>
            <a:chExt cx="1522440" cy="762120"/>
          </a:xfrm>
        </p:grpSpPr>
        <p:sp>
          <p:nvSpPr>
            <p:cNvPr id="114" name=""/>
            <p:cNvSpPr/>
            <p:nvPr/>
          </p:nvSpPr>
          <p:spPr>
            <a:xfrm>
              <a:off x="1143000" y="4371840"/>
              <a:ext cx="1522440" cy="762120"/>
            </a:xfrm>
            <a:prstGeom prst="ellipse">
              <a:avLst/>
            </a:prstGeom>
            <a:solidFill>
              <a:srgbClr val="e6e3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68360" y="4484520"/>
              <a:ext cx="1073160" cy="536760"/>
            </a:xfrm>
            <a:prstGeom prst="roundRect">
              <a:avLst>
                <a:gd name="adj" fmla="val 29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Blocked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Susp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343400" y="4371840"/>
            <a:ext cx="1371600" cy="762120"/>
            <a:chOff x="4343400" y="4371840"/>
            <a:chExt cx="1371600" cy="762120"/>
          </a:xfrm>
        </p:grpSpPr>
        <p:sp>
          <p:nvSpPr>
            <p:cNvPr id="117" name=""/>
            <p:cNvSpPr/>
            <p:nvPr/>
          </p:nvSpPr>
          <p:spPr>
            <a:xfrm>
              <a:off x="4343400" y="4371840"/>
              <a:ext cx="1371600" cy="762120"/>
            </a:xfrm>
            <a:prstGeom prst="ellipse">
              <a:avLst/>
            </a:prstGeom>
            <a:solidFill>
              <a:srgbClr val="e6e3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46440" y="4484520"/>
              <a:ext cx="966960" cy="536760"/>
            </a:xfrm>
            <a:prstGeom prst="roundRect">
              <a:avLst>
                <a:gd name="adj" fmla="val 29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Block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666880" y="3076560"/>
            <a:ext cx="16765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51480" y="3152880"/>
            <a:ext cx="1496520" cy="585720"/>
          </a:xfrm>
          <a:prstGeom prst="roundRect">
            <a:avLst>
              <a:gd name="adj" fmla="val 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Medium-t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chedu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358720" y="2009880"/>
            <a:ext cx="61596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200988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66880" y="4753080"/>
            <a:ext cx="16765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3076560"/>
            <a:ext cx="167616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51480" y="4829040"/>
            <a:ext cx="1496520" cy="585720"/>
          </a:xfrm>
          <a:prstGeom prst="roundRect">
            <a:avLst>
              <a:gd name="adj" fmla="val 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Medium-t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chedu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84120" y="3152880"/>
            <a:ext cx="1222200" cy="585720"/>
          </a:xfrm>
          <a:prstGeom prst="roundRect">
            <a:avLst>
              <a:gd name="adj" fmla="val 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hort-t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chedu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54840" y="1781280"/>
            <a:ext cx="1219320" cy="585720"/>
          </a:xfrm>
          <a:prstGeom prst="roundRect">
            <a:avLst>
              <a:gd name="adj" fmla="val 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Long-t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chedu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58360" y="1781280"/>
            <a:ext cx="1219320" cy="585720"/>
          </a:xfrm>
          <a:prstGeom prst="roundRect">
            <a:avLst>
              <a:gd name="adj" fmla="val 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Long-t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chedu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66FE-AF65-4DE8-A4AC-8E459C7C82A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Long-term schedul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a program is created, it goes through an admission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 program is admitted, the process is created and put in the ready 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 program is not admitted, it is put in the suspend state, until the multiprogramming level allows the process to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key decision is the multiprogramming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multiprogramming level is too high, each process executes too slowly, and we risk the tras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we can “hold back” the new processes until the load is decr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681B-3A35-47CF-BD9D-99CDE72E5A6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edium-term schedul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the part of the OS that decides with processes to swap-in and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has to do with the multiprogramming leve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has been already discussed in the previous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147B-B4DE-42BB-80D9-A20272DB244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hort-term schedul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62012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distingu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Arial"/>
              </a:rPr>
              <a:t>Selection fun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Decides which process is selected from the ready queue, according to some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Arial"/>
              </a:rPr>
              <a:t>Decision mo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when the decision is 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-preemptive: once the process goes into running state, no scheduling decision can be takes until it finis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emptiv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iodically (like in round-robin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a process in unb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an interrupt arr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A0FD-E640-4A5B-9267-3D7F9E2FC1A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cheduling criteri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6201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to evaluate a schedul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-oriented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ponse time of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-oriented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oughput: how much work the system can do in any interval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formace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not only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some case we may want some other criteri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dictability (see real-time system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ir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F70E-EEDF-4875-B678-44B7CE23332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PU-Bound and I/O boun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PU-bound processes perform very little I/O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of the time, they execute on the 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cc compiler, a scientific computatio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/O bound processes perform many I/O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of the time, they are blocked waiting for an I/O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find and grep commands, the disk de-fragm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processes are a mixture of the tw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2564-CA77-4E66-8E3E-38F38572C37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iority based schedul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process is assigned a p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ighest priority process is selected to exec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we are in a preemptive systems, when a high priority process is unblocked, it can preempt the execut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wise, it has to wait until the previous process finis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2C79-BAE1-4267-BF05-F4128757F20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