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71BE5-CCFF-45C4-A7F2-C84704F3DF67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9B3-5684-4BA2-9072-603767AF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FD06-B42C-47E5-B2FA-8BDFC256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821-2E48-432F-BF63-4D81616F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257-0809-45AA-9A1F-4CD7CF14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C78E-2D7B-4F6D-84B2-8AE176DB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94F1-50BA-47F2-871D-1D071410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86CB-AB58-4D56-B1DD-9DCB386A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F70E-9FF9-4448-865F-50703326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BEE0-D6A4-4945-ABFF-BB421E66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93EA-3EC8-46BC-AA32-59753F25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EC5E-61F6-4C4E-BFAC-28EC32C6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8AB-98C2-47C8-80B7-B7066D69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6C14-22F6-4BD1-B462-277928F1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00D1-456E-4362-A18B-063255E0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6D7A-8535-4F79-AA4A-482F48BB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F43B-31C0-4AB5-B59B-ED6344DB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2EB2-74F4-40BC-AF57-AA10AE8A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ED9-C007-41C2-8788-DE688E2D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19A-E5A6-4C27-84BF-50A2A30E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FA2-F907-42E3-A8D1-041F1A99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091-0928-4B29-8523-64CEF200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7EA-F216-46BE-B643-4445A243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C1A-A02E-4506-B74F-E1AAEA6A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A2D-966B-4AF1-8BDB-A5C0DE4D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13F2C0-EF79-4552-B1AA-4B763ABE4B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800AF-C234-4DD6-A66B-4430A2DF1F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I/O subsystem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/O device controll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 us start from the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device has a controller that consis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dicated small processor for I/O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et of registers mapped in memory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end commands to a I/O device, write on the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ad the status of the I/O operation, read from the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PU is NOT synchronised with the I/O process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can arrive from the device in a asynchronous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749-21B3-4CB6-8286-5BE59B9D13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troller Regis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vice controller should posses at least the following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register 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used to send commands to the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start a output data transfer, start a input data transfer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assume that a </a:t>
            </a:r>
            <a:r>
              <a:rPr b="1" lang="en-GB" sz="1800" spc="-1" strike="noStrike">
                <a:solidFill>
                  <a:srgbClr val="3366ff"/>
                </a:solidFill>
                <a:latin typeface="Arial"/>
              </a:rPr>
              <a:t>sta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it is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us Register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used to check the status of the current operation and of the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if the transfer has been completed, it an error occurred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assume that a </a:t>
            </a:r>
            <a:r>
              <a:rPr b="1" lang="en-GB" sz="1800" spc="-1" strike="noStrike">
                <a:solidFill>
                  <a:srgbClr val="3366ff"/>
                </a:solidFill>
                <a:latin typeface="Arial"/>
              </a:rPr>
              <a:t>fla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t is defined to signal to completion of any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have also a data register/buffer and a Configuratio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7D3-B111-4EE4-B575-2AB31528BBD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ternal pro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model the I/O controller as a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ot a real software process! it is only a model for its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61480" y="3352680"/>
            <a:ext cx="4646880" cy="2309400"/>
          </a:xfrm>
          <a:prstGeom prst="roundRect">
            <a:avLst>
              <a:gd name="adj" fmla="val 6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xtrernal proces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while (tru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while (</a:t>
            </a:r>
            <a:r>
              <a:rPr b="1" lang="en-GB" sz="1800" spc="-1" strike="noStrike">
                <a:solidFill>
                  <a:srgbClr val="0033cc"/>
                </a:solidFill>
                <a:latin typeface="Tahoma"/>
              </a:rPr>
              <a:t>start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=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execute comman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update status regis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Tahoma"/>
              </a:rPr>
              <a:t>flag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970-4716-4B3D-81A3-D945181A998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haracter – based devi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, we will discuss character base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, the keyboard, the serial lin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ransfer n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 different I/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the simplest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CF2-A6FB-43F3-9D7C-CD085C10F10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ol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poll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perating system directly checks the flag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e wai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3124080"/>
            <a:ext cx="3733920" cy="2590920"/>
          </a:xfrm>
          <a:prstGeom prst="roundRect">
            <a:avLst>
              <a:gd name="adj" fmla="val 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3124080"/>
            <a:ext cx="373392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prepare transf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tart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while (flag=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heck statu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D5A-4960-447F-8316-584244C83BB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ol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device is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ast, then polling may be the best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fact, an interrupt based mechanism involves at least a pair of proces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the duration of the operation is less than two process switches, then polling is the most optimized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most all devices are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u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lower than the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, a data transfer takes much more than two proces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se devices, an interrupt-based mechanism is the best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C5D-2483-4700-B87E-29BC35E75CB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based I/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troller interrupt mechanism must be config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must specify which interrupt line is dedicated to th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erent devices send data on different interrupts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the lines enter in the interrupt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nterrupt controller will rais the interrupt pin of the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or interrupt mechanism must be config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or has an “interrupt vect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very interrupt line, the address of a function (interrupt handler) is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the interrupt is raised, the corresponding interrupt handler is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26B-9032-4A3B-A2E3-DF11606D8FE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handling mechanis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evice driver is written as a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very special kind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ot a user process, but a kernel process, because it runs in the same address space of the opera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following, it will be called Internal Process, to distinguish from the extern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define a semaphor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nal process is blocked 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vailab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for the completion of th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interrupt handler executes, it performs the signal on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D31-1317-46EA-9B74-EFE37830B83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handl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7240" y="4398840"/>
            <a:ext cx="3133440" cy="2309400"/>
          </a:xfrm>
          <a:prstGeom prst="roundRect">
            <a:avLst>
              <a:gd name="adj" fmla="val 6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prepare transf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tart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available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heck statu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1320" y="1784520"/>
            <a:ext cx="2941560" cy="2032560"/>
          </a:xfrm>
          <a:prstGeom prst="roundRect">
            <a:avLst>
              <a:gd name="adj" fmla="val 7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emaphore available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handler(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available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12200" y="1327320"/>
            <a:ext cx="206064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rrupt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11200" y="3941640"/>
            <a:ext cx="192780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rn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69680" y="1770120"/>
            <a:ext cx="4646880" cy="2586240"/>
          </a:xfrm>
          <a:prstGeom prst="roundRect">
            <a:avLst>
              <a:gd name="adj" fmla="val 6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xternal proces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while (tru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while (start=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execute comman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update status regis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flag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raise interrup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05480" y="1389240"/>
            <a:ext cx="195552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tern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863-7BF8-41A8-AFAF-D6AF50EC3EF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emporal evolu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46748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2B41-059B-40B4-AF3C-66EAC60BD17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956960"/>
            <a:ext cx="772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put – Output and Device – Driver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25760" y="3930480"/>
            <a:ext cx="64008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B82-2F12-416A-BF55-A999387D571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ome intelligence in the handl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evious structure has one draw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data byte, the internal process i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requires two process switches for every 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ansfer of subsequent bytes can be done by the interrupt handler itsel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ice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data structure shared by the internal process and the interrupt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ontains a buffer of the data to be trans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DB1-D391-4429-8909-0F32C2B457E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vice descript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emaphore end_of_transfer, on which the internal process will be 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ddress of the device controller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us and control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byt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er for number of transferred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ffer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data is put or where data is t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device descriptors are kept in a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rray is indexed by the device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vide identifier is an integer that identifies the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07F-329B-45CF-B6E7-AFB700412DC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vice descript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52578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538720" y="1371600"/>
            <a:ext cx="4700160" cy="3967920"/>
            <a:chOff x="2538720" y="1371600"/>
            <a:chExt cx="4700160" cy="3967920"/>
          </a:xfrm>
        </p:grpSpPr>
        <p:sp>
          <p:nvSpPr>
            <p:cNvPr id="175" name=""/>
            <p:cNvSpPr/>
            <p:nvPr/>
          </p:nvSpPr>
          <p:spPr>
            <a:xfrm>
              <a:off x="2590920" y="1371600"/>
              <a:ext cx="4593960" cy="3944880"/>
            </a:xfrm>
            <a:prstGeom prst="roundRect">
              <a:avLst>
                <a:gd name="adj" fmla="val 3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38720" y="1371600"/>
              <a:ext cx="4700160" cy="396792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struct IO_descr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	</a:t>
              </a: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Semaphore end_of_transfer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	</a:t>
              </a: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int counter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	</a:t>
              </a: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int nbyte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	</a:t>
              </a: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int *CR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	</a:t>
              </a: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int *SR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	</a:t>
              </a: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void *buffer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	</a:t>
              </a: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int statu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	</a:t>
              </a: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//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}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struct IO_descr dev_descr[NUM_DEVICES]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5C7-A149-4C4D-9318-60D7458647F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ad ope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4723920"/>
            <a:ext cx="76201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function is invoked by the in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77360" y="1371600"/>
            <a:ext cx="5299200" cy="3139920"/>
          </a:xfrm>
          <a:prstGeom prst="roundRect">
            <a:avLst>
              <a:gd name="adj" fmla="val 4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nt read(int ddes, char *pbuf, int nbyte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s].nbytes = nbyt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s].counter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s].buffer = pbu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set start = 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s].end_of_transfer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heck statu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&lt;error&gt;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 return error_c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return dev_descr[ddes].coun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FAA-D0B1-4C48-91C7-AE52FDB418A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handl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9360" y="1219320"/>
            <a:ext cx="7828920" cy="5354640"/>
          </a:xfrm>
          <a:prstGeom prst="roundRect">
            <a:avLst>
              <a:gd name="adj" fmla="val 2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handler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char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heck for erro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&lt;no error&gt;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*dev_descr[ddev].buffer = &lt;get data from device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buffer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counter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dev_descr[ddev].counter &lt; dev_descr[ddev].nbyt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set start bit = 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end_of_transfer.signal();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&lt;non critical error&gt;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retry : set start bit = 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status = error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BB9-01C4-4889-8913-E774BA978F6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143000" y="1724040"/>
            <a:ext cx="7543800" cy="33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FF0-A732-4C85-93FA-2FABB7762EF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rect memory ac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I/O controllers support Direct Memory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I/O controller has a DMA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emory address register (MAR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automatically transfer a block of bytes to/from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end of the transfer, an interrupt is ra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rupt handler becomes very simp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0CD-52A8-4CF2-8545-0243ACF4B57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425520"/>
            <a:ext cx="762012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5409720"/>
            <a:ext cx="7620120" cy="4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200400"/>
            <a:ext cx="655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657600" y="3657600"/>
            <a:ext cx="2284560" cy="1370160"/>
            <a:chOff x="3657600" y="3657600"/>
            <a:chExt cx="2284560" cy="1370160"/>
          </a:xfrm>
        </p:grpSpPr>
        <p:sp>
          <p:nvSpPr>
            <p:cNvPr id="190" name=""/>
            <p:cNvSpPr/>
            <p:nvPr/>
          </p:nvSpPr>
          <p:spPr>
            <a:xfrm>
              <a:off x="3657600" y="3657600"/>
              <a:ext cx="2284560" cy="1370160"/>
            </a:xfrm>
            <a:prstGeom prst="roundRect">
              <a:avLst>
                <a:gd name="adj" fmla="val 116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57600" y="3657600"/>
              <a:ext cx="2284560" cy="1370160"/>
            </a:xfrm>
            <a:prstGeom prst="roundRect">
              <a:avLst>
                <a:gd name="adj" fmla="val 11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800600" y="32004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09680" y="1752480"/>
            <a:ext cx="1065240" cy="912960"/>
            <a:chOff x="2209680" y="1752480"/>
            <a:chExt cx="1065240" cy="912960"/>
          </a:xfrm>
        </p:grpSpPr>
        <p:sp>
          <p:nvSpPr>
            <p:cNvPr id="194" name=""/>
            <p:cNvSpPr/>
            <p:nvPr/>
          </p:nvSpPr>
          <p:spPr>
            <a:xfrm>
              <a:off x="2209680" y="1752480"/>
              <a:ext cx="1065240" cy="912960"/>
            </a:xfrm>
            <a:prstGeom prst="roundRect">
              <a:avLst>
                <a:gd name="adj" fmla="val 171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9680" y="1752480"/>
              <a:ext cx="1065240" cy="912960"/>
            </a:xfrm>
            <a:prstGeom prst="roundRect">
              <a:avLst>
                <a:gd name="adj" fmla="val 1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743200" y="26668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1447920"/>
            <a:ext cx="2362320" cy="1371600"/>
          </a:xfrm>
          <a:prstGeom prst="roundRect">
            <a:avLst>
              <a:gd name="adj" fmla="val 11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486400" y="1676520"/>
            <a:ext cx="684360" cy="303120"/>
            <a:chOff x="5486400" y="1676520"/>
            <a:chExt cx="684360" cy="303120"/>
          </a:xfrm>
        </p:grpSpPr>
        <p:sp>
          <p:nvSpPr>
            <p:cNvPr id="199" name=""/>
            <p:cNvSpPr/>
            <p:nvPr/>
          </p:nvSpPr>
          <p:spPr>
            <a:xfrm>
              <a:off x="5486400" y="1676520"/>
              <a:ext cx="684360" cy="303120"/>
            </a:xfrm>
            <a:prstGeom prst="roundRect">
              <a:avLst>
                <a:gd name="adj" fmla="val 519"/>
              </a:avLst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6400" y="1676520"/>
              <a:ext cx="68436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M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86400" y="2209680"/>
            <a:ext cx="684360" cy="303480"/>
            <a:chOff x="5486400" y="2209680"/>
            <a:chExt cx="684360" cy="303480"/>
          </a:xfrm>
        </p:grpSpPr>
        <p:sp>
          <p:nvSpPr>
            <p:cNvPr id="202" name=""/>
            <p:cNvSpPr/>
            <p:nvPr/>
          </p:nvSpPr>
          <p:spPr>
            <a:xfrm>
              <a:off x="5486400" y="2209680"/>
              <a:ext cx="684360" cy="303480"/>
            </a:xfrm>
            <a:prstGeom prst="roundRect">
              <a:avLst>
                <a:gd name="adj" fmla="val 519"/>
              </a:avLst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86400" y="2209680"/>
              <a:ext cx="68436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M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477120" y="1676520"/>
            <a:ext cx="684000" cy="303120"/>
            <a:chOff x="6477120" y="1676520"/>
            <a:chExt cx="684000" cy="303120"/>
          </a:xfrm>
        </p:grpSpPr>
        <p:sp>
          <p:nvSpPr>
            <p:cNvPr id="205" name=""/>
            <p:cNvSpPr/>
            <p:nvPr/>
          </p:nvSpPr>
          <p:spPr>
            <a:xfrm>
              <a:off x="6477120" y="1676520"/>
              <a:ext cx="684000" cy="303120"/>
            </a:xfrm>
            <a:prstGeom prst="roundRect">
              <a:avLst>
                <a:gd name="adj" fmla="val 519"/>
              </a:avLst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77120" y="1676520"/>
              <a:ext cx="68400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477120" y="2209680"/>
            <a:ext cx="684000" cy="303480"/>
            <a:chOff x="6477120" y="2209680"/>
            <a:chExt cx="684000" cy="303480"/>
          </a:xfrm>
        </p:grpSpPr>
        <p:sp>
          <p:nvSpPr>
            <p:cNvPr id="208" name=""/>
            <p:cNvSpPr/>
            <p:nvPr/>
          </p:nvSpPr>
          <p:spPr>
            <a:xfrm>
              <a:off x="6477120" y="2209680"/>
              <a:ext cx="684000" cy="303480"/>
            </a:xfrm>
            <a:prstGeom prst="roundRect">
              <a:avLst>
                <a:gd name="adj" fmla="val 519"/>
              </a:avLst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77120" y="2209680"/>
              <a:ext cx="68400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H="1">
            <a:off x="3273120" y="1981080"/>
            <a:ext cx="191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73080" y="1631880"/>
            <a:ext cx="116604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28195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450-8579-4968-9778-8D9C4039ADE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ad ope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5409720"/>
            <a:ext cx="7620120" cy="4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2400" y="1371600"/>
            <a:ext cx="5304960" cy="3693600"/>
          </a:xfrm>
          <a:prstGeom prst="roundRect">
            <a:avLst>
              <a:gd name="adj" fmla="val 42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nt read(int ddes, char *pbuf, int nbyte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s].nbytes = nbyt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s].counter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buffer = pbu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program DM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MAR = pbuf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MCR = nbyt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end_of_transfer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heck statu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&lt;error&gt;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 return error_c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return dev_descr[ddev].coun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B1A-5E63-495F-A53D-624D58DA454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handl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16600" y="1447920"/>
            <a:ext cx="6807960" cy="3693600"/>
          </a:xfrm>
          <a:prstGeom prst="roundRect">
            <a:avLst>
              <a:gd name="adj" fmla="val 42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handler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heck for erro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&lt;no error&gt;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counter=&lt;MCR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end_of_transfer.signal();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&lt;non critical error&gt;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retry : set start bit = 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status = error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073-FAE3-4F37-B2AA-DBA5C21E655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bjectives of the I/O sub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hide the complex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variability of th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a consinsten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(), Read(), Write(), Close(), Lseek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a nam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the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through buffering and c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ACC-A261-4F4A-89D5-8E2E50FD355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M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using 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verhead is further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terrupt is called only once at the end of th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troller is mor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MA transfers data to memory on the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us and the memory are shared between the processor and the I/O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licts on the bus are resolved by the bus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the overhead of the DMA is not 0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read/write operation from/to memory can be delayd because the I/O device could access the memory at the sam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35D-0C42-42A1-9898-FB949E53A3C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uffe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fer data to user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is first loaded into an internal buffer of th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, it is transferred into the user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iming reasons: while reading one buffer, I can try to load another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Virtual memory reasons: the memory of the process (which could be subject to swapping and paging) is not directly involved with the I/O hardwar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 of loading data wehn we need them, load them in ad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9097-EBB6-4587-BB31-68DC37CFD23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uffe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l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single buffer for each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the operation is performed, the process cannot access th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uble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buffers for each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the operation is performed on one buffer, the other can be used by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end of the reading, we can swap the bu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rcular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xtension of the double bu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used only in particular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3B2-FA12-4688-A804-9D341E09065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lock device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an example of block devices, we will consider the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7315200" cy="36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C3A-1D5D-4311-8D37-E5E5805D06D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sk perform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age transfer time TF = TA + 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verage access time TA is the time to move the disk arm to the desired track and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verage byte transfer time TT is the time needed to actually transfer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 = ST + 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ek time ST is needed to move the arm on the desired tr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tational latency RL is the time waiting for the disk to rotate until the desired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reatest and most important time is the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rm moves more slowly than the disk ro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e the arm the less that is possib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38E-EF5E-4A82-9586-38144FC99E5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ome 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stern Digital WDE18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ylinder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6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ks per cylinder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ors per trac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tes per sector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acity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.3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mum 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6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2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tational Latency R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msec, (average 3 msec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transfer time TT 19 microse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712-F44A-482E-A927-65BAE76D871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compute the time to read a 320kb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se that a process wants to read 640 sectors (320 k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 they are stored in two consecutive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Tra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F = ST + RL + TT = 5.2 + 3 + 6 = 1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F = ST + RL + TT = 0.6 + 3  + 6 = 9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 :  23.8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 they are stored in random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F = ST + RL + TT = 5.2 + 3 + 0.019 =  8.2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 8.219 * 640 = 5.26 seconds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5F1-0B59-4112-9AFB-EEE29CFA13C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a huge difference in the two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much more convenient to store files consecu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there is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processes could request reading from the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serve the requests as they come, we could end up moving the arm up and down even in the case the files are stored consecutive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A9F-A1B0-4FC0-A4DC-E243FBB423F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F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43430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ests in the queue: 20, 14, 40, 23, 47,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FIFO, we have a very bad performance! (the arm keeps moving randoml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858000" cy="20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693-3AD3-4100-AB8A-D4DE524B182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STF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rtest Seek Tim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er the request that is closer to the actual position of the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ests in the queue: 20, 14, 40, 23, 47,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er of service: 20, 23, 14, 7, 40,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676520" y="3886200"/>
            <a:ext cx="6781680" cy="216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A6A-0490-47EC-845F-A1339C3BE00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gical organis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distinguish two logic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ice – dependen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ictly depends on the particular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ice – independen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s an uniform interface to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00400" y="3124080"/>
            <a:ext cx="2208240" cy="532080"/>
            <a:chOff x="3200400" y="3124080"/>
            <a:chExt cx="2208240" cy="532080"/>
          </a:xfrm>
        </p:grpSpPr>
        <p:sp>
          <p:nvSpPr>
            <p:cNvPr id="105" name=""/>
            <p:cNvSpPr/>
            <p:nvPr/>
          </p:nvSpPr>
          <p:spPr>
            <a:xfrm>
              <a:off x="3200400" y="3124080"/>
              <a:ext cx="2208240" cy="532080"/>
            </a:xfrm>
            <a:prstGeom prst="roundRect">
              <a:avLst>
                <a:gd name="adj" fmla="val 296"/>
              </a:avLst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0400" y="3124080"/>
              <a:ext cx="2208240" cy="53208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600200" y="388620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38280" y="4114800"/>
            <a:ext cx="3884760" cy="455760"/>
            <a:chOff x="2438280" y="4114800"/>
            <a:chExt cx="3884760" cy="455760"/>
          </a:xfrm>
        </p:grpSpPr>
        <p:sp>
          <p:nvSpPr>
            <p:cNvPr id="109" name=""/>
            <p:cNvSpPr/>
            <p:nvPr/>
          </p:nvSpPr>
          <p:spPr>
            <a:xfrm>
              <a:off x="2438280" y="4114800"/>
              <a:ext cx="3884760" cy="45576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38280" y="4114800"/>
              <a:ext cx="388476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evice – independent 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438280" y="5029200"/>
            <a:ext cx="3884760" cy="455760"/>
            <a:chOff x="2438280" y="5029200"/>
            <a:chExt cx="3884760" cy="455760"/>
          </a:xfrm>
        </p:grpSpPr>
        <p:sp>
          <p:nvSpPr>
            <p:cNvPr id="112" name=""/>
            <p:cNvSpPr/>
            <p:nvPr/>
          </p:nvSpPr>
          <p:spPr>
            <a:xfrm>
              <a:off x="2438280" y="5029200"/>
              <a:ext cx="3884760" cy="455760"/>
            </a:xfrm>
            <a:prstGeom prst="roundRect">
              <a:avLst>
                <a:gd name="adj" fmla="val 347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38280" y="5029200"/>
              <a:ext cx="388476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evice – dependent 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600200" y="571500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438280" y="5867280"/>
            <a:ext cx="3884760" cy="608040"/>
            <a:chOff x="2438280" y="5867280"/>
            <a:chExt cx="3884760" cy="608040"/>
          </a:xfrm>
        </p:grpSpPr>
        <p:sp>
          <p:nvSpPr>
            <p:cNvPr id="116" name=""/>
            <p:cNvSpPr/>
            <p:nvPr/>
          </p:nvSpPr>
          <p:spPr>
            <a:xfrm>
              <a:off x="2438280" y="5867280"/>
              <a:ext cx="3884760" cy="608040"/>
            </a:xfrm>
            <a:prstGeom prst="roundRect">
              <a:avLst>
                <a:gd name="adj" fmla="val 25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38280" y="5867280"/>
              <a:ext cx="3884760" cy="60804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H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43200" y="5943600"/>
            <a:ext cx="1065240" cy="455760"/>
            <a:chOff x="2743200" y="5943600"/>
            <a:chExt cx="1065240" cy="455760"/>
          </a:xfrm>
        </p:grpSpPr>
        <p:sp>
          <p:nvSpPr>
            <p:cNvPr id="119" name=""/>
            <p:cNvSpPr/>
            <p:nvPr/>
          </p:nvSpPr>
          <p:spPr>
            <a:xfrm>
              <a:off x="2743200" y="5943600"/>
              <a:ext cx="1065240" cy="455760"/>
            </a:xfrm>
            <a:prstGeom prst="roundRect">
              <a:avLst>
                <a:gd name="adj" fmla="val 34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5943600"/>
              <a:ext cx="10652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505320" y="54864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048120" y="5483160"/>
            <a:ext cx="144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45720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038480" y="4568760"/>
            <a:ext cx="18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6576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038480" y="3654360"/>
            <a:ext cx="18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61160" y="3200400"/>
            <a:ext cx="14097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ser –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76280" y="4586400"/>
            <a:ext cx="12117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S –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3040" y="6019920"/>
            <a:ext cx="12909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W –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006-2234-4F0B-8E96-54692174BD6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STF: probl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lgorithm is not opt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izing the seek time for the next reading does not imply minimizing the total seek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lgorithm could cause starv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disk is in overload (too many requests), a request of a cyclinder that is far away never gets serv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AE4-529F-4911-8BE1-52FE8A54573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CA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lled the “elevator algorith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 increasing the cylinder search in one direction, then it changes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ests in the queue: 20, 14, 40, 23, 47,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er of service: 20, 14, 7, 23, 40,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3809880"/>
            <a:ext cx="6477120" cy="214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1D2-B310-4794-9A8E-4F52B0BD996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AI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used for fault tolerant d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irtual disk is implemented as a set of “real disk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896000" cy="402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687-882E-4994-916A-41B509AB0AE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6 leve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redundancy: only for performanc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can be accessed in paralle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D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e duplication, very cos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D 2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mming code: quite cos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D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disk for parity (bit level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D 4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level p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D 5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level distributed p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D 6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Redund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376-2033-484F-A504-74B6834B0701}" type="slidenum">
              <a:t>43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vice - independent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layer, the following functionalities 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needed to transfer data to us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d to optimize the reading/writing on a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different kind of erro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s can be reported to the user in a meaningful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ocation and sp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to allocate a device to a process requesting th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printing, visualizing, input from the mouse/keyboard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device is assigned a logical “identifi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on the device can be accessed through the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204-ED0A-496D-A13F-4B2E82B7433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vice – dependent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is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evice driver interacts directly with the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nteracts also with the device-independen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provides specific access modes to th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provides ways to communicate with the upper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face between the d-d layer and the d-i level is specific for th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, it is a set of functions very similar to the user/level functions open(), read(), write(), close()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8A2-1097-4FD5-B33B-057BE9221D2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vice driv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evice driver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oftware module of the OS that contains code dedicated to the interaction with a particular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k device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board device driv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device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arity of the O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D35-B8BB-4EDA-AFB5-6FD48C25F9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ari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evice driver sub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one of the most complex parts of the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mplexity is due to the huge variability o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ification of I/O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use, keyboad, video, print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hine re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k, controllers, sensors, actu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gital networks, mod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D7E-78DF-4939-8A6D-D0EBD6DF7EE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haracteristics of a dev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can be huge differences in the speed of data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y in which a device is used is important to the device drive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example, disk for normal user interaction, disk for web servers, disk for video servers, disk for virtual memory management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lexity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very simple (e.g. the printer) to very complex (e.g. the dis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 of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racter devices, block devices, packet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ity, encoding, error correction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ro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y in which errors may occur, and the way they are reported may vary a 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F051-2F41-497B-9D15-56E8B191A71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