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6D871-DC22-46D7-97A2-401DAB5441F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45A-7F07-4BCB-BEB9-406BF98B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534-1407-4C5A-BB21-7995AA18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E6A-4666-4D54-B537-2C3777BA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7D6-BAA8-46E0-920C-CEFB0277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2C1C-6A60-4672-B35B-44681A38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2CF5-AE9E-48CA-AF92-652F0C2B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0A85-E013-4F19-A10B-364484F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9DAC-AAAA-4D6A-A42F-C0E7F365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CCF6-B6C3-40F9-9788-F3C35F8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DB4D-444F-4FF1-8B30-F76E928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B577-E1BC-4D8F-B2D0-1832E45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D20-69D2-4348-B957-340456F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2C5C-FE75-4908-8214-C349F1E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0DE1-1E4D-4244-BDE5-B118A74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0DDA-E6A5-48D8-971B-12BD2D4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DA4-38D3-406A-AC36-2254552A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F4F-9710-434D-B67A-5B977339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633-730F-42F6-AE77-90AA504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CCC-B405-4481-879A-DE4DCBF4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A83-D29B-4C52-A712-F2833CDB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E28-9C1B-4BD7-BA5E-ABA87458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643-B99E-4227-99E6-7DE351B5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C28-D681-4041-BA32-9E622EB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794-7244-436E-98D4-A1362E2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8959F-C090-42C8-BD3C-B5802B9AFD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2819A-E0EC-4DB5-9582-199AAE3F1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ile Syste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inary and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inary file is simply a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mat and the meaning of the bytes are up to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st file is a sequence of ASCII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characters are CR and 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OS encode text in the sam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OS and Windows, we need both the CR and the 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nix, only LF is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when transferring a file from a Unix system to a DOS system, and viceversa, we can have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ogram (e.g. ftp) automatically converts text files among the two formats,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specify the format (binary of text) when transferring a file with FTP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FFD-5120-42BD-99AE-B9F421781E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ccess method: sequent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implest method for accessing a file is “sequential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“internal open file descriptor” has an “offset” fiel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rds the current position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read/write operation updates thi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e is seen as a “tape” in which you can do play, rewind, fas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S support sequentia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A1E-324D-4A9F-8883-557ECBFACC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le has a parti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consists of a number of “records” of fixed len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cord is a collection of data of som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cord in a phone book file 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, surname, phone,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is a collection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direct access method, it is possible to read or write one particular record without reading the previous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0FB-65D7-49C4-8B61-2EFA1C7C0A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every record has a size of 100 by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record is at offs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cond record is at offset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-th record is at offset (i-1)*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access is very useful for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S supports direc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the read function has one more parameter read(fd, record, i) where i is the recor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ost OS it is necessary to use a sequential file and the lseek() and read()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54C-E977-4419-B4D9-89408B1F87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dex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direct access, is the index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cord has a “key fie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from databases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contains at the beginning an “index” with the records’ positions and the k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inspecting the index, it is possible to know at which position a certain recor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feature can be implemented directly in the OS or in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80-891A-4D46-B320-8CCD36788A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isk is usually structured in partition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k may contain one or many “partitions” or “volu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rtition is a virtual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OS it is possible to define a partitions that contains many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artition contains a directo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ins a list of files or of other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rganised in a structure (tree or acyclic grap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9E8-E086-4D69-8854-1571FB6274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ies are organised in 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directory: contains all files and sub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directory can contain an arbitrary number of sub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reate/delete directories, special system cal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file has a “parent directo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directory (except the root) has a “parent directo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rectory organisation has nothing to do with how the files are allocated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files in the same directory are not necessarily contig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232-C19B-47BF-ADA4-7F9289C222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ies in Uni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Unix, a directory is a special tex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the list of files, one per eac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o open the directory with v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it cannot be read or written as a norma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4C3-577B-4DAE-84C5-EC25A50225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urrent working 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rocess has a current working directory (CW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opening a file, we can specify the file name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lative path (i.e. starting from the CWD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bsolute path (i.e. starting from the root director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file is created, it is added to its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file is deleted, it is removed from the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y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OS it is not possible to remove non-empty directories (regula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mand in Unix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mand in Window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thers, removing a directory implies to recursively remove all its contents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m –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Unix and GUI in Window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314-C8C9-4D24-8DE1-66F723A7710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cyclic directory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structure it is possible to establish “lin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ile link is a “reference” to a file or a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link any file or directory in an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possible to creat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ycle would make the system too comp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” files and/or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ociating a symbolic name for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F1D-CF82-4A6B-8EB8-AE13687161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930480"/>
            <a:ext cx="64008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C06-2344-42F6-8381-FAF67D4D14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54860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cc is a symbolic link to gcc-2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91120" y="1371600"/>
            <a:ext cx="1293840" cy="303120"/>
            <a:chOff x="4191120" y="1371600"/>
            <a:chExt cx="1293840" cy="303120"/>
          </a:xfrm>
        </p:grpSpPr>
        <p:sp>
          <p:nvSpPr>
            <p:cNvPr id="223" name=""/>
            <p:cNvSpPr/>
            <p:nvPr/>
          </p:nvSpPr>
          <p:spPr>
            <a:xfrm>
              <a:off x="4191120" y="13716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13716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57400" y="2057400"/>
            <a:ext cx="1293840" cy="303120"/>
            <a:chOff x="2057400" y="2057400"/>
            <a:chExt cx="1293840" cy="303120"/>
          </a:xfrm>
        </p:grpSpPr>
        <p:sp>
          <p:nvSpPr>
            <p:cNvPr id="226" name=""/>
            <p:cNvSpPr/>
            <p:nvPr/>
          </p:nvSpPr>
          <p:spPr>
            <a:xfrm>
              <a:off x="2057400" y="20574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7400" y="20574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19320" y="2971800"/>
            <a:ext cx="988920" cy="303120"/>
            <a:chOff x="1219320" y="2971800"/>
            <a:chExt cx="988920" cy="303120"/>
          </a:xfrm>
        </p:grpSpPr>
        <p:sp>
          <p:nvSpPr>
            <p:cNvPr id="229" name=""/>
            <p:cNvSpPr/>
            <p:nvPr/>
          </p:nvSpPr>
          <p:spPr>
            <a:xfrm>
              <a:off x="1219320" y="2971800"/>
              <a:ext cx="988920" cy="303120"/>
            </a:xfrm>
            <a:prstGeom prst="roundRect">
              <a:avLst>
                <a:gd name="adj" fmla="val 5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2971800"/>
              <a:ext cx="98892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666880" y="2971800"/>
            <a:ext cx="1141560" cy="303120"/>
            <a:chOff x="2666880" y="2971800"/>
            <a:chExt cx="1141560" cy="303120"/>
          </a:xfrm>
        </p:grpSpPr>
        <p:sp>
          <p:nvSpPr>
            <p:cNvPr id="232" name=""/>
            <p:cNvSpPr/>
            <p:nvPr/>
          </p:nvSpPr>
          <p:spPr>
            <a:xfrm>
              <a:off x="2666880" y="2971800"/>
              <a:ext cx="1141560" cy="303120"/>
            </a:xfrm>
            <a:prstGeom prst="roundRect">
              <a:avLst>
                <a:gd name="adj" fmla="val 5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66880" y="2971800"/>
              <a:ext cx="114156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cc-2.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15000" y="2057400"/>
            <a:ext cx="1293840" cy="303120"/>
            <a:chOff x="5715000" y="2057400"/>
            <a:chExt cx="1293840" cy="303120"/>
          </a:xfrm>
        </p:grpSpPr>
        <p:sp>
          <p:nvSpPr>
            <p:cNvPr id="235" name=""/>
            <p:cNvSpPr/>
            <p:nvPr/>
          </p:nvSpPr>
          <p:spPr>
            <a:xfrm>
              <a:off x="5715000" y="20574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20574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267080" y="2971800"/>
            <a:ext cx="1293840" cy="303120"/>
            <a:chOff x="4267080" y="2971800"/>
            <a:chExt cx="1293840" cy="303120"/>
          </a:xfrm>
        </p:grpSpPr>
        <p:sp>
          <p:nvSpPr>
            <p:cNvPr id="238" name=""/>
            <p:cNvSpPr/>
            <p:nvPr/>
          </p:nvSpPr>
          <p:spPr>
            <a:xfrm>
              <a:off x="4267080" y="29718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7080" y="29718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rj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15000" y="2971800"/>
            <a:ext cx="1293840" cy="303120"/>
            <a:chOff x="5715000" y="2971800"/>
            <a:chExt cx="1293840" cy="303120"/>
          </a:xfrm>
        </p:grpSpPr>
        <p:sp>
          <p:nvSpPr>
            <p:cNvPr id="241" name=""/>
            <p:cNvSpPr/>
            <p:nvPr/>
          </p:nvSpPr>
          <p:spPr>
            <a:xfrm>
              <a:off x="5715000" y="29718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29718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a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162920" y="2971800"/>
            <a:ext cx="1293840" cy="303120"/>
            <a:chOff x="7162920" y="2971800"/>
            <a:chExt cx="1293840" cy="303120"/>
          </a:xfrm>
        </p:grpSpPr>
        <p:sp>
          <p:nvSpPr>
            <p:cNvPr id="244" name=""/>
            <p:cNvSpPr/>
            <p:nvPr/>
          </p:nvSpPr>
          <p:spPr>
            <a:xfrm>
              <a:off x="7162920" y="29718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62920" y="29718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N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105520" y="3809880"/>
            <a:ext cx="912600" cy="303480"/>
            <a:chOff x="5105520" y="3809880"/>
            <a:chExt cx="912600" cy="303480"/>
          </a:xfrm>
        </p:grpSpPr>
        <p:sp>
          <p:nvSpPr>
            <p:cNvPr id="247" name=""/>
            <p:cNvSpPr/>
            <p:nvPr/>
          </p:nvSpPr>
          <p:spPr>
            <a:xfrm>
              <a:off x="5105520" y="3809880"/>
              <a:ext cx="912600" cy="30348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5520" y="3809880"/>
              <a:ext cx="91260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53080" y="3809880"/>
            <a:ext cx="912960" cy="303480"/>
            <a:chOff x="6553080" y="3809880"/>
            <a:chExt cx="912960" cy="303480"/>
          </a:xfrm>
        </p:grpSpPr>
        <p:sp>
          <p:nvSpPr>
            <p:cNvPr id="250" name=""/>
            <p:cNvSpPr/>
            <p:nvPr/>
          </p:nvSpPr>
          <p:spPr>
            <a:xfrm>
              <a:off x="6553080" y="3809880"/>
              <a:ext cx="912960" cy="30348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3080" y="3809880"/>
              <a:ext cx="9129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>
            <a:off x="2815920" y="1676520"/>
            <a:ext cx="191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1676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49240" y="2362320"/>
            <a:ext cx="844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362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949640" y="2362320"/>
            <a:ext cx="1377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36232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2362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59480" y="3276720"/>
            <a:ext cx="768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32767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343400" y="4724280"/>
            <a:ext cx="912960" cy="303480"/>
            <a:chOff x="4343400" y="4724280"/>
            <a:chExt cx="912960" cy="303480"/>
          </a:xfrm>
        </p:grpSpPr>
        <p:sp>
          <p:nvSpPr>
            <p:cNvPr id="262" name=""/>
            <p:cNvSpPr/>
            <p:nvPr/>
          </p:nvSpPr>
          <p:spPr>
            <a:xfrm>
              <a:off x="4343400" y="4724280"/>
              <a:ext cx="912960" cy="303480"/>
            </a:xfrm>
            <a:prstGeom prst="roundRect">
              <a:avLst>
                <a:gd name="adj" fmla="val 51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43400" y="4724280"/>
              <a:ext cx="9129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715000" y="4724280"/>
            <a:ext cx="912960" cy="303480"/>
            <a:chOff x="5715000" y="4724280"/>
            <a:chExt cx="912960" cy="303480"/>
          </a:xfrm>
        </p:grpSpPr>
        <p:sp>
          <p:nvSpPr>
            <p:cNvPr id="265" name=""/>
            <p:cNvSpPr/>
            <p:nvPr/>
          </p:nvSpPr>
          <p:spPr>
            <a:xfrm>
              <a:off x="5715000" y="4724280"/>
              <a:ext cx="912960" cy="303480"/>
            </a:xfrm>
            <a:prstGeom prst="roundRect">
              <a:avLst>
                <a:gd name="adj" fmla="val 5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5000" y="4724280"/>
              <a:ext cx="9129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myp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562720" y="4114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797360" y="4114800"/>
            <a:ext cx="768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73120" y="3273120"/>
            <a:ext cx="1530360" cy="1454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FA0-CF16-4687-8A4C-28F4B97A391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operations with lin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a symbolic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Unix with command 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n –s &lt;link name&gt; &lt;file 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etion of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we also delete the lin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ther a list of backward link (i.e. the linked file points to all symbolic link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to search the file system for pending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 much overhead in both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32A-DB60-47C4-91F6-91AB8AB5349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letion of a file with lin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we delete the file if there is a symbolic link to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implemen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keeps a reference counter of how many symbolic links are pointing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reference counter goes to 0, the file is effectively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ost implementations, the link remains “pending” and an error is raised if we try to acce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074-8FE5-43CA-AC5C-50D64DA508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956120" y="2976480"/>
            <a:ext cx="3189240" cy="2965680"/>
          </a:xfrm>
          <a:prstGeom prst="roundRect">
            <a:avLst>
              <a:gd name="adj" fmla="val 5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ains the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 the specified dev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 implement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 level read/write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re is not a concept of fi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et. The file is implem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er level layers. Here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n only read/writ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mplementation of a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mplementation is usually done in “lay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5105520"/>
            <a:ext cx="2436840" cy="455400"/>
            <a:chOff x="1600200" y="5105520"/>
            <a:chExt cx="2436840" cy="455400"/>
          </a:xfrm>
        </p:grpSpPr>
        <p:sp>
          <p:nvSpPr>
            <p:cNvPr id="278" name=""/>
            <p:cNvSpPr/>
            <p:nvPr/>
          </p:nvSpPr>
          <p:spPr>
            <a:xfrm>
              <a:off x="1600200" y="5105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5105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281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284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287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290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293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296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299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1" name=""/>
          <p:cNvCxnSpPr>
            <a:stCxn id="274" idx="1"/>
            <a:endCxn id="295" idx="3"/>
          </p:cNvCxnSpPr>
          <p:nvPr/>
        </p:nvCxnSpPr>
        <p:spPr>
          <a:xfrm flipV="1" rot="10800000">
            <a:off x="4036320" y="4458960"/>
            <a:ext cx="919800" cy="418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D5F-335E-4182-A51B-588B55E110E7}" type="slidenum">
              <a:t>23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727520" y="1681200"/>
            <a:ext cx="3875040" cy="4560840"/>
          </a:xfrm>
          <a:custGeom>
            <a:avLst/>
            <a:gdLst>
              <a:gd name="textAreaLeft" fmla="*/ 360 w 3875040"/>
              <a:gd name="textAreaRight" fmla="*/ 3874680 w 3875040"/>
              <a:gd name="textAreaTop" fmla="*/ 360 h 4560840"/>
              <a:gd name="textAreaBottom" fmla="*/ 4560480 h 4560840"/>
            </a:gdLst>
            <a:ahLst/>
            <a:rect l="textAreaLeft" t="textAreaTop" r="textAreaRight" b="textAreaBottom"/>
            <a:pathLst>
              <a:path w="21600" h="25422">
                <a:moveTo>
                  <a:pt x="8" y="0"/>
                </a:moveTo>
                <a:arcTo wR="8" hR="8" stAng="16200000" swAng="-5400000"/>
                <a:lnTo>
                  <a:pt x="0" y="25414"/>
                </a:lnTo>
                <a:arcTo wR="8" hR="8" stAng="10800000" swAng="-5400000"/>
                <a:lnTo>
                  <a:pt x="21592" y="25422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 is also 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irtual Volume Layer”. Every d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seen as a linear sequen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evel translates linea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bers into disk coordinat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I/O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ample: block number 2035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cated on track 12, sector 3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vel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also depends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sk, so it could be considered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 the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305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308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311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314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317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320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323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326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"/>
          <p:cNvCxnSpPr>
            <a:stCxn id="302" idx="1"/>
            <a:endCxn id="322" idx="3"/>
          </p:cNvCxnSpPr>
          <p:nvPr/>
        </p:nvCxnSpPr>
        <p:spPr>
          <a:xfrm flipV="1" rot="10800000">
            <a:off x="4036320" y="3960360"/>
            <a:ext cx="691200" cy="25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1AA-C147-4068-B1EF-33A846B3CFE7}" type="slidenum">
              <a:t>24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imp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ion from linear block number to block coordinates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eduling algorithm can be done only in this level, because here we know the physical of the disk (i.e. arm directio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in this level we organize the requests for disk access in one or more queues, for example with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070-1B9D-4672-901E-02D10D55EE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52480" y="50292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36576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lock number requested from the upper layer is transformed in a block coordinate. Then, the request is inserted in a SCAN-ordered queue. An internal process, reads from the queue and serves the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952880"/>
            <a:ext cx="762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07600" y="5562720"/>
            <a:ext cx="19141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 drivers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86360" y="4038480"/>
            <a:ext cx="2532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ic file system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35812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67640" y="2590920"/>
            <a:ext cx="25574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organiz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724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75200" y="5029200"/>
            <a:ext cx="30160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L_read(track,sector,plate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78960" y="3672000"/>
            <a:ext cx="27982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VL_read(block numbe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31240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962520" y="4267080"/>
            <a:ext cx="1522440" cy="227160"/>
            <a:chOff x="3962520" y="4267080"/>
            <a:chExt cx="1522440" cy="227160"/>
          </a:xfrm>
        </p:grpSpPr>
        <p:sp>
          <p:nvSpPr>
            <p:cNvPr id="345" name=""/>
            <p:cNvSpPr/>
            <p:nvPr/>
          </p:nvSpPr>
          <p:spPr>
            <a:xfrm>
              <a:off x="518004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512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708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0456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553080" y="40384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245280" y="44197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654000" y="4419720"/>
            <a:ext cx="235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4724280"/>
            <a:ext cx="289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4191120"/>
            <a:ext cx="455400" cy="379440"/>
            <a:chOff x="5791320" y="4191120"/>
            <a:chExt cx="455400" cy="379440"/>
          </a:xfrm>
        </p:grpSpPr>
        <p:sp>
          <p:nvSpPr>
            <p:cNvPr id="356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5483160" y="44197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663-DED1-467B-AFA4-F437060DC8A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rovides the follow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VL_read(block numb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s the block number into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kes the LL_read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VL_writ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s the block number into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kes the LL_write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84F-886C-4E63-BF42-369A4D74FEE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727520" y="1909800"/>
            <a:ext cx="3800520" cy="4103640"/>
          </a:xfrm>
          <a:custGeom>
            <a:avLst/>
            <a:gdLst>
              <a:gd name="textAreaLeft" fmla="*/ 360 w 3800520"/>
              <a:gd name="textAreaRight" fmla="*/ 3800160 w 3800520"/>
              <a:gd name="textAreaTop" fmla="*/ 360 h 4103640"/>
              <a:gd name="textAreaBottom" fmla="*/ 4103280 h 4103640"/>
            </a:gdLst>
            <a:ahLst/>
            <a:rect l="textAreaLeft" t="textAreaTop" r="textAreaRight" b="textAreaBottom"/>
            <a:pathLst>
              <a:path w="21600" h="23323">
                <a:moveTo>
                  <a:pt x="9" y="0"/>
                </a:moveTo>
                <a:arcTo wR="9" hR="9" stAng="16200000" swAng="-5400000"/>
                <a:lnTo>
                  <a:pt x="0" y="23314"/>
                </a:lnTo>
                <a:arcTo wR="9" hR="9" stAng="10800000" swAng="-5400000"/>
                <a:lnTo>
                  <a:pt x="21591" y="23323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this layer, each file is divided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ical blocks. Each logical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then allocated on a physical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 the disk. Notice the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ith the paging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veral ways of alloca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enever possible, consec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s of a file are alloca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ecutive blocks on the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ayer also imp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tion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364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367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370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373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376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379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382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385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7" name=""/>
          <p:cNvCxnSpPr>
            <a:stCxn id="361" idx="1"/>
            <a:endCxn id="381" idx="3"/>
          </p:cNvCxnSpPr>
          <p:nvPr/>
        </p:nvCxnSpPr>
        <p:spPr>
          <a:xfrm rot="10800000">
            <a:off x="4036320" y="3502800"/>
            <a:ext cx="691200" cy="4579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331-55FA-430F-92B3-60E141A433CE}" type="slidenum">
              <a:t>28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provides the concept of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we do not have the “file name”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is identified by the pointer to the file desc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is associated at least the first block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is layer up, we will only see the concept of f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layer (and the upper ones) manipulate the i-node (the descriptor of the physical file on the dis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51D-93DB-4DC0-8B02-4F1AB893631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system 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ncept of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ile is a collection of bytes recorded on a mass storag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ile can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 code of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abl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ous kind of data (binar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e is the minimum “unit” of allocation of data in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ccess a file we must be able to interpret its cont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078-A8A0-481D-A0C4-E8A5FE6B180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artition on the disk is a set of  consecutive of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k contains 10,000,000 blocks (sector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 1:  [0 – 9,999] (swa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 2:  [10,000 – 4,999,999]  (hda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 3:  [5,000,000 – 9,999,999] (hda2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rtition table is stored on the disk itself, in sect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view/edit a part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929-8007-4777-BC05-D28EB01506C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also provides an allocatio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file’s blocks are allocated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gorithm is very important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layer maintains the information on which blocks on the disk are used and which ar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formation is stored on the FAT (file allocation t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particular structure that is stored in some fixed position in the disk (for example tracks 0 and 1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 is partially loaded in memory, for faster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CFF-F84C-47CB-9BA1-938691D68DA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S-DOS FAT is implemented in the following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beginning of each partition, we find the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 is a table that contains one element for each block in the disk, plus an index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entry in the index table contains the name of the file and its first block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try in the FAT corresponding to the block number, contains the number of the second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, the FAT is a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 used blocks hav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273-680C-48D1-B644-FD495B49F2F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523880" y="1981080"/>
            <a:ext cx="2894040" cy="303480"/>
            <a:chOff x="1523880" y="1981080"/>
            <a:chExt cx="2894040" cy="303480"/>
          </a:xfrm>
        </p:grpSpPr>
        <p:grpSp>
          <p:nvGrpSpPr>
            <p:cNvPr id="398" name=""/>
            <p:cNvGrpSpPr/>
            <p:nvPr/>
          </p:nvGrpSpPr>
          <p:grpSpPr>
            <a:xfrm>
              <a:off x="1523880" y="1981080"/>
              <a:ext cx="1446480" cy="303480"/>
              <a:chOff x="1523880" y="1981080"/>
              <a:chExt cx="1446480" cy="303480"/>
            </a:xfrm>
          </p:grpSpPr>
          <p:sp>
            <p:nvSpPr>
              <p:cNvPr id="399" name=""/>
              <p:cNvSpPr/>
              <p:nvPr/>
            </p:nvSpPr>
            <p:spPr>
              <a:xfrm>
                <a:off x="1523880" y="1981080"/>
                <a:ext cx="1446480" cy="30348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3880" y="1981080"/>
                <a:ext cx="1446480" cy="3034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data.t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971800" y="1981080"/>
              <a:ext cx="1446120" cy="303480"/>
              <a:chOff x="2971800" y="1981080"/>
              <a:chExt cx="1446120" cy="303480"/>
            </a:xfrm>
          </p:grpSpPr>
          <p:sp>
            <p:nvSpPr>
              <p:cNvPr id="402" name=""/>
              <p:cNvSpPr/>
              <p:nvPr/>
            </p:nvSpPr>
            <p:spPr>
              <a:xfrm>
                <a:off x="2971800" y="1981080"/>
                <a:ext cx="1446120" cy="30348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71800" y="1981080"/>
                <a:ext cx="1446120" cy="3034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1523880" y="2286000"/>
            <a:ext cx="2894040" cy="303120"/>
            <a:chOff x="1523880" y="2286000"/>
            <a:chExt cx="2894040" cy="303120"/>
          </a:xfrm>
        </p:grpSpPr>
        <p:grpSp>
          <p:nvGrpSpPr>
            <p:cNvPr id="405" name=""/>
            <p:cNvGrpSpPr/>
            <p:nvPr/>
          </p:nvGrpSpPr>
          <p:grpSpPr>
            <a:xfrm>
              <a:off x="1523880" y="2286000"/>
              <a:ext cx="1446480" cy="303120"/>
              <a:chOff x="1523880" y="2286000"/>
              <a:chExt cx="1446480" cy="303120"/>
            </a:xfrm>
          </p:grpSpPr>
          <p:sp>
            <p:nvSpPr>
              <p:cNvPr id="406" name=""/>
              <p:cNvSpPr/>
              <p:nvPr/>
            </p:nvSpPr>
            <p:spPr>
              <a:xfrm>
                <a:off x="1523880" y="2286000"/>
                <a:ext cx="144648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23880" y="2286000"/>
                <a:ext cx="144648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movie.mp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971800" y="2286000"/>
              <a:ext cx="1446120" cy="303120"/>
              <a:chOff x="2971800" y="2286000"/>
              <a:chExt cx="1446120" cy="303120"/>
            </a:xfrm>
          </p:grpSpPr>
          <p:sp>
            <p:nvSpPr>
              <p:cNvPr id="409" name=""/>
              <p:cNvSpPr/>
              <p:nvPr/>
            </p:nvSpPr>
            <p:spPr>
              <a:xfrm>
                <a:off x="2971800" y="2286000"/>
                <a:ext cx="144612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71800" y="2286000"/>
                <a:ext cx="144612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1523880" y="2590920"/>
            <a:ext cx="2894040" cy="303120"/>
            <a:chOff x="1523880" y="2590920"/>
            <a:chExt cx="2894040" cy="303120"/>
          </a:xfrm>
        </p:grpSpPr>
        <p:grpSp>
          <p:nvGrpSpPr>
            <p:cNvPr id="412" name=""/>
            <p:cNvGrpSpPr/>
            <p:nvPr/>
          </p:nvGrpSpPr>
          <p:grpSpPr>
            <a:xfrm>
              <a:off x="1523880" y="2590920"/>
              <a:ext cx="1446480" cy="303120"/>
              <a:chOff x="1523880" y="2590920"/>
              <a:chExt cx="1446480" cy="303120"/>
            </a:xfrm>
          </p:grpSpPr>
          <p:sp>
            <p:nvSpPr>
              <p:cNvPr id="413" name=""/>
              <p:cNvSpPr/>
              <p:nvPr/>
            </p:nvSpPr>
            <p:spPr>
              <a:xfrm>
                <a:off x="1523880" y="2590920"/>
                <a:ext cx="144648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23880" y="2590920"/>
                <a:ext cx="144648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music.mp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971800" y="2590920"/>
              <a:ext cx="1446120" cy="303120"/>
              <a:chOff x="2971800" y="2590920"/>
              <a:chExt cx="1446120" cy="303120"/>
            </a:xfrm>
          </p:grpSpPr>
          <p:sp>
            <p:nvSpPr>
              <p:cNvPr id="416" name=""/>
              <p:cNvSpPr/>
              <p:nvPr/>
            </p:nvSpPr>
            <p:spPr>
              <a:xfrm>
                <a:off x="2971800" y="2590920"/>
                <a:ext cx="144612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1800" y="2590920"/>
                <a:ext cx="144612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553080" y="13716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1160" y="13716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553080" y="1676520"/>
            <a:ext cx="989280" cy="303120"/>
            <a:chOff x="6553080" y="1676520"/>
            <a:chExt cx="989280" cy="303120"/>
          </a:xfrm>
        </p:grpSpPr>
        <p:sp>
          <p:nvSpPr>
            <p:cNvPr id="421" name=""/>
            <p:cNvSpPr/>
            <p:nvPr/>
          </p:nvSpPr>
          <p:spPr>
            <a:xfrm>
              <a:off x="6553080" y="16765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3080" y="16765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61160" y="16765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553080" y="1981080"/>
            <a:ext cx="989280" cy="303480"/>
            <a:chOff x="6553080" y="1981080"/>
            <a:chExt cx="989280" cy="303480"/>
          </a:xfrm>
        </p:grpSpPr>
        <p:sp>
          <p:nvSpPr>
            <p:cNvPr id="425" name=""/>
            <p:cNvSpPr/>
            <p:nvPr/>
          </p:nvSpPr>
          <p:spPr>
            <a:xfrm>
              <a:off x="6553080" y="1981080"/>
              <a:ext cx="989280" cy="30348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3080" y="1981080"/>
              <a:ext cx="98928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861160" y="19810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22860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1160" y="22860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553080" y="2590920"/>
            <a:ext cx="989280" cy="303120"/>
            <a:chOff x="6553080" y="2590920"/>
            <a:chExt cx="989280" cy="303120"/>
          </a:xfrm>
        </p:grpSpPr>
        <p:sp>
          <p:nvSpPr>
            <p:cNvPr id="431" name=""/>
            <p:cNvSpPr/>
            <p:nvPr/>
          </p:nvSpPr>
          <p:spPr>
            <a:xfrm>
              <a:off x="6553080" y="25909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080" y="25909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861160" y="25909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289548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61160" y="28954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553080" y="3200400"/>
            <a:ext cx="989280" cy="303120"/>
            <a:chOff x="6553080" y="3200400"/>
            <a:chExt cx="989280" cy="303120"/>
          </a:xfrm>
        </p:grpSpPr>
        <p:sp>
          <p:nvSpPr>
            <p:cNvPr id="437" name=""/>
            <p:cNvSpPr/>
            <p:nvPr/>
          </p:nvSpPr>
          <p:spPr>
            <a:xfrm>
              <a:off x="6553080" y="320040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20040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861160" y="32004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553080" y="3505320"/>
            <a:ext cx="989280" cy="303120"/>
            <a:chOff x="6553080" y="3505320"/>
            <a:chExt cx="989280" cy="303120"/>
          </a:xfrm>
        </p:grpSpPr>
        <p:sp>
          <p:nvSpPr>
            <p:cNvPr id="441" name=""/>
            <p:cNvSpPr/>
            <p:nvPr/>
          </p:nvSpPr>
          <p:spPr>
            <a:xfrm>
              <a:off x="6553080" y="35053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35053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861160" y="35053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380988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61160" y="38098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41148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61160" y="41148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553080" y="4419720"/>
            <a:ext cx="989280" cy="303120"/>
            <a:chOff x="6553080" y="4419720"/>
            <a:chExt cx="989280" cy="303120"/>
          </a:xfrm>
        </p:grpSpPr>
        <p:sp>
          <p:nvSpPr>
            <p:cNvPr id="449" name=""/>
            <p:cNvSpPr/>
            <p:nvPr/>
          </p:nvSpPr>
          <p:spPr>
            <a:xfrm>
              <a:off x="6553080" y="44197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53080" y="44197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861160" y="44197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553080" y="4724280"/>
            <a:ext cx="989280" cy="303480"/>
            <a:chOff x="6553080" y="4724280"/>
            <a:chExt cx="989280" cy="303480"/>
          </a:xfrm>
        </p:grpSpPr>
        <p:sp>
          <p:nvSpPr>
            <p:cNvPr id="453" name=""/>
            <p:cNvSpPr/>
            <p:nvPr/>
          </p:nvSpPr>
          <p:spPr>
            <a:xfrm>
              <a:off x="6553080" y="4724280"/>
              <a:ext cx="989280" cy="30348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4724280"/>
              <a:ext cx="98928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861160" y="47242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50292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861160" y="50292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553080" y="5334120"/>
            <a:ext cx="989280" cy="303120"/>
            <a:chOff x="6553080" y="5334120"/>
            <a:chExt cx="989280" cy="303120"/>
          </a:xfrm>
        </p:grpSpPr>
        <p:sp>
          <p:nvSpPr>
            <p:cNvPr id="459" name=""/>
            <p:cNvSpPr/>
            <p:nvPr/>
          </p:nvSpPr>
          <p:spPr>
            <a:xfrm>
              <a:off x="6553080" y="53341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53080" y="53341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861160" y="53341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553080" y="5638680"/>
            <a:ext cx="989280" cy="303480"/>
            <a:chOff x="6553080" y="5638680"/>
            <a:chExt cx="989280" cy="303480"/>
          </a:xfrm>
        </p:grpSpPr>
        <p:sp>
          <p:nvSpPr>
            <p:cNvPr id="463" name=""/>
            <p:cNvSpPr/>
            <p:nvPr/>
          </p:nvSpPr>
          <p:spPr>
            <a:xfrm>
              <a:off x="6553080" y="5638680"/>
              <a:ext cx="989280" cy="30348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5638680"/>
              <a:ext cx="98928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5861160" y="56386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553080" y="5943600"/>
            <a:ext cx="989280" cy="303120"/>
            <a:chOff x="6553080" y="5943600"/>
            <a:chExt cx="989280" cy="303120"/>
          </a:xfrm>
        </p:grpSpPr>
        <p:sp>
          <p:nvSpPr>
            <p:cNvPr id="467" name=""/>
            <p:cNvSpPr/>
            <p:nvPr/>
          </p:nvSpPr>
          <p:spPr>
            <a:xfrm>
              <a:off x="6553080" y="594360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594360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861160" y="59436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endCxn id="424" idx="3"/>
          </p:cNvCxnSpPr>
          <p:nvPr/>
        </p:nvCxnSpPr>
        <p:spPr>
          <a:xfrm flipV="1">
            <a:off x="7542360" y="2131560"/>
            <a:ext cx="2160" cy="6105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endCxn id="420" idx="1"/>
          </p:cNvCxnSpPr>
          <p:nvPr/>
        </p:nvCxnSpPr>
        <p:spPr>
          <a:xfrm flipV="1">
            <a:off x="6552720" y="1828080"/>
            <a:ext cx="25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endCxn id="436" idx="3"/>
          </p:cNvCxnSpPr>
          <p:nvPr/>
        </p:nvCxnSpPr>
        <p:spPr>
          <a:xfrm flipV="1">
            <a:off x="7542360" y="3350880"/>
            <a:ext cx="2160" cy="2743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endCxn id="452" idx="1"/>
          </p:cNvCxnSpPr>
          <p:nvPr/>
        </p:nvCxnSpPr>
        <p:spPr>
          <a:xfrm>
            <a:off x="6552720" y="3350880"/>
            <a:ext cx="252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endCxn id="458" idx="3"/>
          </p:cNvCxnSpPr>
          <p:nvPr/>
        </p:nvCxnSpPr>
        <p:spPr>
          <a:xfrm>
            <a:off x="7542360" y="4875120"/>
            <a:ext cx="2160" cy="6105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endCxn id="440" idx="1"/>
          </p:cNvCxnSpPr>
          <p:nvPr/>
        </p:nvCxnSpPr>
        <p:spPr>
          <a:xfrm flipV="1">
            <a:off x="6552720" y="3657240"/>
            <a:ext cx="2520" cy="182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48" idx="3"/>
            <a:endCxn id="462" idx="3"/>
          </p:cNvCxnSpPr>
          <p:nvPr/>
        </p:nvCxnSpPr>
        <p:spPr>
          <a:xfrm>
            <a:off x="7542360" y="4571640"/>
            <a:ext cx="2160" cy="122004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2260080" y="1523880"/>
            <a:ext cx="14342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461-490E-4F30-AD8E-0972B33D069D}" type="slidenum">
              <a:t>33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ther implement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tore the free blocks we can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ector of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if the block i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if the block is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very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ree block contains the address of the next fre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of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free block contains the list of the first N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se, the last contains the address of the next N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557-B4D1-4FCD-B536-9DE369D4CA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lloc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atenated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block contains the information on its nex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: only sequential access, to know where logical block 100 is, the system must read all 99 previou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xed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ile is associated a block table (usually in the first bloc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able contains the physical block number of each logical block of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direct access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: requires some extra space for each file (1 block?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74F-56DE-4775-84BA-103630A670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dexed al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ile have one (or more) index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the first block of the file does not contain data but the index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ase more index blocks are needed (for very long files), index blocks can be concat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allocation is the mos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t in many different flav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53C-A594-42F8-8522-522E05D3247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752480" y="52722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F computes the logical blocks of the file to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G computes the physical blocks on the disk (reading from the index block of the fil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86360" y="5653080"/>
            <a:ext cx="2532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ic file system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519588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67640" y="4205160"/>
            <a:ext cx="25574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organiz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27840" y="5272200"/>
            <a:ext cx="27982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VL_read(block numbe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4876920"/>
            <a:ext cx="180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35812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36576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53080" y="30481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52480" y="3657600"/>
            <a:ext cx="44668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L_read(i-node pointer, position, num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40384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45280" y="44197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791320" y="4191120"/>
            <a:ext cx="455400" cy="379440"/>
            <a:chOff x="5791320" y="4191120"/>
            <a:chExt cx="455400" cy="379440"/>
          </a:xfrm>
        </p:grpSpPr>
        <p:sp>
          <p:nvSpPr>
            <p:cNvPr id="499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343400" y="4648320"/>
            <a:ext cx="455760" cy="379440"/>
            <a:chOff x="4343400" y="4648320"/>
            <a:chExt cx="455760" cy="379440"/>
          </a:xfrm>
        </p:grpSpPr>
        <p:sp>
          <p:nvSpPr>
            <p:cNvPr id="502" name=""/>
            <p:cNvSpPr/>
            <p:nvPr/>
          </p:nvSpPr>
          <p:spPr>
            <a:xfrm>
              <a:off x="4343400" y="4648320"/>
              <a:ext cx="45576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3400" y="4648320"/>
              <a:ext cx="45576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905120" y="4724280"/>
            <a:ext cx="1903320" cy="303480"/>
            <a:chOff x="1905120" y="4724280"/>
            <a:chExt cx="1903320" cy="303480"/>
          </a:xfrm>
        </p:grpSpPr>
        <p:sp>
          <p:nvSpPr>
            <p:cNvPr id="505" name=""/>
            <p:cNvSpPr/>
            <p:nvPr/>
          </p:nvSpPr>
          <p:spPr>
            <a:xfrm>
              <a:off x="1905120" y="4724280"/>
              <a:ext cx="1903320" cy="30348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5120" y="4724280"/>
              <a:ext cx="190332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ndex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H="1">
            <a:off x="4568760" y="4419720"/>
            <a:ext cx="122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44197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48769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00600" y="487692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07680" y="2743200"/>
            <a:ext cx="21445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ica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AEC-6520-4297-B9CA-18D043849D1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s provided by thi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creat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s a new file, allocating some space for it on the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remov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an existing file, freeing th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open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s the first block of a file in memory for indexe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clos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the memory occupied by tha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read() and FOL_writ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8C7-0BB0-4AB0-B8A7-D03153D3BEA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727520" y="1909800"/>
            <a:ext cx="3800520" cy="334152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ayer provides sev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unctional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 control and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talogs (directori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ayer provides an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the application progra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517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520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523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526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29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532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35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538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0" name=""/>
          <p:cNvCxnSpPr>
            <a:stCxn id="514" idx="1"/>
            <a:endCxn id="534" idx="3"/>
          </p:cNvCxnSpPr>
          <p:nvPr/>
        </p:nvCxnSpPr>
        <p:spPr>
          <a:xfrm rot="10800000">
            <a:off x="4036320" y="3045600"/>
            <a:ext cx="691200" cy="53424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6C2-A6B7-444D-83B8-7897C8CF00C9}" type="slidenum">
              <a:t>39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attributes of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ext, binary, sound stream, video stream, et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Access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include group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Date and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f creation, of last modification, of last acce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4DF-D18F-4BFD-B082-0D5DB0E6F44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vide it into 3 sub-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control and 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used to check is a certain operation on a file can actuall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ile is associated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is not uniq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the “directory”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, the Logical File System Layer itself provide addition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3B5-52FC-4EE7-8E64-EBC2818C0BA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b-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545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548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551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554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57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560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63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038480" y="2131920"/>
            <a:ext cx="4341960" cy="2133720"/>
            <a:chOff x="4038480" y="2131920"/>
            <a:chExt cx="4341960" cy="2133720"/>
          </a:xfrm>
        </p:grpSpPr>
        <p:sp>
          <p:nvSpPr>
            <p:cNvPr id="566" name=""/>
            <p:cNvSpPr/>
            <p:nvPr/>
          </p:nvSpPr>
          <p:spPr>
            <a:xfrm>
              <a:off x="4876920" y="2135160"/>
              <a:ext cx="3503520" cy="2130480"/>
            </a:xfrm>
            <a:prstGeom prst="roundRect">
              <a:avLst>
                <a:gd name="adj" fmla="val 74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5408640" y="3657600"/>
              <a:ext cx="2589120" cy="379440"/>
              <a:chOff x="5408640" y="3657600"/>
              <a:chExt cx="2589120" cy="379440"/>
            </a:xfrm>
          </p:grpSpPr>
          <p:sp>
            <p:nvSpPr>
              <p:cNvPr id="568" name=""/>
              <p:cNvSpPr/>
              <p:nvPr/>
            </p:nvSpPr>
            <p:spPr>
              <a:xfrm>
                <a:off x="5408640" y="3657600"/>
                <a:ext cx="25891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08640" y="3657600"/>
                <a:ext cx="258912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Access Cont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5408640" y="3276720"/>
              <a:ext cx="2589120" cy="379440"/>
              <a:chOff x="5408640" y="3276720"/>
              <a:chExt cx="2589120" cy="379440"/>
            </a:xfrm>
          </p:grpSpPr>
          <p:sp>
            <p:nvSpPr>
              <p:cNvPr id="571" name=""/>
              <p:cNvSpPr/>
              <p:nvPr/>
            </p:nvSpPr>
            <p:spPr>
              <a:xfrm>
                <a:off x="5408640" y="3276720"/>
                <a:ext cx="25891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08640" y="3276720"/>
                <a:ext cx="258912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Nam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408640" y="2895480"/>
              <a:ext cx="2589120" cy="379440"/>
              <a:chOff x="5408640" y="2895480"/>
              <a:chExt cx="2589120" cy="379440"/>
            </a:xfrm>
          </p:grpSpPr>
          <p:sp>
            <p:nvSpPr>
              <p:cNvPr id="574" name=""/>
              <p:cNvSpPr/>
              <p:nvPr/>
            </p:nvSpPr>
            <p:spPr>
              <a:xfrm>
                <a:off x="5408640" y="2895480"/>
                <a:ext cx="25891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08640" y="2895480"/>
                <a:ext cx="258912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atalo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V="1">
              <a:off x="4038480" y="2131920"/>
              <a:ext cx="83844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3276720"/>
              <a:ext cx="8384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33600" y="2363760"/>
              <a:ext cx="1194840" cy="371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uff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51800" y="2363760"/>
              <a:ext cx="1257480" cy="371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581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90B-FA08-4457-88B7-CD0FEA41F55E}" type="slidenum">
              <a:t>41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ccess control sub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used to check is a certain operation on a file can actually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read/write permissions are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ermission is not granted, the function returns with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, locks are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ck can be on a file, or on part of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file (or part of a file) is locked by some process, access by other users is not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rror is returned or the process is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7B6-AF83-43E9-AE02-F3AC1EFEC97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functions ar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lock_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ks a file 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rocess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other process can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unlock_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locks the file for 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lock_w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ks a file fo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other process can access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unlock_w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locks a file fo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243-E261-4D69-AA77-33B1960BB3A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aming sub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ub-layer associates names t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ymbolic names are stored in the i-node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ublayer provides the LSF_open()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SF_open() returns an id (the index in the “internal open file table”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reates the “internal open file table”, and calls the FOL_open() that will create the i-node (if it does not exists alread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other functions (LSF_read(), LSF_write(), etc) will refer to the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678-91E1-440C-AD00-C3DE22D7611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hird sublayer (catalog layer) is used to implement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directory is seen as a specia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pecial file contains the list of the files and sub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also be implemented as a more complex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ublayer provides functions for manipulating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B26-F2AF-46F3-AE8E-6F9BD7D8FC3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functions ar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create_di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s a new directory in the specifie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s the directory name in the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remove_di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the directory, also from the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create_fil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s the file to its parent 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remove_fil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the file from its parent 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3FA-89CB-40EE-B8D5-9DE38001183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 of the Logic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ddition to the sub-layer functions, the LFS layer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read(file_id, buffer, nby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, after obtaining the i-node address, invokes the FOL_read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updates the current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write(file_id, buffer, nby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, after obtaining the i-node address, invokes the FOL_write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updates the current offset and the curren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seek(file_id, offset, ho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 only updates the current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close(file_i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 calls the FOL_close and decrements the reference counter in the “internal file decriptor”. If the counter is 0, deallocates the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4D1-0290-4ED2-BC3E-30031761E02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F transforms the file id into a i-nod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sition is the current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49528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50292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47242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6160" y="5029200"/>
            <a:ext cx="469080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L_read(i-node pointer, position, nbyt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14000" y="4114800"/>
            <a:ext cx="21445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ica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32720" y="5653080"/>
            <a:ext cx="25574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organiz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33526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52480" y="34290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28080" y="3429000"/>
            <a:ext cx="3486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SF_read(file id, buffer, nbyt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791320" y="4038480"/>
            <a:ext cx="455400" cy="379440"/>
            <a:chOff x="5791320" y="4038480"/>
            <a:chExt cx="455400" cy="379440"/>
          </a:xfrm>
        </p:grpSpPr>
        <p:sp>
          <p:nvSpPr>
            <p:cNvPr id="607" name=""/>
            <p:cNvSpPr/>
            <p:nvPr/>
          </p:nvSpPr>
          <p:spPr>
            <a:xfrm>
              <a:off x="5791320" y="4038480"/>
              <a:ext cx="45540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91320" y="4038480"/>
              <a:ext cx="45540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553080" y="38098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6245280" y="411480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19920" y="4419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9920" y="4724280"/>
            <a:ext cx="533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B3F-B74C-4F82-9FEC-6D6ABAB052A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can also provide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SF_read may or may not involve a call to FOL_read(), depending on the content of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to fill the buffer, a LSF_read() of one byte can be transformed in a FOL_read() of many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a double buffering mechanism can be provid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rnal process can block on a circular buffer waiting to load a sequence of blocks from the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6DD-8C65-4112-B9A6-2C2DA9AEB52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operations on a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operations can be performed o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space on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cate space and updat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ize of a file is dynamic! This can create problems in the alloca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ing (lsee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cases, we need a pointer to the current position in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need to deallocate the space and update th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unc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9C3-D10A-4D56-ABED-7AD97E29876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rating system fun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s the entry in the process’ file descript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ls the LSF_open() that creates the “internal open file descrip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es from file descriptor to fil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y calls the LSF_read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es from file descriptor to fil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y calls the LSF_write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eek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F50-AA5B-4E96-9CBE-CC4047908B5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isk needs to be formatted before starting with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matting creates all structures in the disk that are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cat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ean FA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linked list of free blocks is creat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matting also “marks” bad blocks (i.e. blocks that cannot be used safel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other way of marking bad blocks in Unix is with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k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special system, the formatting creates the structures for the error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in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276-2CEE-4F5B-A499-993D15083E7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wap sp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ortion of the disk is allocated to the swap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wap ou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wap out modified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wap space is usually in a separat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void interference with oth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wap space can be manag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ingle direct access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llections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wap space is in a separat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 functions used for the files are not used for the swap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dedicated functions will load and unload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functions use algorithms optimized for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1B6-7246-4942-A55D-DC6092E3A6D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action – based file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dern file systems are based on the concept of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ld file systems, a crash of the OS, or another catastrophic event could leave the disk in an inconsist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a file is half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element of the FAT is not correctly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block is neither free nor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, when the system restarts, it check the consistency of the File tables on the disk and, in case it is not correct, runs a recovery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covery is long and ted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some other file could be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vercome these problems, the concept of Transaction-Based file systems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n directly from the databas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5DA-59A4-4B45-90D4-02FDE43296A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action – based file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transaction-based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nd write operations are “transa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operation consists of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ratio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mmi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mit phase is very short and can be considered “atom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it cannot be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ther words, operations cannot be left in a “incomplete”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commited operation are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0C2-028F-4B76-AB02-7B34219EEFE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action-based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320" y="2971800"/>
            <a:ext cx="7620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he first three operations are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ast operation is like it had never been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mplement this, we need to implement a write operation in a particula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blocks are written on the d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pdate in the “FAT” is part of the commi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changes a lot from FS to 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in Linux: ReiserFS, ext3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219320" y="1523880"/>
            <a:ext cx="1674720" cy="303480"/>
            <a:chOff x="1219320" y="1523880"/>
            <a:chExt cx="1674720" cy="303480"/>
          </a:xfrm>
        </p:grpSpPr>
        <p:grpSp>
          <p:nvGrpSpPr>
            <p:cNvPr id="628" name=""/>
            <p:cNvGrpSpPr/>
            <p:nvPr/>
          </p:nvGrpSpPr>
          <p:grpSpPr>
            <a:xfrm>
              <a:off x="1219320" y="1523880"/>
              <a:ext cx="1444680" cy="301680"/>
              <a:chOff x="1219320" y="1523880"/>
              <a:chExt cx="1444680" cy="301680"/>
            </a:xfrm>
          </p:grpSpPr>
          <p:sp>
            <p:nvSpPr>
              <p:cNvPr id="629" name=""/>
              <p:cNvSpPr/>
              <p:nvPr/>
            </p:nvSpPr>
            <p:spPr>
              <a:xfrm>
                <a:off x="121932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21932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665440" y="1523880"/>
              <a:ext cx="228600" cy="30348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8664">
                  <a:moveTo>
                    <a:pt x="150" y="0"/>
                  </a:moveTo>
                  <a:arcTo wR="150" hR="150" stAng="16200000" swAng="-5400000"/>
                  <a:lnTo>
                    <a:pt x="0" y="28514"/>
                  </a:lnTo>
                  <a:arcTo wR="150" hR="150" stAng="10800000" swAng="-5400000"/>
                  <a:lnTo>
                    <a:pt x="21450" y="28664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95480" y="1523880"/>
            <a:ext cx="1675080" cy="303480"/>
            <a:chOff x="2895480" y="1523880"/>
            <a:chExt cx="1675080" cy="303480"/>
          </a:xfrm>
        </p:grpSpPr>
        <p:grpSp>
          <p:nvGrpSpPr>
            <p:cNvPr id="633" name=""/>
            <p:cNvGrpSpPr/>
            <p:nvPr/>
          </p:nvGrpSpPr>
          <p:grpSpPr>
            <a:xfrm>
              <a:off x="2895480" y="1523880"/>
              <a:ext cx="1444680" cy="301680"/>
              <a:chOff x="2895480" y="1523880"/>
              <a:chExt cx="1444680" cy="301680"/>
            </a:xfrm>
          </p:grpSpPr>
          <p:sp>
            <p:nvSpPr>
              <p:cNvPr id="634" name=""/>
              <p:cNvSpPr/>
              <p:nvPr/>
            </p:nvSpPr>
            <p:spPr>
              <a:xfrm>
                <a:off x="289548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9548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4341960" y="1523880"/>
              <a:ext cx="228600" cy="30348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8664">
                  <a:moveTo>
                    <a:pt x="150" y="0"/>
                  </a:moveTo>
                  <a:arcTo wR="150" hR="150" stAng="16200000" swAng="-5400000"/>
                  <a:lnTo>
                    <a:pt x="0" y="28514"/>
                  </a:lnTo>
                  <a:arcTo wR="150" hR="150" stAng="10800000" swAng="-5400000"/>
                  <a:lnTo>
                    <a:pt x="21450" y="28664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572000" y="1523880"/>
            <a:ext cx="1674720" cy="303480"/>
            <a:chOff x="4572000" y="1523880"/>
            <a:chExt cx="1674720" cy="303480"/>
          </a:xfrm>
        </p:grpSpPr>
        <p:grpSp>
          <p:nvGrpSpPr>
            <p:cNvPr id="638" name=""/>
            <p:cNvGrpSpPr/>
            <p:nvPr/>
          </p:nvGrpSpPr>
          <p:grpSpPr>
            <a:xfrm>
              <a:off x="4572000" y="1523880"/>
              <a:ext cx="1444680" cy="301680"/>
              <a:chOff x="4572000" y="1523880"/>
              <a:chExt cx="1444680" cy="301680"/>
            </a:xfrm>
          </p:grpSpPr>
          <p:sp>
            <p:nvSpPr>
              <p:cNvPr id="639" name=""/>
              <p:cNvSpPr/>
              <p:nvPr/>
            </p:nvSpPr>
            <p:spPr>
              <a:xfrm>
                <a:off x="457200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57200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6018120" y="1523880"/>
              <a:ext cx="228600" cy="30348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8664">
                  <a:moveTo>
                    <a:pt x="150" y="0"/>
                  </a:moveTo>
                  <a:arcTo wR="150" hR="150" stAng="16200000" swAng="-5400000"/>
                  <a:lnTo>
                    <a:pt x="0" y="28514"/>
                  </a:lnTo>
                  <a:arcTo wR="150" hR="150" stAng="10800000" swAng="-5400000"/>
                  <a:lnTo>
                    <a:pt x="21450" y="28664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6248520" y="1523880"/>
            <a:ext cx="685800" cy="304920"/>
          </a:xfrm>
          <a:prstGeom prst="roundRect">
            <a:avLst>
              <a:gd name="adj" fmla="val 51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781680" y="1827360"/>
            <a:ext cx="150840" cy="915480"/>
            <a:chOff x="6781680" y="1827360"/>
            <a:chExt cx="150840" cy="915480"/>
          </a:xfrm>
        </p:grpSpPr>
        <p:sp>
          <p:nvSpPr>
            <p:cNvPr id="644" name=""/>
            <p:cNvSpPr/>
            <p:nvPr/>
          </p:nvSpPr>
          <p:spPr>
            <a:xfrm flipV="1">
              <a:off x="6781680" y="228240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781680" y="2286000"/>
              <a:ext cx="149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931080" y="182736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8D3-C340-4272-B67E-0B7183F85622}" type="slidenum">
              <a:t>55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any operating systems the file interface is used also for accessing devices and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ing on the name used in the open, it is possible to associate a file descriptor to a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one in the naming sub-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5CF-017B-42C5-BC2F-55A149D71D7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nux the i-node is substituted by a v-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-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-node is a generalization of a i-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-node is fo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-node can also be fo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-node contains a pointer to a device descripto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vice descriptor table contains appropriate functions pointers for open/read/write/clos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94E-1D25-4C11-AEE7-495F2171600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pecial files in Linu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/dev/ directory contains specia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not actual files on the 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in /dev/ is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ost ca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writing directly on the file, we can send data to the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reading directly from the file, we can read data from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ev/null is a particular “device” whose “write” operation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ing data to /dev/null is equivalent to sending them no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84E-0649-440E-AB21-1DBCC3D53BE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/proc 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special directory is /proc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, it is not a real directory as it does not contai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information on the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it contains a directory for ea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rectory contains several files, like the process id, the memory currently used by the proces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s and the top commands read their information from the /proc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DAD-A72A-4D0C-AB3E-4EC4945AF2D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ning a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it mean to open a f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e is normally memorized on the mas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ing a file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data structures in the operating system for accessing the file (tables, pointers, etc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ing that a file is being used by som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s, it cannot be deleted by another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a file can be opened by many processe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CE2-15D0-4308-957C-D4584492983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/proc 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time we “open” a file in the /proc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ming subsystem understands it is a specia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opens a special v-node that contains a pointer to a table of pointers to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/read/write/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call to read on that descriptor will be translated on a call to the appropriate function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nction pointer points to a function that looks inside the operating system structures and returns the needed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271-A8A0-4C69-BCAF-7CE831E293A0}" type="slidenum">
              <a:t>60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level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’s fi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one such table for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able contains “file descripto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“file descriptor” contains the pointer to “internal open file descriptor” residing in the open fi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fi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time an open() system call is invoked, one new “internal open file descriptor” is  created and memorized in the “open file ta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“internal open file descriptor” contains a pointer to the “file node descrip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nod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table contains one “file node descriptor” for each open file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ile node descriptor contains a counter to the number of “internal open file descriptors” pointing to th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FCB-D896-4B5F-9DBB-ED12C9D28C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94400" y="5410080"/>
            <a:ext cx="1135080" cy="681120"/>
          </a:xfrm>
          <a:prstGeom prst="roundRect">
            <a:avLst>
              <a:gd name="adj" fmla="val 23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2520" y="538200"/>
            <a:ext cx="1042920" cy="1050840"/>
          </a:xfrm>
          <a:custGeom>
            <a:avLst/>
            <a:gdLst>
              <a:gd name="textAreaLeft" fmla="*/ 360 w 1042920"/>
              <a:gd name="textAreaRight" fmla="*/ 1042560 w 1042920"/>
              <a:gd name="textAreaTop" fmla="*/ 360 h 1050840"/>
              <a:gd name="textAreaBottom" fmla="*/ 1050480 h 1050840"/>
            </a:gdLst>
            <a:ahLst/>
            <a:rect l="textAreaLeft" t="textAreaTop" r="textAreaRight" b="textAreaBottom"/>
            <a:pathLst>
              <a:path w="21600" h="21764">
                <a:moveTo>
                  <a:pt x="32" y="0"/>
                </a:moveTo>
                <a:arcTo wR="32" hR="32" stAng="16200000" swAng="-5400000"/>
                <a:lnTo>
                  <a:pt x="0" y="21732"/>
                </a:lnTo>
                <a:arcTo wR="32" hR="32" stAng="10800000" swAng="-5400000"/>
                <a:lnTo>
                  <a:pt x="21568" y="2176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Unix file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447920"/>
            <a:ext cx="2057400" cy="2209680"/>
          </a:xfrm>
          <a:custGeom>
            <a:avLst/>
            <a:gdLst>
              <a:gd name="textAreaLeft" fmla="*/ 360 w 2057400"/>
              <a:gd name="textAreaRight" fmla="*/ 2057040 w 2057400"/>
              <a:gd name="textAreaTop" fmla="*/ 360 h 2209680"/>
              <a:gd name="textAreaBottom" fmla="*/ 2209320 h 2209680"/>
            </a:gdLst>
            <a:ahLst/>
            <a:rect l="textAreaLeft" t="textAreaTop" r="textAreaRight" b="textAreaBottom"/>
            <a:pathLst>
              <a:path w="21600" h="23198">
                <a:moveTo>
                  <a:pt x="16" y="0"/>
                </a:moveTo>
                <a:arcTo wR="16" hR="16" stAng="16200000" swAng="-5400000"/>
                <a:lnTo>
                  <a:pt x="0" y="23182"/>
                </a:lnTo>
                <a:arcTo wR="16" hR="16" stAng="10800000" swAng="-5400000"/>
                <a:lnTo>
                  <a:pt x="21584" y="2319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886200"/>
            <a:ext cx="2057400" cy="2209680"/>
          </a:xfrm>
          <a:custGeom>
            <a:avLst/>
            <a:gdLst>
              <a:gd name="textAreaLeft" fmla="*/ 360 w 2057400"/>
              <a:gd name="textAreaRight" fmla="*/ 2057040 w 2057400"/>
              <a:gd name="textAreaTop" fmla="*/ 360 h 2209680"/>
              <a:gd name="textAreaBottom" fmla="*/ 2209320 h 2209680"/>
            </a:gdLst>
            <a:ahLst/>
            <a:rect l="textAreaLeft" t="textAreaTop" r="textAreaRight" b="textAreaBottom"/>
            <a:pathLst>
              <a:path w="21600" h="23198">
                <a:moveTo>
                  <a:pt x="16" y="0"/>
                </a:moveTo>
                <a:arcTo wR="16" hR="16" stAng="16200000" swAng="-5400000"/>
                <a:lnTo>
                  <a:pt x="0" y="23182"/>
                </a:lnTo>
                <a:arcTo wR="16" hR="16" stAng="10800000" swAng="-5400000"/>
                <a:lnTo>
                  <a:pt x="21584" y="2319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4400" y="1523880"/>
            <a:ext cx="4510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4400" y="3962520"/>
            <a:ext cx="4510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09680" y="1828800"/>
            <a:ext cx="912960" cy="1217520"/>
            <a:chOff x="2209680" y="1828800"/>
            <a:chExt cx="912960" cy="1217520"/>
          </a:xfrm>
        </p:grpSpPr>
        <p:sp>
          <p:nvSpPr>
            <p:cNvPr id="118" name=""/>
            <p:cNvSpPr/>
            <p:nvPr/>
          </p:nvSpPr>
          <p:spPr>
            <a:xfrm>
              <a:off x="2209680" y="1828800"/>
              <a:ext cx="912960" cy="1217520"/>
            </a:xfrm>
            <a:custGeom>
              <a:avLst/>
              <a:gdLst>
                <a:gd name="textAreaLeft" fmla="*/ 360 w 912960"/>
                <a:gd name="textAreaRight" fmla="*/ 912600 w 912960"/>
                <a:gd name="textAreaTop" fmla="*/ 360 h 1217520"/>
                <a:gd name="textAreaBottom" fmla="*/ 1217160 h 1217520"/>
              </a:gdLst>
              <a:ahLst/>
              <a:rect l="textAreaLeft" t="textAreaTop" r="textAreaRight" b="textAreaBottom"/>
              <a:pathLst>
                <a:path w="21600" h="28803">
                  <a:moveTo>
                    <a:pt x="37" y="0"/>
                  </a:moveTo>
                  <a:arcTo wR="37" hR="37" stAng="16200000" swAng="-5400000"/>
                  <a:lnTo>
                    <a:pt x="0" y="28766"/>
                  </a:lnTo>
                  <a:arcTo wR="37" hR="37" stAng="10800000" swAng="-5400000"/>
                  <a:lnTo>
                    <a:pt x="21563" y="28803"/>
                  </a:lnTo>
                  <a:arcTo wR="37" hR="37" stAng="5400000" swAng="-5400000"/>
                  <a:lnTo>
                    <a:pt x="21600" y="37"/>
                  </a:lnTo>
                  <a:arcTo wR="37" hR="37" stAng="0" swAng="-5400000"/>
                  <a:close/>
                </a:path>
              </a:pathLst>
            </a:cu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213372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243684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274176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09680" y="4343400"/>
            <a:ext cx="912960" cy="1217520"/>
            <a:chOff x="2209680" y="4343400"/>
            <a:chExt cx="912960" cy="1217520"/>
          </a:xfrm>
        </p:grpSpPr>
        <p:sp>
          <p:nvSpPr>
            <p:cNvPr id="123" name=""/>
            <p:cNvSpPr/>
            <p:nvPr/>
          </p:nvSpPr>
          <p:spPr>
            <a:xfrm>
              <a:off x="2209680" y="4343400"/>
              <a:ext cx="912960" cy="1217520"/>
            </a:xfrm>
            <a:custGeom>
              <a:avLst/>
              <a:gdLst>
                <a:gd name="textAreaLeft" fmla="*/ 360 w 912960"/>
                <a:gd name="textAreaRight" fmla="*/ 912600 w 912960"/>
                <a:gd name="textAreaTop" fmla="*/ 360 h 1217520"/>
                <a:gd name="textAreaBottom" fmla="*/ 1217160 h 1217520"/>
              </a:gdLst>
              <a:ahLst/>
              <a:rect l="textAreaLeft" t="textAreaTop" r="textAreaRight" b="textAreaBottom"/>
              <a:pathLst>
                <a:path w="21600" h="28803">
                  <a:moveTo>
                    <a:pt x="37" y="0"/>
                  </a:moveTo>
                  <a:arcTo wR="37" hR="37" stAng="16200000" swAng="-5400000"/>
                  <a:lnTo>
                    <a:pt x="0" y="28766"/>
                  </a:lnTo>
                  <a:arcTo wR="37" hR="37" stAng="10800000" swAng="-5400000"/>
                  <a:lnTo>
                    <a:pt x="21563" y="28803"/>
                  </a:lnTo>
                  <a:arcTo wR="37" hR="37" stAng="5400000" swAng="-5400000"/>
                  <a:lnTo>
                    <a:pt x="21600" y="37"/>
                  </a:lnTo>
                  <a:arcTo wR="37" hR="37" stAng="0" swAng="-5400000"/>
                  <a:close/>
                </a:path>
              </a:pathLst>
            </a:cu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464832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9680" y="495144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525636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19720" y="1981080"/>
            <a:ext cx="1369800" cy="912960"/>
            <a:chOff x="4419720" y="1981080"/>
            <a:chExt cx="1369800" cy="912960"/>
          </a:xfrm>
        </p:grpSpPr>
        <p:sp>
          <p:nvSpPr>
            <p:cNvPr id="128" name=""/>
            <p:cNvSpPr/>
            <p:nvPr/>
          </p:nvSpPr>
          <p:spPr>
            <a:xfrm>
              <a:off x="4419720" y="19810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22860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25891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81680" y="1981080"/>
            <a:ext cx="1370160" cy="912960"/>
            <a:chOff x="6781680" y="1981080"/>
            <a:chExt cx="1370160" cy="912960"/>
          </a:xfrm>
        </p:grpSpPr>
        <p:sp>
          <p:nvSpPr>
            <p:cNvPr id="132" name=""/>
            <p:cNvSpPr/>
            <p:nvPr/>
          </p:nvSpPr>
          <p:spPr>
            <a:xfrm>
              <a:off x="6781680" y="1981080"/>
              <a:ext cx="1370160" cy="91296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1680" y="2286000"/>
              <a:ext cx="13701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2589120"/>
              <a:ext cx="13701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819520" y="1981080"/>
            <a:ext cx="1598400" cy="1800"/>
            <a:chOff x="2819520" y="1981080"/>
            <a:chExt cx="1598400" cy="1800"/>
          </a:xfrm>
        </p:grpSpPr>
        <p:sp>
          <p:nvSpPr>
            <p:cNvPr id="136" name=""/>
            <p:cNvSpPr/>
            <p:nvPr/>
          </p:nvSpPr>
          <p:spPr>
            <a:xfrm>
              <a:off x="3808440" y="1981080"/>
              <a:ext cx="60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1981080"/>
              <a:ext cx="9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19720" y="2895480"/>
            <a:ext cx="1369800" cy="912960"/>
            <a:chOff x="4419720" y="2895480"/>
            <a:chExt cx="1369800" cy="912960"/>
          </a:xfrm>
        </p:grpSpPr>
        <p:sp>
          <p:nvSpPr>
            <p:cNvPr id="139" name=""/>
            <p:cNvSpPr/>
            <p:nvPr/>
          </p:nvSpPr>
          <p:spPr>
            <a:xfrm>
              <a:off x="4419720" y="28954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32004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35035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19720" y="3809880"/>
            <a:ext cx="1369800" cy="912960"/>
            <a:chOff x="4419720" y="3809880"/>
            <a:chExt cx="1369800" cy="912960"/>
          </a:xfrm>
        </p:grpSpPr>
        <p:sp>
          <p:nvSpPr>
            <p:cNvPr id="143" name=""/>
            <p:cNvSpPr/>
            <p:nvPr/>
          </p:nvSpPr>
          <p:spPr>
            <a:xfrm>
              <a:off x="4419720" y="38098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41148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9720" y="44179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419720" y="4724280"/>
            <a:ext cx="1369800" cy="912960"/>
            <a:chOff x="4419720" y="4724280"/>
            <a:chExt cx="1369800" cy="912960"/>
          </a:xfrm>
        </p:grpSpPr>
        <p:sp>
          <p:nvSpPr>
            <p:cNvPr id="147" name=""/>
            <p:cNvSpPr/>
            <p:nvPr/>
          </p:nvSpPr>
          <p:spPr>
            <a:xfrm>
              <a:off x="4419720" y="47242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50292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53323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819520" y="2284200"/>
            <a:ext cx="1598400" cy="687240"/>
            <a:chOff x="2819520" y="2284200"/>
            <a:chExt cx="1598400" cy="687240"/>
          </a:xfrm>
        </p:grpSpPr>
        <p:sp>
          <p:nvSpPr>
            <p:cNvPr id="151" name=""/>
            <p:cNvSpPr/>
            <p:nvPr/>
          </p:nvSpPr>
          <p:spPr>
            <a:xfrm>
              <a:off x="3808440" y="2968560"/>
              <a:ext cx="60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8440" y="2284200"/>
              <a:ext cx="144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2287440"/>
              <a:ext cx="9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19520" y="2588760"/>
            <a:ext cx="1596960" cy="1297080"/>
            <a:chOff x="2819520" y="2588760"/>
            <a:chExt cx="1596960" cy="1297080"/>
          </a:xfrm>
        </p:grpSpPr>
        <p:sp>
          <p:nvSpPr>
            <p:cNvPr id="155" name=""/>
            <p:cNvSpPr/>
            <p:nvPr/>
          </p:nvSpPr>
          <p:spPr>
            <a:xfrm>
              <a:off x="2819520" y="2592360"/>
              <a:ext cx="760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579840" y="2588760"/>
              <a:ext cx="14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79840" y="3882960"/>
              <a:ext cx="836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520" y="2131920"/>
            <a:ext cx="1598400" cy="2363760"/>
            <a:chOff x="2819520" y="2131920"/>
            <a:chExt cx="1598400" cy="2363760"/>
          </a:xfrm>
        </p:grpSpPr>
        <p:sp>
          <p:nvSpPr>
            <p:cNvPr id="159" name=""/>
            <p:cNvSpPr/>
            <p:nvPr/>
          </p:nvSpPr>
          <p:spPr>
            <a:xfrm>
              <a:off x="2819520" y="4492800"/>
              <a:ext cx="106524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884760" y="2131920"/>
              <a:ext cx="1440" cy="2363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4760" y="2135160"/>
              <a:ext cx="53316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819520" y="3045960"/>
            <a:ext cx="1598400" cy="1754280"/>
            <a:chOff x="2819520" y="3045960"/>
            <a:chExt cx="1598400" cy="1754280"/>
          </a:xfrm>
        </p:grpSpPr>
        <p:sp>
          <p:nvSpPr>
            <p:cNvPr id="163" name=""/>
            <p:cNvSpPr/>
            <p:nvPr/>
          </p:nvSpPr>
          <p:spPr>
            <a:xfrm>
              <a:off x="2819520" y="4797360"/>
              <a:ext cx="1217520" cy="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037040" y="3045960"/>
              <a:ext cx="1440" cy="1754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7040" y="3049560"/>
              <a:ext cx="38088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19520" y="4875120"/>
            <a:ext cx="1598400" cy="230400"/>
            <a:chOff x="2819520" y="4875120"/>
            <a:chExt cx="1598400" cy="230400"/>
          </a:xfrm>
        </p:grpSpPr>
        <p:sp>
          <p:nvSpPr>
            <p:cNvPr id="167" name=""/>
            <p:cNvSpPr/>
            <p:nvPr/>
          </p:nvSpPr>
          <p:spPr>
            <a:xfrm>
              <a:off x="2819520" y="5102280"/>
              <a:ext cx="136980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189320" y="4875120"/>
              <a:ext cx="1800" cy="23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9320" y="4878360"/>
              <a:ext cx="22860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781680" y="2895480"/>
            <a:ext cx="1370160" cy="912960"/>
            <a:chOff x="6781680" y="2895480"/>
            <a:chExt cx="1370160" cy="912960"/>
          </a:xfrm>
        </p:grpSpPr>
        <p:sp>
          <p:nvSpPr>
            <p:cNvPr id="171" name=""/>
            <p:cNvSpPr/>
            <p:nvPr/>
          </p:nvSpPr>
          <p:spPr>
            <a:xfrm>
              <a:off x="6781680" y="2895480"/>
              <a:ext cx="1370160" cy="91296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3200400"/>
              <a:ext cx="13701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81680" y="3503520"/>
              <a:ext cx="13701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781680" y="3809880"/>
            <a:ext cx="1370160" cy="912960"/>
            <a:chOff x="6781680" y="3809880"/>
            <a:chExt cx="1370160" cy="912960"/>
          </a:xfrm>
        </p:grpSpPr>
        <p:sp>
          <p:nvSpPr>
            <p:cNvPr id="175" name=""/>
            <p:cNvSpPr/>
            <p:nvPr/>
          </p:nvSpPr>
          <p:spPr>
            <a:xfrm>
              <a:off x="6781680" y="3809880"/>
              <a:ext cx="1370160" cy="91296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4114800"/>
              <a:ext cx="13701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4417920"/>
              <a:ext cx="13701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5520" y="2055600"/>
            <a:ext cx="1673280" cy="687240"/>
            <a:chOff x="5105520" y="2055600"/>
            <a:chExt cx="1673280" cy="687240"/>
          </a:xfrm>
        </p:grpSpPr>
        <p:sp>
          <p:nvSpPr>
            <p:cNvPr id="179" name=""/>
            <p:cNvSpPr/>
            <p:nvPr/>
          </p:nvSpPr>
          <p:spPr>
            <a:xfrm>
              <a:off x="5105520" y="2739960"/>
              <a:ext cx="106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170760" y="2055600"/>
              <a:ext cx="144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0760" y="2058840"/>
              <a:ext cx="60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181480" y="2971800"/>
            <a:ext cx="1597320" cy="684360"/>
            <a:chOff x="5181480" y="2971800"/>
            <a:chExt cx="1597320" cy="684360"/>
          </a:xfrm>
        </p:grpSpPr>
        <p:sp>
          <p:nvSpPr>
            <p:cNvPr id="183" name=""/>
            <p:cNvSpPr/>
            <p:nvPr/>
          </p:nvSpPr>
          <p:spPr>
            <a:xfrm>
              <a:off x="5181480" y="3654360"/>
              <a:ext cx="989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0760" y="2971800"/>
              <a:ext cx="144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0760" y="2971800"/>
              <a:ext cx="60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257800" y="3884400"/>
            <a:ext cx="1522440" cy="687240"/>
            <a:chOff x="5257800" y="3884400"/>
            <a:chExt cx="1522440" cy="687240"/>
          </a:xfrm>
        </p:grpSpPr>
        <p:sp>
          <p:nvSpPr>
            <p:cNvPr id="187" name=""/>
            <p:cNvSpPr/>
            <p:nvPr/>
          </p:nvSpPr>
          <p:spPr>
            <a:xfrm>
              <a:off x="5257800" y="4568760"/>
              <a:ext cx="114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399360" y="3884400"/>
              <a:ext cx="144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9360" y="3887640"/>
              <a:ext cx="38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4037040"/>
            <a:ext cx="1446120" cy="1449360"/>
            <a:chOff x="5334120" y="4037040"/>
            <a:chExt cx="1446120" cy="1449360"/>
          </a:xfrm>
        </p:grpSpPr>
        <p:sp>
          <p:nvSpPr>
            <p:cNvPr id="191" name=""/>
            <p:cNvSpPr/>
            <p:nvPr/>
          </p:nvSpPr>
          <p:spPr>
            <a:xfrm>
              <a:off x="5334120" y="5483160"/>
              <a:ext cx="12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551640" y="4037040"/>
              <a:ext cx="1440" cy="14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1640" y="404028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657600" y="5726160"/>
            <a:ext cx="1136520" cy="904680"/>
          </a:xfrm>
          <a:prstGeom prst="roundRect">
            <a:avLst>
              <a:gd name="adj" fmla="val 17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1"/>
            <a:endCxn id="114" idx="2"/>
          </p:cNvCxnSpPr>
          <p:nvPr/>
        </p:nvCxnSpPr>
        <p:spPr>
          <a:xfrm rot="10800000">
            <a:off x="2323440" y="6095160"/>
            <a:ext cx="1334160" cy="8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6" name=""/>
          <p:cNvCxnSpPr>
            <a:stCxn id="110" idx="0"/>
            <a:endCxn id="174" idx="2"/>
          </p:cNvCxnSpPr>
          <p:nvPr/>
        </p:nvCxnSpPr>
        <p:spPr>
          <a:xfrm rot="10800000">
            <a:off x="7465320" y="4722120"/>
            <a:ext cx="496080" cy="68796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7" name=""/>
          <p:cNvCxnSpPr>
            <a:stCxn id="127" idx="0"/>
            <a:endCxn id="111" idx="1"/>
          </p:cNvCxnSpPr>
          <p:nvPr/>
        </p:nvCxnSpPr>
        <p:spPr>
          <a:xfrm flipV="1">
            <a:off x="5103720" y="1063440"/>
            <a:ext cx="1829520" cy="9180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74D-9EB9-4EE4-9955-5125A700F5F9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typ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le type is an indication of how data is stored on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ndows, each file has an extension that reveals the fi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exe, .bat, .doc, .xls, .av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gram uses this information to understand the format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nly an indication, not embedded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acintonsh, each file is associated an identifier of the program that creat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ouble-click on a file, the appropriate program is automatical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ssociation is embedded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0432-9544-4850-8BD3-DA6CFC0835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