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2436-A027-44F8-93D7-D794D2FB9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18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11040"/>
            <a:ext cx="81518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5C2A-740F-4EE4-A0BE-F3A091A09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63240" y="152388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1104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63240" y="391104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75AA-93EF-496A-847A-F34F24066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6247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42320" y="1523880"/>
            <a:ext cx="26247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98480" y="1523880"/>
            <a:ext cx="26247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11040"/>
            <a:ext cx="26247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42320" y="3911040"/>
            <a:ext cx="26247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98480" y="3911040"/>
            <a:ext cx="26247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03E7-921E-4674-890D-C8991F63C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3E3B0-2105-4DAC-99D9-82AE5EA7F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815184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0D09B-AD24-4335-BF47-4DF2A7F71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184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2056C-C088-44B1-9A44-07321EA1D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97800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63240" y="1523880"/>
            <a:ext cx="397800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233EF-0699-4C33-BD70-2DBF745D9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AE886-637D-4E96-B955-1A1112386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600200" y="152280"/>
            <a:ext cx="72374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4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AE163-E11C-45B3-AC62-747C15BB7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63240" y="1523880"/>
            <a:ext cx="397800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391104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AA9E6-9C4E-4499-BE8E-FEF7A23F6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815184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C4B9-AB70-42E9-B19D-80BBD1858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97800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63240" y="152388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63240" y="391104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5CCE5-8154-457E-9222-9696B884F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63240" y="152388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3911040"/>
            <a:ext cx="81518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7A968-C94F-46BE-A6B7-0F4E9EFA6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18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3911040"/>
            <a:ext cx="81518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A1087-017B-491A-853C-B7B8DDB18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63240" y="152388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391104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863240" y="391104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4B9F8-B604-4DEB-8A60-A60F5ED54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6247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442320" y="1523880"/>
            <a:ext cx="26247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98480" y="1523880"/>
            <a:ext cx="26247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3911040"/>
            <a:ext cx="26247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442320" y="3911040"/>
            <a:ext cx="26247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98480" y="3911040"/>
            <a:ext cx="26247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8582F-B357-4B5B-BC8B-C82625D41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184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D861-28B2-43D8-A0C2-7C5AD86C1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97800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63240" y="1523880"/>
            <a:ext cx="397800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3475-7F79-488F-8A45-30741BD28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8429-190C-4AAB-80D0-59500FE7A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600200" y="152280"/>
            <a:ext cx="72374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4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A8BF-8BC2-4E38-B959-91F1F51D8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63240" y="1523880"/>
            <a:ext cx="397800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1104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1B93-D06B-4499-AF7B-C9D0E8374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97800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63240" y="152388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63240" y="391104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2187-006E-4824-B863-697A7D95B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63240" y="152388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11040"/>
            <a:ext cx="81518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DEDD-EDF9-494E-9482-D6CD14570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815184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FB4CDE5-D423-462F-BFD9-A973E970ADF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380880" cy="1143000"/>
          </a:xfrm>
          <a:prstGeom prst="rect">
            <a:avLst/>
          </a:prstGeom>
          <a:solidFill>
            <a:srgbClr val="0000ff"/>
          </a:solidFill>
          <a:ln w="9360">
            <a:solidFill>
              <a:srgbClr val="b05d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380880" y="0"/>
            <a:ext cx="1219320" cy="1198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37339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E4B4EE-FBF4-406B-A059-59B562791530}" type="slidenum"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rcRect l="0" t="0" r="66543" b="49852"/>
          <a:stretch/>
        </p:blipFill>
        <p:spPr>
          <a:xfrm>
            <a:off x="4191120" y="228600"/>
            <a:ext cx="1065240" cy="10666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0000ff"/>
          </a:solidFill>
          <a:ln w="9360">
            <a:solidFill>
              <a:srgbClr val="b05d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3152880" y="1955880"/>
            <a:ext cx="2816280" cy="14382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286000" y="1219320"/>
            <a:ext cx="48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cuola Superiore Sant’Anna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3733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Linux and Real-Time: Current Approaches and</a:t>
            </a:r>
            <a:br>
              <a:rPr sz="2800"/>
            </a:b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Future Opportunitie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523880" y="5410080"/>
            <a:ext cx="640080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audio Scordino and Giuseppe Lipa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ANIPLA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15 november 2006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88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Linux-RT: Interrupt Abstract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105160" y="1523520"/>
            <a:ext cx="3809880" cy="48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abstraction lay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ercepts interrup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wards to Linux of to 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RT task exec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nux interrupts become pen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T interrupt are served immediate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en no RT task exec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nux interrupts are served all at o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80880" y="1066680"/>
            <a:ext cx="4813560" cy="5091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IPLA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 november 2006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88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Interrupt abstract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ffective reduction of lat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 of standard Linux processes for non-real-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st and target platform may coinc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fferent interface for RT 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T tasks execute in kernel memory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uggy RT code can block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ed to re-write Linux device drivers for 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fficult to use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IPLA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 november 2006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88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LXRT and Xenomai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X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 interface provided by RT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ows to execute RT tasks in user space (at the price of a higher latency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ful for development and 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enom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spin-off of RT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ows to execute RT tasks in user space with very low lat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ows to write device driver code in user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IPLA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 november 2006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88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Linux-RT: Kernel preempt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3280" cy="46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duce Linux lat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approach allows to execute Linux processes with Real-Time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dification to Linux code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prove timer resolu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sert preemption points in the 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roduce kernel thre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ll the scheduler more frequen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IPLA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 november 2006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88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Kernel preemption in 2.4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3280" cy="46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inux 2.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emption Pa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preemption points in long section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this way, very long and non-interruptible sections of code can be split in different pa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w Latency Pa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ll the scheduler more frequently in long section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igh Resolution Pa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vides an API for micro-second level precision ti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tency redu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ut not yet usable for real-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IPLA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 november 2006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88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Kernel Preemption in 2.6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inux 2.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roduces kernel thre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device driver can use a kernel thread (scheduled with the other processes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(1) schedu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calable with number of threa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eempt_rt pa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pport for many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iority Inheritance for reduction of task blocking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IPLA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 november 2006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88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Comparis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following table is provided by Paolo Mantegazza (available on Internet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1219320" y="3657600"/>
            <a:ext cx="6630840" cy="2058840"/>
            <a:chOff x="1219320" y="3657600"/>
            <a:chExt cx="6630840" cy="2058840"/>
          </a:xfrm>
        </p:grpSpPr>
        <p:sp>
          <p:nvSpPr>
            <p:cNvPr id="145" name=""/>
            <p:cNvSpPr/>
            <p:nvPr/>
          </p:nvSpPr>
          <p:spPr>
            <a:xfrm>
              <a:off x="5715000" y="5181480"/>
              <a:ext cx="10666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5.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715000" y="4648320"/>
              <a:ext cx="106668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5.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715000" y="4114800"/>
              <a:ext cx="10666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5.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715000" y="3657600"/>
              <a:ext cx="1066680" cy="457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M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781680" y="5181480"/>
              <a:ext cx="106704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648320" y="5181480"/>
              <a:ext cx="10666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50.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657600" y="5181480"/>
              <a:ext cx="990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7.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219320" y="5181480"/>
              <a:ext cx="24382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Adeos (RTAI)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781680" y="4648320"/>
              <a:ext cx="106704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1.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648320" y="4648320"/>
              <a:ext cx="106668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70.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657600" y="4648320"/>
              <a:ext cx="99072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7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219320" y="4648320"/>
              <a:ext cx="243828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Preemption patc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781680" y="4114800"/>
              <a:ext cx="106704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7.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648320" y="4114800"/>
              <a:ext cx="10666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ff3300"/>
                  </a:solidFill>
                  <a:latin typeface="Arial"/>
                </a:rPr>
                <a:t>555.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657600" y="4114800"/>
              <a:ext cx="990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6.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219320" y="4114800"/>
              <a:ext cx="24382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td Linux 2.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781680" y="3657600"/>
              <a:ext cx="1067040" cy="457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Std De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648320" y="3657600"/>
              <a:ext cx="1066680" cy="457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Ma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657600" y="3657600"/>
              <a:ext cx="990720" cy="457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v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19320" y="3657600"/>
              <a:ext cx="2438280" cy="457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219320" y="4114800"/>
              <a:ext cx="66294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219320" y="4648320"/>
              <a:ext cx="66294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219320" y="5181480"/>
              <a:ext cx="66294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219320" y="5715000"/>
              <a:ext cx="66294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219320" y="3657600"/>
              <a:ext cx="1440" cy="2057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657600"/>
              <a:ext cx="1440" cy="2057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648320" y="3657600"/>
              <a:ext cx="1440" cy="2057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715000" y="3657600"/>
              <a:ext cx="1440" cy="2057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848720" y="3657600"/>
              <a:ext cx="1440" cy="2057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781680" y="3657600"/>
              <a:ext cx="1800" cy="2057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219320" y="3657600"/>
              <a:ext cx="66294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3276720" y="2971800"/>
            <a:ext cx="2895480" cy="4597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errupt Lat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175360" y="5867280"/>
            <a:ext cx="264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numbers are in micro-secon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IPLA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 november 2006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88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Which flavor of Linux RT to use?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hard real-time applications with very small constants of time (below the milliseconds), it is still necessary to use RTLinux,RTAI or Xenom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re has been a constant effort to reducing the latency of the standard Linux 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is possible to use standard Linux with Preemption Patch f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ft realtime application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r even hard real-time applications with large constants of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IPLA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 november 2006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88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Conclusion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inux has become very polular for supporting real-time 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ny projects have been proposed to make Linux more real-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the next future, standard mainstream Linux will include RT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w lat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ppropriate scheduling poli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IPLA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 november 2006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88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Summary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y Linux for real-time applica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blems in using Linux for real-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king Linux more real-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errupt Abstraction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ernel Preem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urrent and future approa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IPLA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 november 2006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88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Why Linux for Real-Tim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3280" cy="45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raising interest from indu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mall automation compan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ig software companies (e.g. IBM and WindRiver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ason for using Lin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pen Source License (GPL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ndard Interface (POSIX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ide popularity and su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for almost all embedded processors (ARM, MIPS, PPC, etc.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tal Cost of Ownership (TCO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wer than other commercial (closed source) RTO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IPLA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 november 2006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88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Application area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inux cannot be used everyw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mory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embedded systems have limited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nux requires at least 4-8 Mbytes (Flash and RAM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riticality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application require certification of the 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nux is too big to be cert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IPLA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 november 2006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88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Problem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3280" cy="45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instream kern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fficially supported by Linux Torva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ptimized for troughput and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t designed for real-time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atency and real-tim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main problem is the high worst-case latency of time-critical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erage-case latency is quite small 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.. but real-time systems need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predictabilit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chedu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nux supports only Fixed Priority 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IPLA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 november 2006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971800" y="3886200"/>
            <a:ext cx="1295280" cy="609480"/>
          </a:xfrm>
          <a:prstGeom prst="wedgeRectCallout">
            <a:avLst>
              <a:gd name="adj1" fmla="val -43384"/>
              <a:gd name="adj2" fmla="val 142449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ystem C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88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Problem: Latency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341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fini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2400" spc="-1" strike="noStrike">
                <a:solidFill>
                  <a:srgbClr val="0000ff"/>
                </a:solidFill>
                <a:latin typeface="Arial"/>
              </a:rPr>
              <a:t>interval of time between the arrival of an interrupt signal to the processor the start of the handler that responds to the interru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andler = real-time task awaken by the interrupt hand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133720" y="4800600"/>
            <a:ext cx="601956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133720" y="5334120"/>
            <a:ext cx="601956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362320" y="4572000"/>
            <a:ext cx="533160" cy="2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895480" y="5105520"/>
            <a:ext cx="457200" cy="22860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895480" y="4800600"/>
            <a:ext cx="1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352680" y="5865480"/>
            <a:ext cx="1800" cy="46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133720" y="5867280"/>
            <a:ext cx="601956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191120" y="563868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876920" y="5105520"/>
            <a:ext cx="685800" cy="22860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352680" y="5105520"/>
            <a:ext cx="838440" cy="22860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562720" y="4572000"/>
            <a:ext cx="533160" cy="2286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52480" y="443088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Ta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98480" y="4923000"/>
            <a:ext cx="97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24240" y="5456160"/>
            <a:ext cx="129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Interrup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Hand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86200" y="3809880"/>
            <a:ext cx="1295280" cy="609840"/>
          </a:xfrm>
          <a:prstGeom prst="wedgeRectCallout">
            <a:avLst>
              <a:gd name="adj1" fmla="val -61643"/>
              <a:gd name="adj2" fmla="val 159634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nterrup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isabled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733920" y="6019920"/>
            <a:ext cx="1295280" cy="609480"/>
          </a:xfrm>
          <a:prstGeom prst="wedgeRectCallout">
            <a:avLst>
              <a:gd name="adj1" fmla="val -74143"/>
              <a:gd name="adj2" fmla="val -33592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nterru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ai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5638680"/>
            <a:ext cx="1981440" cy="914400"/>
          </a:xfrm>
          <a:prstGeom prst="wedgeRectCallout">
            <a:avLst>
              <a:gd name="adj1" fmla="val -65787"/>
              <a:gd name="adj2" fmla="val -3906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nterrup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nabled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handler execu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0" y="3809880"/>
            <a:ext cx="1828800" cy="609840"/>
          </a:xfrm>
          <a:prstGeom prst="wedgeRectCallout">
            <a:avLst>
              <a:gd name="adj1" fmla="val -1560"/>
              <a:gd name="adj2" fmla="val 162759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Other kernel activ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3809880"/>
            <a:ext cx="2057400" cy="609840"/>
          </a:xfrm>
          <a:prstGeom prst="wedgeRectCallout">
            <a:avLst>
              <a:gd name="adj1" fmla="val -80476"/>
              <a:gd name="adj2" fmla="val 69009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User task responds to ev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3354480" y="3733920"/>
            <a:ext cx="2209680" cy="763560"/>
            <a:chOff x="3354480" y="3733920"/>
            <a:chExt cx="2209680" cy="763560"/>
          </a:xfrm>
        </p:grpSpPr>
        <p:sp>
          <p:nvSpPr>
            <p:cNvPr id="121" name=""/>
            <p:cNvSpPr/>
            <p:nvPr/>
          </p:nvSpPr>
          <p:spPr>
            <a:xfrm rot="5400000">
              <a:off x="4306680" y="3240000"/>
              <a:ext cx="304920" cy="220968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57600 h 2209680"/>
                <a:gd name="textAreaBottom" fmla="*/ 2152080 h 2209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650400" y="3733920"/>
              <a:ext cx="1697040" cy="39888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Task Latenc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IPLA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 november 2006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dur="indefinite" fill="hold">
                            <p:stCondLst>
                              <p:cond delay="1"/>
                            </p:stCondLst>
                            <p:childTnLst>
                              <p:par>
                                <p:cTn id="1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dur="indefinite" fill="hold">
                      <p:stCondLst>
                        <p:cond delay="indefinite"/>
                      </p:stCondLst>
                      <p:childTnLst>
                        <p:par>
                          <p:cTn id="1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" dur="indefinite" fill="hold">
                      <p:stCondLst>
                        <p:cond delay="indefinite"/>
                      </p:stCondLst>
                      <p:childTnLst>
                        <p:par>
                          <p:cTn id="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dur="indefinite" fill="hold">
                      <p:stCondLst>
                        <p:cond delay="indefinite"/>
                      </p:stCondLst>
                      <p:childTnLst>
                        <p:par>
                          <p:cTn id="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fill="hold">
                      <p:stCondLst>
                        <p:cond delay="indefinite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" dur="indefinite" fill="hold">
                      <p:stCondLst>
                        <p:cond delay="indefinite"/>
                      </p:stCondLst>
                      <p:childTnLst>
                        <p:par>
                          <p:cTn id="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dur="indefinite" fill="hold">
                      <p:stCondLst>
                        <p:cond delay="indefinite"/>
                      </p:stCondLst>
                      <p:childTnLst>
                        <p:par>
                          <p:cTn id="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1" dur="indefinite" fill="hold">
                      <p:stCondLst>
                        <p:cond delay="indefinite"/>
                      </p:stCondLst>
                      <p:childTnLst>
                        <p:par>
                          <p:cTn id="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dur="indefinite" fill="hold">
                      <p:stCondLst>
                        <p:cond delay="indefinite"/>
                      </p:stCondLst>
                      <p:childTnLst>
                        <p:par>
                          <p:cTn id="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0" dur="indefinite" fill="hold">
                      <p:stCondLst>
                        <p:cond delay="indefinite"/>
                      </p:stCondLst>
                      <p:childTnLst>
                        <p:par>
                          <p:cTn id="5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dur="indefinite" fill="hold">
                      <p:stCondLst>
                        <p:cond delay="indefinite"/>
                      </p:stCondLst>
                      <p:childTnLst>
                        <p:par>
                          <p:cTn id="5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9" dur="indefinite" fill="hold">
                      <p:stCondLst>
                        <p:cond delay="indefinite"/>
                      </p:stCondLst>
                      <p:childTnLst>
                        <p:par>
                          <p:cTn id="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dur="indefinite" fill="hold">
                      <p:stCondLst>
                        <p:cond delay="indefinite"/>
                      </p:stCondLst>
                      <p:childTnLst>
                        <p:par>
                          <p:cTn id="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88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The causes of latency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ask Lat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part of the kernel cannot be interrupted (critical sections of code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r-level code is scheduled only when the kernel finishes to process kernel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ernel activities can accumulate and be very l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nux 2.4.17  </a:t>
            </a: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max latency = 230 msec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imer Re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iodic activities are wake-up by ti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ndard timer resolution is coarse-grained (1-40 msec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IPLA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 november 2006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88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Problem: Scheduler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inux supports Fixed Priority Schedu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ndard POSIX policies SCHED_FIFO and SCHED_R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oth suitable for real-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n only be used by process with root privile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curity concer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buggy process with high priority can hang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t easy to handle overload situ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IPLA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 november 2006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88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Making Linux more real-tim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wo approa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rrupt Abst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s a special micro-kernel for RT and executes Linux as a low-priority tas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d by RTLinux, RTAI, Xenom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ernel Preem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hard way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duce Latency in 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IPLA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 november 2006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iuseppe Lipari</cp:lastModifiedBy>
  <cp:revision>0</cp:revision>
  <dc:subject/>
  <dc:title>PowerPoint Presentation</dc:title>
</cp:coreProperties>
</file>