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666E6-2EFB-4477-9306-7743A24CC9EB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5FB-1F17-4937-9520-B21A368A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C4B-0FE6-40FC-92CE-8C3B2899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877-BCB1-4ED9-BA63-67515751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6D6-8571-4CDA-BEF3-BA6A2640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CFF6-4E22-43E3-8C81-39568DBF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9262-D4E8-458E-A89B-B773043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07C-973B-41AC-80B6-4D7E0E1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E177-A1F7-4E4F-99BC-E7859894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595A-3E84-4726-9186-ECB5549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E5C-18E0-44A4-A358-A95DE6A1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A20-00ED-40A0-A62E-1D94227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9E3-1F63-43D5-A13E-233130B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C02-8201-408C-9E55-C045F80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B3DE-7034-461C-9DA4-BF3CCC9F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DFFA-6143-4FC1-8639-4CEDDE4C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138-A6F9-4B9D-A51D-371735AF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860-9B40-4192-850F-DA69324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42A-CAD9-4E29-A2A8-00D71B5E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189-A30D-465A-AE4A-A07EFE4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E4B-A7F8-4898-9CE3-CC20AD2B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049-75D1-4EA4-9EE4-CE553151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7A5-1B0A-4F34-BB9E-F368C729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29D-7C06-408C-B987-A3422DD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54F-3CE6-4FDC-A69D-294BBAC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14D68-1A87-427C-A8FE-3CA8EE1A2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0" y="4680"/>
            <a:ext cx="38124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46136-1508-4CC2-BFE0-8743A384B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0" y="0"/>
            <a:ext cx="38124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1. Introduc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4880" y="898200"/>
            <a:ext cx="7620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PU was inactive for long intervals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reading the punch cards, the CPU had to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unch card reader was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: sp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 magnetic disk (a faster I/O devi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were grouped into “job poo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executing one job of a pool, read the next one in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job finishes, load the next one from the d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ol = symultaneous peripheral operation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8D5-6071-4F4A-94EA-EF9DBC7E7D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activ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reading input from the keyboar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howing intermediat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aving intermediate result on magnetic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done with a techniqu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until the device is ready and get/pu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, the CPU was inactive during I/O oper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E21-0505-4DEF-ADFA-EF2D8D15A3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tural evolution was “concurren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: while a job is reading/writing from/to a I/O device, schedule another job to execute (preemptio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2840" y="329076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5640" y="3747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443400"/>
            <a:ext cx="16002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89520" y="374796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3519360"/>
            <a:ext cx="91440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2998800"/>
            <a:ext cx="67896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4796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42814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03160" y="4815000"/>
            <a:ext cx="175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505320" y="4051080"/>
            <a:ext cx="144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18080" y="4890960"/>
            <a:ext cx="1448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E8B-ECE3-40EC-B481-8E28360CCD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gramming is very common in real-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lawyer that has many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O policy: serving one client at time, from the beginning until the court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italy, a sentence can be given after more than 10 years. Imagine a poor lawyer trying to survive with on client only for ten 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the lawyer adopts a TIME SHARING polic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us adopts a time-sharing policy when doing many jobs at the same ti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185-CCC6-409C-B301-318EC8C66D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role of the Operating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a multi-programm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decides when a job is susp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decided who is to be executed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first computers, these tasks were carried out by the applicatio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job could suspend itself and pass the “turn” to the next job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rout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this is not very general or port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, the OS provide the multiprogramm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heduler 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ooses which job executes next depending on the status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263-31B0-499F-9A48-D33A0D3736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703920" y="4343400"/>
            <a:ext cx="116388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824" y="18958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ime sha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ime line is divided into “slots”, or “rounds”, each one of maximum lenght equal to a fixed time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executing job does not block on a I/O operation befone the end of the quantum, it is suspended to be execut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890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438280" y="4572000"/>
            <a:ext cx="1600200" cy="609480"/>
            <a:chOff x="2438280" y="4572000"/>
            <a:chExt cx="1600200" cy="609480"/>
          </a:xfrm>
        </p:grpSpPr>
        <p:sp>
          <p:nvSpPr>
            <p:cNvPr id="200" name=""/>
            <p:cNvSpPr/>
            <p:nvPr/>
          </p:nvSpPr>
          <p:spPr>
            <a:xfrm>
              <a:off x="2438280" y="4572000"/>
              <a:ext cx="16002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4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798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12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26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40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54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82880" y="4114800"/>
            <a:ext cx="67896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489096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196800" y="5194080"/>
            <a:ext cx="1756080" cy="765360"/>
            <a:chOff x="3196800" y="5194080"/>
            <a:chExt cx="1756080" cy="765360"/>
          </a:xfrm>
        </p:grpSpPr>
        <p:sp>
          <p:nvSpPr>
            <p:cNvPr id="210" name=""/>
            <p:cNvSpPr/>
            <p:nvPr/>
          </p:nvSpPr>
          <p:spPr>
            <a:xfrm>
              <a:off x="4951440" y="54244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196800" y="5958000"/>
              <a:ext cx="175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200400" y="5194080"/>
              <a:ext cx="144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14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19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25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29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3C1-38D1-4765-9BA8-28222AF89A6C}" type="slidenum">
              <a:t>1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me shar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rocess executes approximately as it were alone on a slower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(thanks to the scheduler) “virtualizes”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single processor is seen as many (slower) parallel  processors (one for each proces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see that an OS can virtualize many H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, disk, network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sharing systems are not predic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mount of execution time received by one process depends on the number of processes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want predictable behavior, we must use a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679-CADF-4732-A98E-9CDC0E31A3B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computers were very powerful and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university could afford only o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ut many people needed to access the sam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he mainframe would give simultanous access to many use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obvious extension of the multi-proces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processes for each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6D5-9987-48A2-ADBD-2BD91E7B68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4880" y="4419360"/>
            <a:ext cx="7620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inals had no comput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eyboard + a monitor + a serial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computation was carried out in the main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 aving one computer with many keyboards and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440" y="1371600"/>
            <a:ext cx="1981080" cy="8380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590920"/>
            <a:ext cx="6019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304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8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2209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932-EDD1-4335-B12B-620516D87D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dimension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user and account wa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privacy concerns were ra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ptography was applied for the first time in a non-military environ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akes the system mo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18D-8BB6-4D60-BA94-B3BAD661DC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00320" y="2382840"/>
            <a:ext cx="6400800" cy="1773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66B-D0AB-4C6A-A965-5EE3479DB6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tributed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ly, distribution wa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nks to the DARPA, the TCP/IP protocol was developed and internet wa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 universities in the USA connected their main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l, telnet, ftp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ural evolution was internet and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this was possible thank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edom of circulation of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liberal” environment in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ed for communication and shar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3FD-9FAD-4E98-95C7-2EB0B8FE19E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tributed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/server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erver provides “services” to remot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web, ftp, databas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“distribute”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“parts” execute on different computers and then communicate each other to exchange information and synchro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ively parallel programs can be easily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es can “move” from one computer to another to carry out a cert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gents, videogames, apple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FF2-E4A4-430F-AE71-798F4C0C19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assification of Operat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an abstraction of a physic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llow por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programmer’s life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evel of abstraction depends on the appl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eans that the kind of services an OS provides depend on which kind of services the applic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purpouses OS should provide a wide range of services to satisfy as many user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ised OS provide only a group of specialise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can be classified depending on the applicatio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purpouse (windows, linux, etc), servers, micro-kernel, embedded OS, real-tim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5FB-A826-41A2-9EBE-40065F2B8D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proc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OS provides “concurrency” betwee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rocesses are executed at the same time in the sa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rocess executes for a fraction of the processor bandwidth (as it were on a dedicated slower processo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d by the scheduling sub-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d by almost all OS, from nano-kernels to general-purpous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95280" y="4876920"/>
            <a:ext cx="2895840" cy="1600200"/>
            <a:chOff x="1295280" y="4876920"/>
            <a:chExt cx="2895840" cy="1600200"/>
          </a:xfrm>
        </p:grpSpPr>
        <p:sp>
          <p:nvSpPr>
            <p:cNvPr id="258" name=""/>
            <p:cNvSpPr/>
            <p:nvPr/>
          </p:nvSpPr>
          <p:spPr>
            <a:xfrm>
              <a:off x="1295280" y="4876920"/>
              <a:ext cx="2895840" cy="1600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3684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124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86400" y="4876920"/>
            <a:ext cx="2895480" cy="1600200"/>
            <a:chOff x="5486400" y="4876920"/>
            <a:chExt cx="2895480" cy="1600200"/>
          </a:xfrm>
        </p:grpSpPr>
        <p:sp>
          <p:nvSpPr>
            <p:cNvPr id="264" name=""/>
            <p:cNvSpPr/>
            <p:nvPr/>
          </p:nvSpPr>
          <p:spPr>
            <a:xfrm>
              <a:off x="5486400" y="4876920"/>
              <a:ext cx="2895480" cy="1600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35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79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23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35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79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23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39E-9814-488A-BD4E-4BF61CFAE6C4}" type="slidenum">
              <a:t>23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memory is limit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systems, the number of concurrent processes was limited by the amount of physic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: extend the physical memory by using a “fast” mass storage system (dis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processes stay in memory, some are temporarily saved on the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must be executed, if it is on the disk it is first loaded in memory and then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echnique is called “swap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A19-2E44-4F69-BF56-D0126E409BA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 and physic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4880" y="5105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rtual memory is very large (virtually infinite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 functionality does not depend on the size of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 performance could be reduced by the swapp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066680"/>
            <a:ext cx="1600200" cy="350532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396252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3352680"/>
            <a:ext cx="160020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74320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2133720"/>
            <a:ext cx="1600200" cy="609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523880"/>
            <a:ext cx="160020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2743200"/>
            <a:ext cx="1600200" cy="1828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08840" y="3124080"/>
            <a:ext cx="1523880" cy="129564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08840" y="38098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160" y="48"/>
                  <a:pt x="320" y="96"/>
                  <a:pt x="480" y="96"/>
                </a:cubicBezTo>
                <a:cubicBezTo>
                  <a:pt x="640" y="96"/>
                  <a:pt x="880" y="16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2743200"/>
            <a:ext cx="1600200" cy="6094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962520"/>
            <a:ext cx="1600200" cy="6094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1219320"/>
            <a:ext cx="838080" cy="76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289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551640" y="1523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31920" y="3519360"/>
            <a:ext cx="330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29040" y="4038480"/>
            <a:ext cx="348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43720" y="4648320"/>
            <a:ext cx="677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7960" y="4572000"/>
            <a:ext cx="2120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3520" y="4572000"/>
            <a:ext cx="1892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301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307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e3dbd3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33720" y="3519360"/>
            <a:ext cx="339120" cy="36252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Helvetica-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13372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1523880"/>
            <a:ext cx="160020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4BC-7828-419D-8BA5-D72A9E04C0A2}" type="slidenum">
              <a:t>25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infinit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is not limited by the size of the physic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have too many programs, we spend most of the time swapping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degrad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real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possible to guarantee a short response time because it depends on the program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E59-AAE3-4528-B660-FE7DEAD58A6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: sequence of data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a mass storage (hard disk, cd-rom, etc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special virtual devices (i.e. RAM disk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a remote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ory: list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organised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resents how files are organised on the mass storag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ost OS, external serial devices (like the console or the video terminal) can be seen as files (i.e. stdin, stout , stder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9B0-3962-4608-A039-46EF283B895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ood virtual file system provides additional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 &amp; ca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optimising I/O from block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 the Reiser 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ult toleranc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RAI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file system is not provided by all OS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 and nano kernels do not even provide a file syst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819-B10E-48CC-83CD-AC14500CED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vacy and access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any users ar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avoid that non-authorised users access restric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, there are two or more “classes”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rm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source in the system can be customised with proper “access rules” that prevent access from non-authoris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password file should be visible only to the system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17E-4D02-4CA4-A7C4-FDAD070670C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ndament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logical procedure to solve a certai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lly specified a a sequence of element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e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n “execution machine” must follow to solv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expressed in a formal programming langu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implementation of an algorithm in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executed several times with different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stance of a program that, given a set of inputs values, produces a se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BAD-8775-407F-9A67-A892CFADFA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694b6"/>
                </a:solidFill>
                <a:latin typeface="Arial"/>
              </a:rPr>
              <a:t>An operating 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program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an “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f the physical machine through a simpl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art of the interface is a “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OS is also a </a:t>
            </a:r>
            <a:r>
              <a:rPr b="0" lang="en-GB" sz="2800" spc="-1" strike="noStrike">
                <a:solidFill>
                  <a:srgbClr val="3694b6"/>
                </a:solidFill>
                <a:latin typeface="Arial"/>
              </a:rPr>
              <a:t>resour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term “resource” we denote all physical entities of a comput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access to the phys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abstract resour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or example, a file, a virtual page in memory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DD8-0880-4959-A2C2-8C4FE0EF22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evels of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43200" y="1219320"/>
            <a:ext cx="5027760" cy="761760"/>
            <a:chOff x="2743200" y="1219320"/>
            <a:chExt cx="5027760" cy="761760"/>
          </a:xfrm>
        </p:grpSpPr>
        <p:sp>
          <p:nvSpPr>
            <p:cNvPr id="105" name=""/>
            <p:cNvSpPr/>
            <p:nvPr/>
          </p:nvSpPr>
          <p:spPr>
            <a:xfrm>
              <a:off x="2743200" y="1219320"/>
              <a:ext cx="10666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K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2840" y="1219320"/>
              <a:ext cx="10666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Li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3920" y="1219320"/>
              <a:ext cx="106704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57400" y="4952880"/>
            <a:ext cx="6780240" cy="129564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5257800"/>
            <a:ext cx="1371600" cy="68580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ain Bo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704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704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Video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092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Network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516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516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15640" y="3276720"/>
            <a:ext cx="6822000" cy="1600200"/>
            <a:chOff x="2015640" y="3276720"/>
            <a:chExt cx="6822000" cy="1600200"/>
          </a:xfrm>
        </p:grpSpPr>
        <p:sp>
          <p:nvSpPr>
            <p:cNvPr id="117" name=""/>
            <p:cNvSpPr/>
            <p:nvPr/>
          </p:nvSpPr>
          <p:spPr>
            <a:xfrm>
              <a:off x="2057400" y="3276720"/>
              <a:ext cx="6780240" cy="1295280"/>
            </a:xfrm>
            <a:prstGeom prst="roundRect">
              <a:avLst>
                <a:gd name="adj" fmla="val 16667"/>
              </a:avLst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5640" y="3718080"/>
              <a:ext cx="13982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eeSans"/>
                </a:rPr>
                <a:t>Oper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eeSans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3657600"/>
              <a:ext cx="662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76120" y="3290760"/>
              <a:ext cx="25491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Interface (System API)</a:t>
              </a: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rtual 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864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516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rtual File Sy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4191120"/>
              <a:ext cx="83808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893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37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81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325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469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057400" y="2133720"/>
            <a:ext cx="6705720" cy="990360"/>
            <a:chOff x="2057400" y="2133720"/>
            <a:chExt cx="6705720" cy="990360"/>
          </a:xfrm>
        </p:grpSpPr>
        <p:sp>
          <p:nvSpPr>
            <p:cNvPr id="131" name=""/>
            <p:cNvSpPr/>
            <p:nvPr/>
          </p:nvSpPr>
          <p:spPr>
            <a:xfrm>
              <a:off x="2057400" y="2133720"/>
              <a:ext cx="6705720" cy="99036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19520" y="2286000"/>
              <a:ext cx="99036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We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Brow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2286000"/>
              <a:ext cx="99072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Sh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08640" y="2286000"/>
              <a:ext cx="129528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deo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8840" y="2286000"/>
              <a:ext cx="129528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ae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8600" y="1371600"/>
            <a:ext cx="13716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584" y="9088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User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286000"/>
            <a:ext cx="1676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413" y="6949"/>
                </a:moveTo>
                <a:lnTo>
                  <a:pt x="22950" y="0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gra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429000"/>
            <a:ext cx="1447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940" y="4475"/>
                </a:moveTo>
                <a:lnTo>
                  <a:pt x="23262" y="0"/>
                </a:lnTo>
              </a:path>
              <a:path w="21600" h="21600">
                <a:moveTo>
                  <a:pt x="23262" y="0"/>
                </a:moveTo>
                <a:lnTo>
                  <a:pt x="23262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800600"/>
            <a:ext cx="1295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821" y="17165"/>
                </a:moveTo>
                <a:lnTo>
                  <a:pt x="22854" y="4676"/>
                </a:lnTo>
              </a:path>
              <a:path w="21600" h="21600">
                <a:moveTo>
                  <a:pt x="22854" y="0"/>
                </a:moveTo>
                <a:lnTo>
                  <a:pt x="2285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HW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B72-1AD8-4897-9E43-C5BE04F0FED1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bstraction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abstr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the HW directly has several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you want to write a program that reads a text file from disk and outputs it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a proper interface it is virtually impossi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38A-28A6-44E4-BA7E-43A31DEB58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bstraction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programming interface (AP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a convenient and uniform way to access to one service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W details are hidden to the high level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 do not depend on the specific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grammer can concentrate on higher lev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reading a file, linux and many other unix OS provide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(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ystem calls that, given a “file name” allow to load the data from an exter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D08-159D-4736-8E2E-6E208BBF19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istorical Perspec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beginning was the batch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machines, not very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mainly for scientific computation and militar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 were executed one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calle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 were simple sequential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interac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B30-B996-4435-A76C-4694BB685D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tch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3809520"/>
            <a:ext cx="76201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ch = non-int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could not be interrupted or suspended (non-preempti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based (e.g. first the military..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st job first (SJF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08840" y="16765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1640" y="2133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133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828800"/>
            <a:ext cx="16002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676520"/>
            <a:ext cx="1447920" cy="838080"/>
          </a:xfrm>
          <a:prstGeom prst="verticalScrol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0574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00400" y="1676520"/>
            <a:ext cx="1143000" cy="990360"/>
            <a:chOff x="3200400" y="1676520"/>
            <a:chExt cx="1143000" cy="990360"/>
          </a:xfrm>
        </p:grpSpPr>
        <p:sp>
          <p:nvSpPr>
            <p:cNvPr id="161" name=""/>
            <p:cNvSpPr/>
            <p:nvPr/>
          </p:nvSpPr>
          <p:spPr>
            <a:xfrm>
              <a:off x="3352680" y="1828800"/>
              <a:ext cx="990720" cy="838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1752480"/>
              <a:ext cx="990360" cy="8384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1676520"/>
              <a:ext cx="990720" cy="838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P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C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542360" y="2666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5160" y="3200400"/>
            <a:ext cx="91440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90720" y="1384200"/>
            <a:ext cx="67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678-E946-408C-8DBC-F35B7DB068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