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86C89-9EE5-4E7B-9C82-8DF60FC3C580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412-48FB-4D36-85FC-D791AD9C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0BD8-8B3D-463E-A614-854E748B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C09-69F2-4071-9D9F-C574284F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329-1059-4A37-B330-AD6E2612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304F-9EB8-433C-A568-4F4145AC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366C-641B-428A-8C6C-BFFE974E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7565-5332-40CF-BB97-B5171A26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1670-2226-4784-9A45-954EF802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A538-4969-4E25-83D7-D5C6D6B4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0286-EAA2-4EDF-978E-5D68C0D8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D87E-F6C2-49AC-ACA8-85F1CC9E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FB5-2899-4CF8-99CC-A249CF25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5C40-DD64-422B-AC74-13F64621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D5FE-0A4E-4910-8A3A-6BA7795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7B6D-C078-491D-A9D8-69D07C51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A8C9-35D5-4856-9C9B-14189EA9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2F4E-476F-48F4-9994-97F4BD9B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955-5CBA-46AF-A051-D8B5417B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F69-6786-4EBB-8CEA-ED42E0CD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4B6-9EB6-4FDE-8441-FAE62AF8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0EF-E8C4-4582-B0E3-F90E4A66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642-47E7-447B-A54A-1CE559F7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450-DF11-4BF2-B59E-39D2AFFD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39E-1A93-44B2-B58E-F2FE2AB2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9DC79E-5213-4D95-85F0-190F55F0AB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10E03-FCB0-4862-87D7-D996F44E3A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hark.sssup.it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6525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perating Systems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03. Processes and Thread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34240" y="2743200"/>
            <a:ext cx="1830240" cy="3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244" y="15682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Process Ident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Control B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ontains all the data concerning 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PCBs are stored in the Process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3352680"/>
            <a:ext cx="1752840" cy="30492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3657600"/>
            <a:ext cx="1752840" cy="30492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3962520"/>
            <a:ext cx="1752840" cy="30456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3880" y="4267080"/>
            <a:ext cx="1752840" cy="30492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4572000"/>
            <a:ext cx="1752840" cy="30492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4876920"/>
            <a:ext cx="1752840" cy="30456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2895480"/>
            <a:ext cx="144792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3200400"/>
            <a:ext cx="144792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3505320"/>
            <a:ext cx="1447920" cy="3045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43400" y="3809880"/>
            <a:ext cx="1447920" cy="30492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4114800"/>
            <a:ext cx="1447920" cy="30492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4419720"/>
            <a:ext cx="1447920" cy="30456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4724280"/>
            <a:ext cx="1447920" cy="30492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ther R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5029200"/>
            <a:ext cx="144792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5334120"/>
            <a:ext cx="1447920" cy="304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5638680"/>
            <a:ext cx="144792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m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943600"/>
            <a:ext cx="144792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297" idx="3"/>
            <a:endCxn id="303" idx="1"/>
          </p:cNvCxnSpPr>
          <p:nvPr/>
        </p:nvCxnSpPr>
        <p:spPr>
          <a:xfrm flipV="1">
            <a:off x="3276360" y="3047760"/>
            <a:ext cx="1067400" cy="457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1405800" y="2962440"/>
            <a:ext cx="1654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21640" y="3192480"/>
            <a:ext cx="160020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846" y="9933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Paren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97520" y="3621240"/>
            <a:ext cx="160200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1" y="795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User ident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34240" y="4030560"/>
            <a:ext cx="18302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244" y="-2787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Control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21640" y="4522680"/>
            <a:ext cx="1901520" cy="3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12" y="-13716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Istruction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34240" y="4908600"/>
            <a:ext cx="183024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244" y="-19532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Stack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5316480"/>
            <a:ext cx="20574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287" y="-20478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Processor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5823000"/>
            <a:ext cx="20574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287" y="-24993"/>
                </a:moveTo>
                <a:lnTo>
                  <a:pt x="-1029" y="2160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Process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(Ready, Running, etc.)</a:t>
            </a: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5160" y="6400800"/>
            <a:ext cx="1830240" cy="38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371" y="-34790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Remain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A09-EA10-4B08-B44C-529D1734F861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role of PCB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ly every routine in the OS uses th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irtual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rupt handlers (I/O devic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only be accessed by th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ser can access some of the information in the PCB by using appropriate system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CB is a critical point of an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711-FD02-4566-952A-FA3F8A4C461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500720" y="4495680"/>
            <a:ext cx="19047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00" y="-3427"/>
                </a:moveTo>
                <a:lnTo>
                  <a:pt x="-798" y="0"/>
                </a:lnTo>
              </a:path>
              <a:path w="21600" h="21600">
                <a:moveTo>
                  <a:pt x="-798" y="0"/>
                </a:moveTo>
                <a:lnTo>
                  <a:pt x="-798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Proces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mory layout of a Pro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4880" y="53337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me system, the PCB is in the “other data”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4191120"/>
            <a:ext cx="1600200" cy="457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09680" y="3733920"/>
            <a:ext cx="1600200" cy="457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itializ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3276720"/>
            <a:ext cx="1600200" cy="457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600200" cy="1447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15400" y="2895480"/>
            <a:ext cx="74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46360" y="1905120"/>
            <a:ext cx="74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09680" y="28195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23623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09680" y="1447920"/>
            <a:ext cx="160020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Oth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00720" y="3581280"/>
            <a:ext cx="1904760" cy="8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32" y="9650"/>
                </a:moveTo>
                <a:lnTo>
                  <a:pt x="-798" y="2945"/>
                </a:lnTo>
              </a:path>
              <a:path w="21600" h="21600">
                <a:moveTo>
                  <a:pt x="-798" y="0"/>
                </a:moveTo>
                <a:lnTo>
                  <a:pt x="-798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This segmen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itial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the lo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2666880"/>
            <a:ext cx="1904760" cy="8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05" y="18855"/>
                </a:moveTo>
                <a:lnTo>
                  <a:pt x="-798" y="2945"/>
                </a:lnTo>
              </a:path>
              <a:path w="21600" h="21600">
                <a:moveTo>
                  <a:pt x="-798" y="0"/>
                </a:moveTo>
                <a:lnTo>
                  <a:pt x="-798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This segmen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eeSans"/>
              </a:rPr>
              <a:t>NOT </a:t>
            </a: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itial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the lo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00720" y="1981080"/>
            <a:ext cx="19047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54" y="34419"/>
                </a:moveTo>
                <a:lnTo>
                  <a:pt x="-798" y="0"/>
                </a:lnTo>
              </a:path>
              <a:path w="21600" h="21600">
                <a:moveTo>
                  <a:pt x="-798" y="0"/>
                </a:moveTo>
                <a:lnTo>
                  <a:pt x="-798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Process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00720" y="1066680"/>
            <a:ext cx="1904760" cy="8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89" y="25030"/>
                </a:moveTo>
                <a:lnTo>
                  <a:pt x="-798" y="2945"/>
                </a:lnTo>
              </a:path>
              <a:path w="21600" h="21600">
                <a:moveTo>
                  <a:pt x="-798" y="0"/>
                </a:moveTo>
                <a:lnTo>
                  <a:pt x="-798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Process 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(for 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Memory)</a:t>
            </a: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6E0-A429-4258-9ED0-CC5FF8AF0527}" type="slidenum">
              <a:t>12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mory pro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process has its own memory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it is “private to the proce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 of it can be shared with other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s: two processes that are instances of the same program will probably share the TEX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wo processes want to communicate by shared memory, they can share a portion of the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6019920"/>
            <a:ext cx="160020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66880" y="5638680"/>
            <a:ext cx="160020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itializ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5257800"/>
            <a:ext cx="160020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191120"/>
            <a:ext cx="1600200" cy="1066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72600" y="4876920"/>
            <a:ext cx="74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03560" y="4267080"/>
            <a:ext cx="74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48006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3809880"/>
            <a:ext cx="160020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Oth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5638680"/>
            <a:ext cx="160020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itializ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4191120"/>
            <a:ext cx="1600200" cy="1066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77360" y="4876920"/>
            <a:ext cx="74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08680" y="4267080"/>
            <a:ext cx="747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48006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46483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3809880"/>
            <a:ext cx="1600200" cy="381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Oth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0" y="5257800"/>
            <a:ext cx="160020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60720" y="548640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6019920"/>
            <a:ext cx="1600200" cy="3808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960720" y="617220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448-A55B-47DE-8179-AFD16336F5E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mory Pro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4880" y="13636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default, two processes cannot share thei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one process tries to access a memory location outside its space, a processor exception is raised (trap) and the process is ter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mous “Segmentation Fault” error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come back to this when we study the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1E6-804E-405A-A208-3490152F982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des of operation (revised)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4880" y="136332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modern processor supports at least 2 modes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trol Register (CR) contains one bit that tells us in which mode the processor is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ng system routines run in superviso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need to operate freely on every part of the hardware with no re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code runs into us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time we go from user to supervisor mode or vice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A38-74B4-461D-8301-9DCB71D0B91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de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4880" y="1281240"/>
            <a:ext cx="762012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an happen in one of the following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rupts or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case, before calling the interrupt handler, the processor goes in supervisor mode and disables 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ps are interrupts that are raised when a critical error occurs (for example, division by zero, or page faul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ing from the interrupt restores the previous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king a special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Intel family, it is the 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nstruction is similar to an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akes a number that identifies a “serv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OS calls are invoked by calling 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ing from the handler restores the previous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D44-A013-4648-A9C1-7D4C76B7526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029200" y="2057400"/>
            <a:ext cx="3886200" cy="342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47" y="4280"/>
                </a:moveTo>
                <a:lnTo>
                  <a:pt x="-424" y="720"/>
                </a:lnTo>
              </a:path>
              <a:path w="21600" h="21600">
                <a:moveTo>
                  <a:pt x="-424" y="0"/>
                </a:moveTo>
                <a:lnTo>
                  <a:pt x="-424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ves parameters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ecutes INT 2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Change to superviso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Save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ecute the function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stores the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Sans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 parameters from the st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of system ca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5240" y="3962160"/>
            <a:ext cx="365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“open” system call can potentially block the proce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at case we have a “process switc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66520" y="1874880"/>
            <a:ext cx="363420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fd,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har buff[10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d = open(“Dummy.txt”, O_RDONL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n =  read(fd, buff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BFA-58D5-49CD-BB3F-8883A5CAFF2C}" type="slidenum">
              <a:t>17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happens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cess has been “preempted” by another higher priorit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cess blocks on som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me-sharing systems, the process has completed its “round” and it is the turn of some oth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must be able to restore the proces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 we must save its state before switching to anoth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132-B77F-4EE4-9DBD-45E72CFF6D7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“exec” point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OS has one pointer (“exec”) to the PCB of the ru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tus of the “exec” process is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process switch occu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tus of the “exec” process is changed to BLOCKING or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heduler 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heduler selects another “exec” from the ready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40D-2D9E-43B5-B442-2610B9B4E9B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undamental concept in any operating system is the “proc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ocess is an execut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its own set of resources (memory, file descriptors, et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OS can execute many processes at the same time (concurrenc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10F-850C-4602-B4AB-0013BCB96CD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ystem call with process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s parameters on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 2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to superviso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e context in the PCB of “exec” (including SP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e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change status and goes into BLOCK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s th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es “exec” into the blocking que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s another process to go into RUNN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w exec points to the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ores the context of “exec” (including SP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changes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turns to where the new process was interru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4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AFD-75EE-46E2-B548-503E737758B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tac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cuting I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23880" y="3200400"/>
            <a:ext cx="1295640" cy="2743200"/>
          </a:xfrm>
          <a:prstGeom prst="rect">
            <a:avLst/>
          </a:prstGeom>
          <a:solidFill>
            <a:srgbClr val="e1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47920" y="2224080"/>
            <a:ext cx="1218960" cy="370800"/>
          </a:xfrm>
          <a:prstGeom prst="rect">
            <a:avLst/>
          </a:prstGeom>
          <a:solidFill>
            <a:srgbClr val="e1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2133720"/>
            <a:ext cx="34290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5638680"/>
            <a:ext cx="1295640" cy="304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3880" y="5334120"/>
            <a:ext cx="1295640" cy="304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029200"/>
            <a:ext cx="1295640" cy="304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2743200"/>
            <a:ext cx="129528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00400" y="3048120"/>
            <a:ext cx="1295280" cy="3045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0400" y="3352680"/>
            <a:ext cx="129528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200400" y="3657600"/>
            <a:ext cx="1295280" cy="1219320"/>
            <a:chOff x="3200400" y="3657600"/>
            <a:chExt cx="1295280" cy="1219320"/>
          </a:xfrm>
        </p:grpSpPr>
        <p:sp>
          <p:nvSpPr>
            <p:cNvPr id="392" name=""/>
            <p:cNvSpPr/>
            <p:nvPr/>
          </p:nvSpPr>
          <p:spPr>
            <a:xfrm>
              <a:off x="3200400" y="3657600"/>
              <a:ext cx="1295280" cy="30492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00400" y="3962520"/>
              <a:ext cx="1295280" cy="30456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00400" y="4267080"/>
              <a:ext cx="1295280" cy="30492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0400" y="4572000"/>
              <a:ext cx="1295280" cy="30492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ther R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3200400" y="4876920"/>
            <a:ext cx="1295280" cy="304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5181480"/>
            <a:ext cx="129528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5486400"/>
            <a:ext cx="129528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m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00400" y="5791320"/>
            <a:ext cx="1295280" cy="304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02640" y="2362320"/>
            <a:ext cx="61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89040" y="283356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3657600"/>
            <a:ext cx="1295280" cy="1219320"/>
            <a:chOff x="3200400" y="3657600"/>
            <a:chExt cx="1295280" cy="1219320"/>
          </a:xfrm>
        </p:grpSpPr>
        <p:sp>
          <p:nvSpPr>
            <p:cNvPr id="403" name=""/>
            <p:cNvSpPr/>
            <p:nvPr/>
          </p:nvSpPr>
          <p:spPr>
            <a:xfrm>
              <a:off x="3200400" y="3657600"/>
              <a:ext cx="1295280" cy="304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00400" y="3962520"/>
              <a:ext cx="1295280" cy="3045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00400" y="4267080"/>
              <a:ext cx="1295280" cy="304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00400" y="4572000"/>
              <a:ext cx="1295280" cy="304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ther R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5257800" y="3200400"/>
            <a:ext cx="1295280" cy="2743200"/>
          </a:xfrm>
          <a:prstGeom prst="rect">
            <a:avLst/>
          </a:prstGeom>
          <a:solidFill>
            <a:srgbClr val="e1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2133720"/>
            <a:ext cx="34290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57800" y="5638680"/>
            <a:ext cx="1295280" cy="304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57800" y="5334120"/>
            <a:ext cx="1295280" cy="304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5029200"/>
            <a:ext cx="1295280" cy="3049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2520" y="2743200"/>
            <a:ext cx="129564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2520" y="3048120"/>
            <a:ext cx="1295640" cy="3045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2520" y="3352680"/>
            <a:ext cx="129564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932520" y="3657600"/>
            <a:ext cx="1295640" cy="1219320"/>
            <a:chOff x="6932520" y="3657600"/>
            <a:chExt cx="1295640" cy="1219320"/>
          </a:xfrm>
        </p:grpSpPr>
        <p:sp>
          <p:nvSpPr>
            <p:cNvPr id="416" name=""/>
            <p:cNvSpPr/>
            <p:nvPr/>
          </p:nvSpPr>
          <p:spPr>
            <a:xfrm>
              <a:off x="6932520" y="3657600"/>
              <a:ext cx="1295640" cy="304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32520" y="3962520"/>
              <a:ext cx="1295640" cy="3045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32520" y="4267080"/>
              <a:ext cx="1295640" cy="304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32520" y="4572000"/>
              <a:ext cx="1295640" cy="3049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ther R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932520" y="4876920"/>
            <a:ext cx="1295640" cy="304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32520" y="5181480"/>
            <a:ext cx="129564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32520" y="5486400"/>
            <a:ext cx="1295640" cy="30492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m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32520" y="5791320"/>
            <a:ext cx="1295640" cy="304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36560" y="2362320"/>
            <a:ext cx="61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22600" y="283356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600" y="2209680"/>
            <a:ext cx="1101240" cy="370800"/>
          </a:xfrm>
          <a:prstGeom prst="rect">
            <a:avLst/>
          </a:prstGeom>
          <a:solidFill>
            <a:srgbClr val="e1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73280" y="2209680"/>
            <a:ext cx="837720" cy="370800"/>
          </a:xfrm>
          <a:prstGeom prst="rect">
            <a:avLst/>
          </a:prstGeom>
          <a:solidFill>
            <a:srgbClr val="e1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0040" y="2209680"/>
            <a:ext cx="1143000" cy="370800"/>
          </a:xfrm>
          <a:prstGeom prst="rect">
            <a:avLst/>
          </a:prstGeom>
          <a:solidFill>
            <a:srgbClr val="e1d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932520" y="3657600"/>
            <a:ext cx="1295640" cy="1219320"/>
            <a:chOff x="6932520" y="3657600"/>
            <a:chExt cx="1295640" cy="1219320"/>
          </a:xfrm>
        </p:grpSpPr>
        <p:sp>
          <p:nvSpPr>
            <p:cNvPr id="430" name=""/>
            <p:cNvSpPr/>
            <p:nvPr/>
          </p:nvSpPr>
          <p:spPr>
            <a:xfrm>
              <a:off x="6932520" y="3657600"/>
              <a:ext cx="1295640" cy="30492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32520" y="3962520"/>
              <a:ext cx="1295640" cy="30456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2520" y="4267080"/>
              <a:ext cx="1295640" cy="30492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932520" y="4572000"/>
              <a:ext cx="1295640" cy="30492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ther Re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257800" y="5029200"/>
            <a:ext cx="1295280" cy="30492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257800" y="5334120"/>
            <a:ext cx="1295280" cy="30456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5638680"/>
            <a:ext cx="1295280" cy="30492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CCB-A083-4710-8D45-4D86851A4BAC}" type="slidenum">
              <a:t>21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 fill="hold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 fill="hold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 fill="hold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 fill="hold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only a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OS has little variations on the same t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in most cases, registers are saved on the stack, not on the P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try to look into some real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 B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k (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hark.sssup.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OS is differ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D47-8D44-4002-BE17-30861578B8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ime sharing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ime sharing system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process can execute for maximum one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10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end of the round, the processor is given to anoth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627960" y="3819600"/>
            <a:ext cx="1163520" cy="6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824" y="18958"/>
                </a:moveTo>
                <a:lnTo>
                  <a:pt x="-1414" y="4114"/>
                </a:lnTo>
              </a:path>
              <a:path w="21600" h="21600">
                <a:moveTo>
                  <a:pt x="-1414" y="0"/>
                </a:moveTo>
                <a:lnTo>
                  <a:pt x="-1414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eeSan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eeSan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51480" y="4176720"/>
            <a:ext cx="106668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094280" y="46483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570040" y="4329000"/>
            <a:ext cx="1600200" cy="609840"/>
            <a:chOff x="2570040" y="4329000"/>
            <a:chExt cx="1600200" cy="609840"/>
          </a:xfrm>
        </p:grpSpPr>
        <p:sp>
          <p:nvSpPr>
            <p:cNvPr id="445" name=""/>
            <p:cNvSpPr/>
            <p:nvPr/>
          </p:nvSpPr>
          <p:spPr>
            <a:xfrm>
              <a:off x="2570040" y="4329000"/>
              <a:ext cx="1600200" cy="6098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41640" y="4329000"/>
              <a:ext cx="1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13040" y="4329000"/>
              <a:ext cx="1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84440" y="4329000"/>
              <a:ext cx="1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55840" y="4329000"/>
              <a:ext cx="1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27240" y="4329000"/>
              <a:ext cx="1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98640" y="4329000"/>
              <a:ext cx="1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2586960" y="3809880"/>
            <a:ext cx="148824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eeSans"/>
              </a:rPr>
              <a:t>Read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79680" y="4648320"/>
            <a:ext cx="99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328560" y="4951080"/>
            <a:ext cx="1756080" cy="765360"/>
            <a:chOff x="3328560" y="4951080"/>
            <a:chExt cx="1756080" cy="765360"/>
          </a:xfrm>
        </p:grpSpPr>
        <p:sp>
          <p:nvSpPr>
            <p:cNvPr id="455" name=""/>
            <p:cNvSpPr/>
            <p:nvPr/>
          </p:nvSpPr>
          <p:spPr>
            <a:xfrm>
              <a:off x="5083200" y="51814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328560" y="5715000"/>
              <a:ext cx="175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332160" y="4951080"/>
              <a:ext cx="1440" cy="76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484440" y="4329000"/>
            <a:ext cx="684360" cy="609840"/>
            <a:chOff x="3484440" y="4329000"/>
            <a:chExt cx="684360" cy="609840"/>
          </a:xfrm>
        </p:grpSpPr>
        <p:sp>
          <p:nvSpPr>
            <p:cNvPr id="459" name=""/>
            <p:cNvSpPr/>
            <p:nvPr/>
          </p:nvSpPr>
          <p:spPr>
            <a:xfrm>
              <a:off x="3940200" y="4329000"/>
              <a:ext cx="228600" cy="60984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11600" y="4329000"/>
              <a:ext cx="228600" cy="60984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84440" y="4329000"/>
              <a:ext cx="228600" cy="6098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4551480" y="4176720"/>
            <a:ext cx="1066680" cy="99072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484440" y="4329000"/>
            <a:ext cx="684360" cy="609840"/>
            <a:chOff x="3484440" y="4329000"/>
            <a:chExt cx="684360" cy="609840"/>
          </a:xfrm>
        </p:grpSpPr>
        <p:sp>
          <p:nvSpPr>
            <p:cNvPr id="464" name=""/>
            <p:cNvSpPr/>
            <p:nvPr/>
          </p:nvSpPr>
          <p:spPr>
            <a:xfrm>
              <a:off x="3484440" y="4329000"/>
              <a:ext cx="228600" cy="6098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40200" y="4329000"/>
              <a:ext cx="228600" cy="60984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11600" y="4329000"/>
              <a:ext cx="228600" cy="6098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4551480" y="4176720"/>
            <a:ext cx="106668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51480" y="4176720"/>
            <a:ext cx="1066680" cy="9907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484440" y="4329000"/>
            <a:ext cx="684360" cy="609840"/>
            <a:chOff x="3484440" y="4329000"/>
            <a:chExt cx="684360" cy="609840"/>
          </a:xfrm>
        </p:grpSpPr>
        <p:sp>
          <p:nvSpPr>
            <p:cNvPr id="470" name=""/>
            <p:cNvSpPr/>
            <p:nvPr/>
          </p:nvSpPr>
          <p:spPr>
            <a:xfrm>
              <a:off x="3484440" y="4329000"/>
              <a:ext cx="228600" cy="60984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40200" y="4329000"/>
              <a:ext cx="228600" cy="60984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11600" y="4329000"/>
              <a:ext cx="228600" cy="6098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484440" y="4329000"/>
            <a:ext cx="684360" cy="609840"/>
            <a:chOff x="3484440" y="4329000"/>
            <a:chExt cx="684360" cy="609840"/>
          </a:xfrm>
        </p:grpSpPr>
        <p:sp>
          <p:nvSpPr>
            <p:cNvPr id="474" name=""/>
            <p:cNvSpPr/>
            <p:nvPr/>
          </p:nvSpPr>
          <p:spPr>
            <a:xfrm>
              <a:off x="3711600" y="4329000"/>
              <a:ext cx="228600" cy="60984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84440" y="4329000"/>
              <a:ext cx="228600" cy="6098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40200" y="4329000"/>
              <a:ext cx="228600" cy="6098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629400" y="5257800"/>
            <a:ext cx="1163520" cy="6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768" y="-12910"/>
                </a:moveTo>
                <a:lnTo>
                  <a:pt x="-1414" y="4114"/>
                </a:lnTo>
              </a:path>
              <a:path w="21600" h="21600">
                <a:moveTo>
                  <a:pt x="-1414" y="0"/>
                </a:moveTo>
                <a:lnTo>
                  <a:pt x="-1414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eeSans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eeSans"/>
              </a:rPr>
              <a:t>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1A5-9B00-4F63-A78D-E3B021D75C59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1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1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1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with process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very similar to the INT with process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terrup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to superviso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 CR and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 processo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 the interrupt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 the 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ay change the “exec”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91D-72EE-4A71-B46C-7E86945924B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auses for a process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cess switch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untary: the process calls a blocking primitive, i.e. it executes an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example, by calling a read() on a blocking de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voluntary: an interrupt arrives that causes the process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can be the timer interrupt , in time-sharing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can be an I/O device which unblocks a blocked process with a higher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C12-64DC-446D-BE31-41BB68CB5F7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S structu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proces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kernel executes in its ow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ime we do a mode swit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ers are sa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ck is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4952880"/>
            <a:ext cx="381024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3886200"/>
            <a:ext cx="609840" cy="10666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37040" y="3886200"/>
            <a:ext cx="609480" cy="10666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951440" y="3886200"/>
            <a:ext cx="609480" cy="10666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865840" y="3886200"/>
            <a:ext cx="609480" cy="10666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4F8-AFC8-4C94-883C-C011EA9DA7F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ecution within User proce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kernel routines execute in the context of the ru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ck is not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l variables of the kernel are saved on top of the process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small part (the process switch) is independent of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and Shark and many others have this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5715000"/>
            <a:ext cx="3810240" cy="53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Switchin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4191120"/>
            <a:ext cx="60984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037040" y="419112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951440" y="419112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865840" y="419112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124080" y="4876920"/>
            <a:ext cx="609840" cy="8380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unc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7040" y="4876920"/>
            <a:ext cx="609480" cy="8380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unc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1440" y="4876920"/>
            <a:ext cx="609480" cy="8380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unc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865840" y="4876920"/>
            <a:ext cx="609480" cy="8380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unc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246-9601-4ECF-A08B-46DC0A72FF1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-based O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the typical microkerne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routine (service) is a separat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system call involves a process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arity, Composability, Exten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23880" y="5715000"/>
            <a:ext cx="6705720" cy="53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cess Switchin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52480" y="5029200"/>
            <a:ext cx="60984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666880" y="5029200"/>
            <a:ext cx="60984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79840" y="502920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94240" y="502920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02920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408640" y="502920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13760" y="5029200"/>
            <a:ext cx="609480" cy="6858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D06-9658-47F4-9FF5-408C10AA56B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hrea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8F1-B9DF-458B-8365-37E1037FC96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tra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computer executes a sequential process, it goes through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each step, the state of the process is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 process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 proces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E83-8AEE-4B8F-BC5B-4C23EDE5876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istinguish two aspects in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includes a virtual address space, a process image (code + dat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llocated a set of resources, like file descriptors, I/O channel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ing/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ecution of a process follows an ececution path, and generates a trace (sequence of internal stat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has a state (ready, Running, etc.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cheduling parameters (priority, time left in the round, etc.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241-6C3C-4BF3-B38F-E7E1D8A28C2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threa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OS separate these aspects, by providing the concept of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cess is the “resource own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hread is the “scheduling ent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process can consists of one or mo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ads are sometime called (improperly) lightweight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on process can have many different (and concurrent) traces of execu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B5D-A408-49AB-868C-69947468B2B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ingle threaded Process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5240" y="1363320"/>
            <a:ext cx="495288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single-threaded process model one process has only one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PCB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6551640" y="2209680"/>
            <a:ext cx="201780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5E5-B06F-4F4D-BFB6-CF026BB6A24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threaded process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5240" y="12189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multi-threaded process model each process can have many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P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TCB (Thread Control block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reads are scheduled directly by the global 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335400" cy="314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9D4-585D-4A7B-8D46-867790C5CA3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ly, processes do not shar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ommunicate between process, it is necessary to user OS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switch is more complex because we have to change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threads in the same process share the same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an access the same variables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 between threads is si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ad switch has less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978-6F25-4BF0-B248-D8F2D52377B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es vs. Threa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re mainly used to compete for som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wo different users run two separate applications that need to print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inter is a shared resource, the two processes compete for the 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eads are mainly used to collaborate to som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one complex calculation can be split in two parallel phases, each thread does on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multi-processor machine the two threads go in parallel and the calculation becomes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1B4-AA2E-4F0E-9667-135511F1D96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23880" y="5173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109" y="23614"/>
                </a:moveTo>
                <a:lnTo>
                  <a:pt x="23400" y="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1. 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a Word Processo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 for input from the 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 th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 th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syntax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other events (i.e. temporary sav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4000"/>
              </a:lnSpc>
              <a:spcBef>
                <a:spcPts val="601"/>
              </a:spcBef>
              <a:buClr>
                <a:srgbClr val="906d58"/>
              </a:buClr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84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single process would be a waste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6087960"/>
            <a:ext cx="6705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76520" y="5859360"/>
            <a:ext cx="1600200" cy="228600"/>
          </a:xfrm>
          <a:prstGeom prst="rect">
            <a:avLst/>
          </a:prstGeom>
          <a:solidFill>
            <a:srgbClr val="8f6d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5859360"/>
            <a:ext cx="2286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5859360"/>
            <a:ext cx="1295280" cy="22860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00600" y="5859360"/>
            <a:ext cx="11430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943600" y="5859360"/>
            <a:ext cx="304920" cy="2286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246720" y="5859360"/>
            <a:ext cx="1600200" cy="228600"/>
          </a:xfrm>
          <a:prstGeom prst="rect">
            <a:avLst/>
          </a:prstGeom>
          <a:solidFill>
            <a:srgbClr val="8f6d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60400" y="5173560"/>
            <a:ext cx="1067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722" y="23614"/>
                </a:moveTo>
                <a:lnTo>
                  <a:pt x="23143" y="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2.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809800" y="5173560"/>
            <a:ext cx="1067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722" y="23614"/>
                </a:moveTo>
                <a:lnTo>
                  <a:pt x="23143" y="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3.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49840" y="5173560"/>
            <a:ext cx="10666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722" y="23614"/>
                </a:moveTo>
                <a:lnTo>
                  <a:pt x="23143" y="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4.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63960" y="5173560"/>
            <a:ext cx="1067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331" y="24902"/>
                </a:moveTo>
                <a:lnTo>
                  <a:pt x="23143" y="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5.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440" y="5173560"/>
            <a:ext cx="10666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711" y="23614"/>
                </a:moveTo>
                <a:lnTo>
                  <a:pt x="23143" y="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1. 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05C-7193-4B44-9AB5-AF5DECAC2353}" type="slidenum">
              <a:t>36</a:t>
            </a:fld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 time, the program waits for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, while waiting we could perform some othe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vities 3 and 4 (formatting and syntax checking) are very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: let’s do them while waiting for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 with multipl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rocess waits for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other process periodically formats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hird process periodically performs a syntax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ourth process visualize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4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905120" y="5181480"/>
            <a:ext cx="5789520" cy="990720"/>
            <a:chOff x="1905120" y="5181480"/>
            <a:chExt cx="5789520" cy="990720"/>
          </a:xfrm>
        </p:grpSpPr>
        <p:sp>
          <p:nvSpPr>
            <p:cNvPr id="543" name=""/>
            <p:cNvSpPr/>
            <p:nvPr/>
          </p:nvSpPr>
          <p:spPr>
            <a:xfrm>
              <a:off x="1905120" y="5181480"/>
              <a:ext cx="1066680" cy="9907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29000" y="5181480"/>
              <a:ext cx="1066680" cy="9907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orm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29200" y="5181480"/>
              <a:ext cx="1066680" cy="9907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yn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27960" y="5181480"/>
              <a:ext cx="1066680" cy="99072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331-6E81-4B83-9792-43C441A98A83}" type="slidenum">
              <a:t>37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I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with multipl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processes needs to access the same data structure, th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process holds the data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 1: message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dicated process holds the data, all the others communicate with it to read/update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ineffici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905120" y="4419720"/>
            <a:ext cx="5789520" cy="2133360"/>
            <a:chOff x="1905120" y="4419720"/>
            <a:chExt cx="5789520" cy="2133360"/>
          </a:xfrm>
        </p:grpSpPr>
        <p:sp>
          <p:nvSpPr>
            <p:cNvPr id="550" name=""/>
            <p:cNvSpPr/>
            <p:nvPr/>
          </p:nvSpPr>
          <p:spPr>
            <a:xfrm>
              <a:off x="1905120" y="4419720"/>
              <a:ext cx="1066680" cy="9903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29000" y="4419720"/>
              <a:ext cx="1066680" cy="9903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Form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29200" y="4419720"/>
              <a:ext cx="1066680" cy="9903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yn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27960" y="4419720"/>
              <a:ext cx="1066680" cy="9903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65640" y="5562720"/>
              <a:ext cx="1066680" cy="99036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36840" y="5410080"/>
              <a:ext cx="1828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91120" y="53341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102280" y="5410080"/>
              <a:ext cx="23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330880" y="5334120"/>
              <a:ext cx="1527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DDA-A33A-455E-AAC5-AA9B5B623188}" type="slidenum">
              <a:t>38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1000" fill="hold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- IV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soluti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 2: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rocess holds the data and makes that part of its memory shareable with th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 not very effici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a lot of proces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handling becomes very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43F-12FB-412D-BD61-D27053FB577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Hist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gram for computing G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2049480"/>
            <a:ext cx="3589920" cy="205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int gcd(int a, int 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while (a!=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if (a &lt; b) b = b-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else a = a –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876920" y="1905120"/>
            <a:ext cx="2133360" cy="2439720"/>
            <a:chOff x="4876920" y="1905120"/>
            <a:chExt cx="2133360" cy="2439720"/>
          </a:xfrm>
        </p:grpSpPr>
        <p:sp>
          <p:nvSpPr>
            <p:cNvPr id="106" name=""/>
            <p:cNvSpPr/>
            <p:nvPr/>
          </p:nvSpPr>
          <p:spPr>
            <a:xfrm>
              <a:off x="6400800" y="3936960"/>
              <a:ext cx="6094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89520" y="3936960"/>
              <a:ext cx="609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920" y="393696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00800" y="3530520"/>
              <a:ext cx="6094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89520" y="3530520"/>
              <a:ext cx="609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35305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3124080"/>
              <a:ext cx="6094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89520" y="3124080"/>
              <a:ext cx="609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312408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2717640"/>
              <a:ext cx="6094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89520" y="2717640"/>
              <a:ext cx="609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271764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2311560"/>
              <a:ext cx="6094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89520" y="2311560"/>
              <a:ext cx="6098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2311560"/>
              <a:ext cx="914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1905120"/>
              <a:ext cx="6094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89520" y="1905120"/>
              <a:ext cx="609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6920" y="19051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1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1905120"/>
              <a:ext cx="2133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6920" y="2311560"/>
              <a:ext cx="213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76920" y="2717640"/>
              <a:ext cx="2133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3124080"/>
              <a:ext cx="2133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76920" y="4343400"/>
              <a:ext cx="2133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920" y="1905120"/>
              <a:ext cx="144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89520" y="1905120"/>
              <a:ext cx="180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1905120"/>
              <a:ext cx="144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08840" y="1905120"/>
              <a:ext cx="144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3530520"/>
              <a:ext cx="2133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76920" y="3936960"/>
              <a:ext cx="2133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668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ery time the program is launched, a new process is generated and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433-8E9E-4FCD-94A9-0D5DD36838E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y using thread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4880" y="1110960"/>
            <a:ext cx="762012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d of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a thread takes far less time than creating 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d of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 switch is faster than process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s of the same process run in the same memory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can naturally access the same da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343160" y="4564080"/>
            <a:ext cx="6629400" cy="2057400"/>
            <a:chOff x="1343160" y="4564080"/>
            <a:chExt cx="6629400" cy="2057400"/>
          </a:xfrm>
        </p:grpSpPr>
        <p:sp>
          <p:nvSpPr>
            <p:cNvPr id="564" name=""/>
            <p:cNvSpPr/>
            <p:nvPr/>
          </p:nvSpPr>
          <p:spPr>
            <a:xfrm>
              <a:off x="1343160" y="4564080"/>
              <a:ext cx="6629400" cy="205740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1724040" y="4716360"/>
              <a:ext cx="5791320" cy="990720"/>
              <a:chOff x="1724040" y="4716360"/>
              <a:chExt cx="5791320" cy="990720"/>
            </a:xfrm>
          </p:grpSpPr>
          <p:sp>
            <p:nvSpPr>
              <p:cNvPr id="566" name=""/>
              <p:cNvSpPr/>
              <p:nvPr/>
            </p:nvSpPr>
            <p:spPr>
              <a:xfrm>
                <a:off x="1724040" y="4716360"/>
                <a:ext cx="1066680" cy="990720"/>
              </a:xfrm>
              <a:prstGeom prst="ellipse">
                <a:avLst/>
              </a:prstGeom>
              <a:solidFill>
                <a:srgbClr val="e3db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Inpu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247920" y="4716360"/>
                <a:ext cx="1067040" cy="990720"/>
              </a:xfrm>
              <a:prstGeom prst="ellipse">
                <a:avLst/>
              </a:prstGeom>
              <a:solidFill>
                <a:srgbClr val="e3db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Form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48120" y="4716360"/>
                <a:ext cx="1067040" cy="990720"/>
              </a:xfrm>
              <a:prstGeom prst="ellipse">
                <a:avLst/>
              </a:prstGeom>
              <a:solidFill>
                <a:srgbClr val="e3db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Synta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48320" y="4716360"/>
                <a:ext cx="1067040" cy="990720"/>
              </a:xfrm>
              <a:prstGeom prst="ellipse">
                <a:avLst/>
              </a:prstGeom>
              <a:solidFill>
                <a:srgbClr val="e3db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Graphi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1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3552840" y="6012000"/>
              <a:ext cx="2133720" cy="4572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oc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03000" y="6087960"/>
              <a:ext cx="114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88A-E08C-437B-970C-86530A25DB92}" type="slidenum">
              <a:t>40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reads support in O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4880" y="1231560"/>
            <a:ext cx="762012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OS implement threads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S supports directly onl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s are implemented as “special process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S supports only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es are threads’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S natively supports both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 Windows 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come back to this part later, after we have studied the problem of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now we need to abstract away the different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A66-3565-499D-9608-E0C7EF56D5F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: provides the abstraction of memory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s: provide the abstraction of execution t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heduler manages threa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do not normally shar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threads of the same process shar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explore all the different ways in which two threads can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next section we will only refer to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3BE-5BF1-4B3F-99D6-2DBF13C9639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71400" y="142560"/>
            <a:ext cx="78105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sercizi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440" y="1234800"/>
            <a:ext cx="414828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ate il seguente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55720" y="4994280"/>
            <a:ext cx="308448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potesi di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cessore a 32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 = 4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uble = 8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har = 1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739800" y="1708200"/>
            <a:ext cx="3924360" cy="3141720"/>
            <a:chOff x="739800" y="1708200"/>
            <a:chExt cx="3924360" cy="3141720"/>
          </a:xfrm>
        </p:grpSpPr>
        <p:sp>
          <p:nvSpPr>
            <p:cNvPr id="580" name=""/>
            <p:cNvSpPr/>
            <p:nvPr/>
          </p:nvSpPr>
          <p:spPr>
            <a:xfrm>
              <a:off x="739800" y="1708200"/>
              <a:ext cx="3924360" cy="3141720"/>
            </a:xfrm>
            <a:prstGeom prst="roundRect">
              <a:avLst>
                <a:gd name="adj" fmla="val 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39800" y="1708200"/>
              <a:ext cx="3924360" cy="3141720"/>
            </a:xfrm>
            <a:prstGeom prst="roundRect">
              <a:avLst>
                <a:gd name="adj" fmla="val 51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void *threadA(void *arg)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t i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uble s = *((double *) arg)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uble vect[3]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or (i=0; i&lt;3; i++) vect[i] = 0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hile (1) {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ultiply(vect)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f (length(vect) &gt;s)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rmalize(vect)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ask_endcycle();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892760" y="974880"/>
            <a:ext cx="4024080" cy="5392440"/>
            <a:chOff x="4892760" y="974880"/>
            <a:chExt cx="4024080" cy="5392440"/>
          </a:xfrm>
        </p:grpSpPr>
        <p:sp>
          <p:nvSpPr>
            <p:cNvPr id="583" name=""/>
            <p:cNvSpPr/>
            <p:nvPr/>
          </p:nvSpPr>
          <p:spPr>
            <a:xfrm>
              <a:off x="4892760" y="974880"/>
              <a:ext cx="4024080" cy="5392440"/>
            </a:xfrm>
            <a:custGeom>
              <a:avLst/>
              <a:gdLst>
                <a:gd name="textAreaLeft" fmla="*/ 360 w 4024080"/>
                <a:gd name="textAreaRight" fmla="*/ 4023720 w 4024080"/>
                <a:gd name="textAreaTop" fmla="*/ 360 h 5392440"/>
                <a:gd name="textAreaBottom" fmla="*/ 5392080 h 5392440"/>
              </a:gdLst>
              <a:ahLst/>
              <a:rect l="textAreaLeft" t="textAreaTop" r="textAreaRight" b="textAreaBottom"/>
              <a:pathLst>
                <a:path w="21600" h="28944">
                  <a:moveTo>
                    <a:pt x="7" y="0"/>
                  </a:moveTo>
                  <a:arcTo wR="7" hR="7" stAng="16200000" swAng="-5400000"/>
                  <a:lnTo>
                    <a:pt x="0" y="28937"/>
                  </a:lnTo>
                  <a:arcTo wR="7" hR="7" stAng="10800000" swAng="-5400000"/>
                  <a:lnTo>
                    <a:pt x="21593" y="28944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92760" y="974880"/>
              <a:ext cx="4024080" cy="5392440"/>
            </a:xfrm>
            <a:custGeom>
              <a:avLst/>
              <a:gdLst>
                <a:gd name="textAreaLeft" fmla="*/ 360 w 4024080"/>
                <a:gd name="textAreaRight" fmla="*/ 4023720 w 4024080"/>
                <a:gd name="textAreaTop" fmla="*/ 360 h 5392440"/>
                <a:gd name="textAreaBottom" fmla="*/ 5392080 h 5392440"/>
              </a:gdLst>
              <a:ahLst/>
              <a:rect l="textAreaLeft" t="textAreaTop" r="textAreaRight" b="textAreaBottom"/>
              <a:pathLst>
                <a:path w="21600" h="28944">
                  <a:moveTo>
                    <a:pt x="7" y="0"/>
                  </a:moveTo>
                  <a:arcTo wR="7" hR="7" stAng="16200000" swAng="-5400000"/>
                  <a:lnTo>
                    <a:pt x="0" y="28937"/>
                  </a:lnTo>
                  <a:arcTo wR="7" hR="7" stAng="10800000" swAng="-5400000"/>
                  <a:lnTo>
                    <a:pt x="21593" y="28944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uble mat[3][3]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void multiply(double v[])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t i,j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uble ris[3]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or(i=0; i&lt;3; i++) {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ris[i] = 0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or (j=0; j&lt;3; j++) ris[i] += mat[i][j] * v[i];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or (i=0; i&lt;3; i++) v[i] = ris[i]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return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uble length(double v[])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return sqrt(v[0]*v[0] + v[1]*v[1] + v[2]*v[2])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void normalize(double v[])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t i;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uble l = length(v)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or (i=0; i&lt;3; i++) v[i] /= l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return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84C-E62D-48D9-9C6E-030E116AE4E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24068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sercizi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440" y="1555560"/>
            <a:ext cx="815508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24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man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egnare la struttura dello stack e calcolare la sua dimensione in 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vere cosa succede quando arriva una interr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24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un sistema time sharing, descrivere cosa succede quando il quanto di esecuzione del thread è termi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188-D2FA-4F1E-A455-AD20F325E824}" type="slidenum">
              <a:t>4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sta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4880" y="1290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S can execute many processes “at the same 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one process can execute at some instant of time, however, by us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ime sha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 OS can switch between all the processes that ar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 OS point of view, it is important to understand which process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rocess, during its lifetime can be in one of the following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Star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process is being create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Read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process is ready to be execut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Executing 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process is executing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Block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process is waiting on a conditio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Termina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process is about to termin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9D0-D5CE-4307-8977-7211D4BDFA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sta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0120" indent="-510120">
              <a:lnSpc>
                <a:spcPct val="84000"/>
              </a:lnSpc>
              <a:spcBef>
                <a:spcPts val="499"/>
              </a:spcBef>
              <a:buClr>
                <a:srgbClr val="8f6d58"/>
              </a:buClr>
              <a:buFont typeface="Arial"/>
              <a:buAutoNum type="alphaLcParenR"/>
              <a:tabLst>
                <a:tab algn="l" pos="313848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84000"/>
              </a:lnSpc>
              <a:spcBef>
                <a:spcPts val="499"/>
              </a:spcBef>
              <a:buClr>
                <a:srgbClr val="8f6d58"/>
              </a:buClr>
              <a:buFont typeface="Arial"/>
              <a:buAutoNum type="alphaLcParenR"/>
              <a:tabLst>
                <a:tab algn="l" pos="313848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pat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is selected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84000"/>
              </a:lnSpc>
              <a:spcBef>
                <a:spcPts val="499"/>
              </a:spcBef>
              <a:buClr>
                <a:srgbClr val="8f6d58"/>
              </a:buClr>
              <a:buFont typeface="Arial"/>
              <a:buAutoNum type="alphaLcParenR"/>
              <a:tabLst>
                <a:tab algn="l" pos="313848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emp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leaves the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84000"/>
              </a:lnSpc>
              <a:spcBef>
                <a:spcPts val="499"/>
              </a:spcBef>
              <a:buClr>
                <a:srgbClr val="8f6d58"/>
              </a:buClr>
              <a:buFont typeface="Arial"/>
              <a:buAutoNum type="alphaLcParenR"/>
              <a:tabLst>
                <a:tab algn="l" pos="313848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 on condi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is blocked on a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84000"/>
              </a:lnSpc>
              <a:spcBef>
                <a:spcPts val="499"/>
              </a:spcBef>
              <a:buClr>
                <a:srgbClr val="8f6d58"/>
              </a:buClr>
              <a:buFont typeface="Arial"/>
              <a:buAutoNum type="alphaLcParenR"/>
              <a:tabLst>
                <a:tab algn="l" pos="313848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 tr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is un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0120" indent="-510120">
              <a:lnSpc>
                <a:spcPct val="84000"/>
              </a:lnSpc>
              <a:spcBef>
                <a:spcPts val="499"/>
              </a:spcBef>
              <a:buClr>
                <a:srgbClr val="8f6d58"/>
              </a:buClr>
              <a:buFont typeface="Arial"/>
              <a:buAutoNum type="alphaLcParenR"/>
              <a:tabLst>
                <a:tab algn="l" pos="313848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terminat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733920"/>
            <a:ext cx="1219320" cy="761760"/>
          </a:xfrm>
          <a:prstGeom prst="ellipse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1218960" cy="761760"/>
          </a:xfrm>
          <a:prstGeom prst="ellipse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7240" y="3733920"/>
            <a:ext cx="1219320" cy="761760"/>
          </a:xfrm>
          <a:prstGeom prst="ellipse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1120" y="5486400"/>
            <a:ext cx="1219320" cy="762120"/>
          </a:xfrm>
          <a:prstGeom prst="ellipse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5562720"/>
            <a:ext cx="1218960" cy="761760"/>
          </a:xfrm>
          <a:prstGeom prst="ellipse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1148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43434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40" y="72"/>
                  <a:pt x="512" y="144"/>
                  <a:pt x="384" y="144"/>
                </a:cubicBezTo>
                <a:cubicBezTo>
                  <a:pt x="256" y="144"/>
                  <a:pt x="128" y="7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4646160" y="365868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40" y="72"/>
                  <a:pt x="512" y="144"/>
                  <a:pt x="384" y="144"/>
                </a:cubicBezTo>
                <a:cubicBezTo>
                  <a:pt x="256" y="144"/>
                  <a:pt x="128" y="7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41972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570560" y="4419720"/>
            <a:ext cx="1374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114800" y="4494240"/>
            <a:ext cx="1440" cy="10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48040" y="3733920"/>
            <a:ext cx="336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90400" y="3276720"/>
            <a:ext cx="336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4440" y="4191120"/>
            <a:ext cx="32076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66720" y="4952880"/>
            <a:ext cx="336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68840" y="4800600"/>
            <a:ext cx="3362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3240" y="4648320"/>
            <a:ext cx="2584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D8C-7FD7-415C-B291-C210E069F1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queu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gl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76720" y="2666880"/>
            <a:ext cx="1600200" cy="533520"/>
            <a:chOff x="3276720" y="2666880"/>
            <a:chExt cx="1600200" cy="533520"/>
          </a:xfrm>
        </p:grpSpPr>
        <p:sp>
          <p:nvSpPr>
            <p:cNvPr id="160" name=""/>
            <p:cNvSpPr/>
            <p:nvPr/>
          </p:nvSpPr>
          <p:spPr>
            <a:xfrm>
              <a:off x="3276720" y="266688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6520" y="26668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7920" y="26668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89320" y="26668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0720" y="26668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2120" y="26668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03520" y="26668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551640" y="2438280"/>
            <a:ext cx="9144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13800" y="2209680"/>
            <a:ext cx="15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28954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289548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36920" y="2494080"/>
            <a:ext cx="749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Ad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037040" y="4343400"/>
            <a:ext cx="1600200" cy="533520"/>
            <a:chOff x="4037040" y="4343400"/>
            <a:chExt cx="1600200" cy="533520"/>
          </a:xfrm>
        </p:grpSpPr>
        <p:sp>
          <p:nvSpPr>
            <p:cNvPr id="173" name=""/>
            <p:cNvSpPr/>
            <p:nvPr/>
          </p:nvSpPr>
          <p:spPr>
            <a:xfrm>
              <a:off x="4037040" y="434340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86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800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14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28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942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656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V="1">
            <a:off x="2438280" y="2893680"/>
            <a:ext cx="1800" cy="76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365760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08840" y="33526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00080" y="3352680"/>
            <a:ext cx="1301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Pre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37200" y="2514600"/>
            <a:ext cx="101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Dis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08840" y="36576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635800" y="4572000"/>
            <a:ext cx="1374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80520" y="3962520"/>
            <a:ext cx="177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ed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45600" y="4648320"/>
            <a:ext cx="15552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Wait 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435040" y="4572000"/>
            <a:ext cx="160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438280" y="3656160"/>
            <a:ext cx="180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08760" y="4648320"/>
            <a:ext cx="1386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Event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1AB-7AB3-45B9-8D27-B4A5EDBFAB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 queu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processor with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200400" y="2666880"/>
            <a:ext cx="1600200" cy="533520"/>
            <a:chOff x="3200400" y="2666880"/>
            <a:chExt cx="1600200" cy="533520"/>
          </a:xfrm>
        </p:grpSpPr>
        <p:sp>
          <p:nvSpPr>
            <p:cNvPr id="195" name=""/>
            <p:cNvSpPr/>
            <p:nvPr/>
          </p:nvSpPr>
          <p:spPr>
            <a:xfrm>
              <a:off x="3200400" y="266688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2666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400" y="2666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14800" y="2666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200" y="2666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57600" y="2666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29000" y="2666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086600" y="1371600"/>
            <a:ext cx="9144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37840" y="2209680"/>
            <a:ext cx="15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8954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289548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62400" y="2494080"/>
            <a:ext cx="749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Ad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962520" y="5562720"/>
            <a:ext cx="1600200" cy="533160"/>
            <a:chOff x="3962520" y="5562720"/>
            <a:chExt cx="1600200" cy="533160"/>
          </a:xfrm>
        </p:grpSpPr>
        <p:sp>
          <p:nvSpPr>
            <p:cNvPr id="208" name=""/>
            <p:cNvSpPr/>
            <p:nvPr/>
          </p:nvSpPr>
          <p:spPr>
            <a:xfrm>
              <a:off x="3962520" y="5562720"/>
              <a:ext cx="1600200" cy="53316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2320" y="556272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03720" y="556272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5120" y="556272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6520" y="556272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17920" y="556272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89320" y="556272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2362320" y="2894040"/>
            <a:ext cx="1440" cy="19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4876920"/>
            <a:ext cx="586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22320" y="4572000"/>
            <a:ext cx="1301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Pre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46960" y="2514600"/>
            <a:ext cx="101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Dis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559120" y="5791320"/>
            <a:ext cx="2670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04200" y="5181480"/>
            <a:ext cx="177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locked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69280" y="5867280"/>
            <a:ext cx="15552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Wait 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360520" y="5791320"/>
            <a:ext cx="160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362320" y="4874760"/>
            <a:ext cx="144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32800" y="5911920"/>
            <a:ext cx="1386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Event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85160" y="2438280"/>
            <a:ext cx="9144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85160" y="3505320"/>
            <a:ext cx="9144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800600" y="1827360"/>
            <a:ext cx="2286000" cy="10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2895480"/>
            <a:ext cx="2286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99560" y="1828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99560" y="28954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28160" y="1828800"/>
            <a:ext cx="144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99560" y="39625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2C0-7816-46E1-A3C2-98A6013982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ple blocking queu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76720" y="1752480"/>
            <a:ext cx="1600200" cy="533520"/>
            <a:chOff x="3276720" y="1752480"/>
            <a:chExt cx="1600200" cy="533520"/>
          </a:xfrm>
        </p:grpSpPr>
        <p:sp>
          <p:nvSpPr>
            <p:cNvPr id="235" name=""/>
            <p:cNvSpPr/>
            <p:nvPr/>
          </p:nvSpPr>
          <p:spPr>
            <a:xfrm>
              <a:off x="3276720" y="175248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6520" y="17524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17920" y="17524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89320" y="17524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0720" y="17524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32120" y="17524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03520" y="1752480"/>
              <a:ext cx="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551640" y="1523880"/>
            <a:ext cx="9144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13800" y="1295280"/>
            <a:ext cx="15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810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198108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36920" y="1579680"/>
            <a:ext cx="749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Ad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037040" y="3429000"/>
            <a:ext cx="1600200" cy="533520"/>
            <a:chOff x="4037040" y="3429000"/>
            <a:chExt cx="1600200" cy="533520"/>
          </a:xfrm>
        </p:grpSpPr>
        <p:sp>
          <p:nvSpPr>
            <p:cNvPr id="248" name=""/>
            <p:cNvSpPr/>
            <p:nvPr/>
          </p:nvSpPr>
          <p:spPr>
            <a:xfrm>
              <a:off x="4037040" y="342900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08640" y="34290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0040" y="34290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51440" y="34290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22840" y="34290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4240" y="34290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65640" y="34290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2438280" y="1979280"/>
            <a:ext cx="1800" cy="76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743200"/>
            <a:ext cx="457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2438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00080" y="2438280"/>
            <a:ext cx="1301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Pre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37200" y="1600200"/>
            <a:ext cx="1012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Dis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08840" y="2743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635800" y="3657600"/>
            <a:ext cx="1374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49200" y="3733920"/>
            <a:ext cx="17244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Wait condi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435040" y="3657600"/>
            <a:ext cx="160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438280" y="2741760"/>
            <a:ext cx="180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08760" y="3733920"/>
            <a:ext cx="1386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Event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37040" y="4343400"/>
            <a:ext cx="1600200" cy="533520"/>
            <a:chOff x="4037040" y="4343400"/>
            <a:chExt cx="1600200" cy="533520"/>
          </a:xfrm>
        </p:grpSpPr>
        <p:sp>
          <p:nvSpPr>
            <p:cNvPr id="267" name=""/>
            <p:cNvSpPr/>
            <p:nvPr/>
          </p:nvSpPr>
          <p:spPr>
            <a:xfrm>
              <a:off x="4037040" y="434340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086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800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14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28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42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65640" y="43434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008840" y="36576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635800" y="4572000"/>
            <a:ext cx="1374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49200" y="4648320"/>
            <a:ext cx="17244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Wait condi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435040" y="4572000"/>
            <a:ext cx="160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438280" y="3656160"/>
            <a:ext cx="180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08760" y="4648320"/>
            <a:ext cx="1386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Event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037040" y="5257800"/>
            <a:ext cx="1600200" cy="533520"/>
            <a:chOff x="4037040" y="5257800"/>
            <a:chExt cx="1600200" cy="533520"/>
          </a:xfrm>
        </p:grpSpPr>
        <p:sp>
          <p:nvSpPr>
            <p:cNvPr id="281" name=""/>
            <p:cNvSpPr/>
            <p:nvPr/>
          </p:nvSpPr>
          <p:spPr>
            <a:xfrm>
              <a:off x="4037040" y="5257800"/>
              <a:ext cx="1600200" cy="5335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08640" y="52578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80040" y="52578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1440" y="52578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2840" y="52578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4240" y="52578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65640" y="52578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7008840" y="45720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635800" y="5486400"/>
            <a:ext cx="1374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49200" y="5562720"/>
            <a:ext cx="17244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Wait condi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435040" y="5486400"/>
            <a:ext cx="160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438280" y="4570560"/>
            <a:ext cx="180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08760" y="5562720"/>
            <a:ext cx="1386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666699"/>
                </a:solidFill>
                <a:latin typeface="Tahoma"/>
              </a:rPr>
              <a:t>Event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E97-E94A-4A28-949A-A8775330643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