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notesSlide93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9390A-4073-43CC-A052-B1748844AAA8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C73-E4E0-4A4F-A498-09D45E23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9BD-47F2-4E96-A3B3-62BB3D2E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F7B-3878-44EF-80AD-A71425B0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513-4638-4867-B695-799FBFFB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D6B6-A41B-47D5-81B8-256DD902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D3D4-04FD-4FF4-9A46-A86A0CDB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A5BD-8701-420C-8A29-8A25FF03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06DD-67EB-46C3-B0C2-84518F46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95AF-6919-4DE3-A9D5-23FBBB9D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103C-D8B3-4A72-BC1B-29F200C2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BDC3-2486-4465-884E-4974D441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D94-E8E5-4E3B-A9AF-BB078DDA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D29F-BF1D-496E-9A53-88B67559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9F55-BE6A-47C3-B972-EF103C2A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36B3-1BAB-4D25-AA83-6D7ECE87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7256-5DCD-439A-851E-41B48D61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BE0C-2E72-41FD-BD75-22066F03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4A4A-084C-4F0E-92CC-92A6D884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A90-F4F4-4DFD-A290-DD1C0F49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2D1-CFAA-4503-B3E0-23F3BC65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945-377A-4915-952E-97ACE7C1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4CB3-DFFD-4933-8CE7-2FAD8D60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6B58-2962-473C-99AE-7808508B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AB1-20E4-4405-B1CC-B46971E7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AB3BF9-8F75-4AAA-BBB9-30561CC6B5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80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C0E46-C63B-4F88-AA0E-A39B0FC13A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urrency: mutual exclusion and synchronis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81080" y="4952880"/>
            <a:ext cx="2133720" cy="1067040"/>
          </a:xfrm>
          <a:prstGeom prst="roundRect">
            <a:avLst>
              <a:gd name="adj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ssage pass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3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client/serv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erver manages the resource exclus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, the 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process needs to access the resource, it sends a request to the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, printing a file, or asking for the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rver can send back the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rver can also be on a remot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basic prim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d and r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89520" y="4191120"/>
            <a:ext cx="114300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89520" y="5410080"/>
            <a:ext cx="114300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276720" y="5334120"/>
            <a:ext cx="761760" cy="228600"/>
            <a:chOff x="3276720" y="5334120"/>
            <a:chExt cx="761760" cy="228600"/>
          </a:xfrm>
        </p:grpSpPr>
        <p:sp>
          <p:nvSpPr>
            <p:cNvPr id="133" name=""/>
            <p:cNvSpPr/>
            <p:nvPr/>
          </p:nvSpPr>
          <p:spPr>
            <a:xfrm>
              <a:off x="3276720" y="5334120"/>
              <a:ext cx="761760" cy="2286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29000" y="533412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79840" y="533412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33920" y="533412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86200" y="533412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H="1">
            <a:off x="4111560" y="4724280"/>
            <a:ext cx="1682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4111560" y="5559480"/>
            <a:ext cx="1682640" cy="38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17240" y="5257800"/>
            <a:ext cx="915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696-6A0C-460A-BC5F-7DFF06012EB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ducer/Consumer with MP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2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ducer executes send(consumer, data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onsumer executes receive(producer, dat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for a special communication structure (already contained in the send/receive semantic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4610160"/>
            <a:ext cx="205740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32320" y="4610160"/>
            <a:ext cx="205740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514368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8985-DF94-4CAC-8A0F-532E93571C56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ynchronous commun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24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112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nchronous send/rece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12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12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_send(consumer, 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12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12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u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12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_receive(producer, &amp;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185080" y="1752480"/>
            <a:ext cx="1169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89400" y="1752480"/>
            <a:ext cx="1259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732640" y="22096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389720" y="2133720"/>
            <a:ext cx="18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031720" y="2514600"/>
            <a:ext cx="70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694b6"/>
                </a:solidFill>
                <a:latin typeface="Comic Sans MS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732640" y="2743200"/>
            <a:ext cx="14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59640" y="3595680"/>
            <a:ext cx="948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694b6"/>
                </a:solidFill>
                <a:latin typeface="Comic Sans MS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313760" y="3809880"/>
            <a:ext cx="152280" cy="1526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656320" y="2743200"/>
            <a:ext cx="152280" cy="152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656320" y="3809880"/>
            <a:ext cx="152280" cy="1526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785920" y="3886200"/>
            <a:ext cx="153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732640" y="39625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389720" y="396252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811120" y="3138480"/>
            <a:ext cx="1020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808600" y="281952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271960" y="3733920"/>
            <a:ext cx="1169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076280" y="3733920"/>
            <a:ext cx="1259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494240" y="41911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895480" y="4114800"/>
            <a:ext cx="1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65960" y="5653080"/>
            <a:ext cx="70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694b6"/>
                </a:solidFill>
                <a:latin typeface="Comic Sans MS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494240" y="4724280"/>
            <a:ext cx="144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587840" y="4586400"/>
            <a:ext cx="948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694b6"/>
                </a:solidFill>
                <a:latin typeface="Comic Sans MS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419720" y="5791320"/>
            <a:ext cx="152280" cy="152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5791320"/>
            <a:ext cx="152280" cy="152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2890440" y="4800600"/>
            <a:ext cx="153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494240" y="594360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95480" y="594360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422160" y="5119560"/>
            <a:ext cx="1020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971800" y="5867280"/>
            <a:ext cx="1447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165-5430-463C-A872-AF0FA882FE4A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sync send/ Sync receiv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ynchronous send / synchronous rece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4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4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_send(consumer, 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4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4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u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4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_receive(producer, &amp;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24000"/>
              </a:lnSpc>
              <a:spcBef>
                <a:spcPts val="45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261400" y="1981080"/>
            <a:ext cx="1169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065720" y="1981080"/>
            <a:ext cx="1259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24382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559640" y="2362320"/>
            <a:ext cx="18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42680" y="2743200"/>
            <a:ext cx="70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694b6"/>
                </a:solidFill>
                <a:latin typeface="Comic Sans MS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731360" y="3824280"/>
            <a:ext cx="948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694b6"/>
                </a:solidFill>
                <a:latin typeface="Comic Sans MS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483320" y="4038480"/>
            <a:ext cx="152640" cy="1526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65840" y="2971800"/>
            <a:ext cx="152280" cy="152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018120" y="304812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43600" y="3124080"/>
            <a:ext cx="14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559640" y="419112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348280" y="3733920"/>
            <a:ext cx="1169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52600" y="3733920"/>
            <a:ext cx="1259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41911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971800" y="4114800"/>
            <a:ext cx="144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42280" y="5653080"/>
            <a:ext cx="70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694b6"/>
                </a:solidFill>
                <a:latin typeface="Comic Sans MS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572000" y="4724280"/>
            <a:ext cx="144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665600" y="4586400"/>
            <a:ext cx="948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694b6"/>
                </a:solidFill>
                <a:latin typeface="Comic Sans MS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94240" y="5791320"/>
            <a:ext cx="152280" cy="152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94240" y="4724280"/>
            <a:ext cx="152280" cy="1526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895480" y="5791320"/>
            <a:ext cx="152640" cy="152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966760" y="4800600"/>
            <a:ext cx="153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59436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71800" y="59436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96680" y="5119560"/>
            <a:ext cx="1020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58672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E6C-2151-4B62-8956-A887E5F7C7C7}" type="slidenum">
              <a:t>102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symmetric receiv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mmetric rece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eive(source, &amp;dat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ten, we do not know who is the s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e a web serv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grammer cannot know in advance the address of the browser that will request th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browser can ask for the sam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ymmetric rece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 = receive(&amp;dat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770-6B25-4F96-B19B-AC686989E224}" type="slidenum">
              <a:t>103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ssage passing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essage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resource needs one threads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hreads manager is responsible for giving access to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: let’s try to implement mutual exclusion with message passing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thread will ensure mutual 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thread that wants to access the resourec m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d a message to the manager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the critical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d a message to signal the leaving of the critical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CA9-6963-47ED-B3D6-B1026069C379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ync send / sync receiv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08800" y="1432080"/>
            <a:ext cx="371484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 manager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hread_t sourc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ource = s_receive(&amp;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_receive_from(source, &amp;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09640" y="1432080"/>
            <a:ext cx="302004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 thread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_send(manager, 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critical sec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_send(manager, 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1028520" y="4267080"/>
            <a:ext cx="7277400" cy="1905120"/>
            <a:chOff x="1028520" y="4267080"/>
            <a:chExt cx="7277400" cy="1905120"/>
          </a:xfrm>
        </p:grpSpPr>
        <p:sp>
          <p:nvSpPr>
            <p:cNvPr id="596" name=""/>
            <p:cNvSpPr/>
            <p:nvPr/>
          </p:nvSpPr>
          <p:spPr>
            <a:xfrm>
              <a:off x="3124080" y="4800600"/>
              <a:ext cx="15264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57400" y="5486400"/>
              <a:ext cx="6248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057400" y="6095880"/>
              <a:ext cx="1447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28520" y="4572000"/>
              <a:ext cx="10465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068120" y="5149800"/>
              <a:ext cx="423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64160" y="5759280"/>
              <a:ext cx="4244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T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209680" y="4876920"/>
              <a:ext cx="9144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057400" y="480060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276720" y="4876920"/>
              <a:ext cx="20574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24080" y="5410080"/>
              <a:ext cx="152640" cy="1526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3200400" y="4949640"/>
              <a:ext cx="144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32320" y="4800600"/>
              <a:ext cx="15264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423600" y="5181480"/>
              <a:ext cx="176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3300"/>
                  </a:solidFill>
                  <a:latin typeface="Tahoma"/>
                </a:rPr>
                <a:t>&lt;critical section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32320" y="5410080"/>
              <a:ext cx="152640" cy="1526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5408640" y="4949640"/>
              <a:ext cx="144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505320" y="601992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3579840" y="4873680"/>
              <a:ext cx="144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84960" y="480060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37240" y="4876920"/>
              <a:ext cx="16002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37440" y="480060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657600" y="6095880"/>
              <a:ext cx="18288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84960" y="601992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37240" y="6095880"/>
              <a:ext cx="1600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37440" y="601992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7313760" y="4950000"/>
              <a:ext cx="1440" cy="10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89720" y="6095880"/>
              <a:ext cx="914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56960" y="5715000"/>
              <a:ext cx="176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3300"/>
                  </a:solidFill>
                  <a:latin typeface="Tahoma"/>
                </a:rPr>
                <a:t>&lt;critical section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67120" y="4267080"/>
              <a:ext cx="1066680" cy="304920"/>
            </a:xfrm>
            <a:prstGeom prst="wedgeRectCallout">
              <a:avLst>
                <a:gd name="adj1" fmla="val 90398"/>
                <a:gd name="adj2" fmla="val 122875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rec_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65640" y="4267080"/>
              <a:ext cx="533520" cy="304920"/>
            </a:xfrm>
            <a:prstGeom prst="wedgeRectCallout">
              <a:avLst>
                <a:gd name="adj1" fmla="val 22939"/>
                <a:gd name="adj2" fmla="val 122875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r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61040" y="4303800"/>
              <a:ext cx="1066680" cy="304560"/>
            </a:xfrm>
            <a:prstGeom prst="wedgeRectCallout">
              <a:avLst>
                <a:gd name="adj1" fmla="val 60152"/>
                <a:gd name="adj2" fmla="val 108842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rec_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389720" y="4876920"/>
              <a:ext cx="9144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060640" y="4267080"/>
              <a:ext cx="533160" cy="304920"/>
            </a:xfrm>
            <a:prstGeom prst="wedgeRectCallout">
              <a:avLst>
                <a:gd name="adj1" fmla="val -30703"/>
                <a:gd name="adj2" fmla="val 122875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r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989000" y="5029200"/>
              <a:ext cx="685800" cy="304920"/>
            </a:xfrm>
            <a:prstGeom prst="wedgeRectCallout">
              <a:avLst>
                <a:gd name="adj1" fmla="val 122175"/>
                <a:gd name="adj2" fmla="val 7593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570640" y="5029200"/>
              <a:ext cx="685800" cy="304920"/>
            </a:xfrm>
            <a:prstGeom prst="wedgeRectCallout">
              <a:avLst>
                <a:gd name="adj1" fmla="val -64004"/>
                <a:gd name="adj2" fmla="val 8631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333520" y="5638680"/>
              <a:ext cx="685800" cy="304920"/>
            </a:xfrm>
            <a:prstGeom prst="wedgeRectCallout">
              <a:avLst>
                <a:gd name="adj1" fmla="val 126962"/>
                <a:gd name="adj2" fmla="val 7593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18320" y="5638680"/>
              <a:ext cx="685800" cy="304920"/>
            </a:xfrm>
            <a:prstGeom prst="wedgeRectCallout">
              <a:avLst>
                <a:gd name="adj1" fmla="val -80916"/>
                <a:gd name="adj2" fmla="val 8690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AD5-999A-41FB-BFF4-238D3B0841BD}" type="slidenum">
              <a:t>105</a:t>
            </a:fld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ith Async send and sync receiv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27280" y="1295280"/>
            <a:ext cx="3661560" cy="25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 manager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hread_t sourc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ource = s_receive(&amp;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a_send(source,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_receive_from(source,&amp;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90160" y="1295280"/>
            <a:ext cx="3940560" cy="25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 thread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a_send(manager, 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_receive_from(manager, &amp;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critical sec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a_send(manager, 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1028520" y="4267080"/>
            <a:ext cx="7275600" cy="1905120"/>
            <a:chOff x="1028520" y="4267080"/>
            <a:chExt cx="7275600" cy="1905120"/>
          </a:xfrm>
        </p:grpSpPr>
        <p:sp>
          <p:nvSpPr>
            <p:cNvPr id="636" name=""/>
            <p:cNvSpPr/>
            <p:nvPr/>
          </p:nvSpPr>
          <p:spPr>
            <a:xfrm>
              <a:off x="2819520" y="480060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057400" y="548640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057400" y="6095880"/>
              <a:ext cx="182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028520" y="4572000"/>
              <a:ext cx="10465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68120" y="5149800"/>
              <a:ext cx="423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4160" y="5759280"/>
              <a:ext cx="4244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T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09680" y="4876920"/>
              <a:ext cx="6098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57400" y="480060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505320" y="4876920"/>
              <a:ext cx="1828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819520" y="5410080"/>
              <a:ext cx="152280" cy="1526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2895480" y="4949640"/>
              <a:ext cx="180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32320" y="4800600"/>
              <a:ext cx="15264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52200" y="5181480"/>
              <a:ext cx="176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3300"/>
                  </a:solidFill>
                  <a:latin typeface="Tahoma"/>
                </a:rPr>
                <a:t>&lt;critical section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32320" y="5410080"/>
              <a:ext cx="152640" cy="1526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5408640" y="4949640"/>
              <a:ext cx="144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886200" y="601992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3962520" y="4873680"/>
              <a:ext cx="144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84960" y="480060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89520" y="4876920"/>
              <a:ext cx="14479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37440" y="480060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1960" y="6095880"/>
              <a:ext cx="144756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91120" y="601992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789520" y="6095880"/>
              <a:ext cx="1447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7440" y="601992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313760" y="4950000"/>
              <a:ext cx="1440" cy="10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389720" y="6095880"/>
              <a:ext cx="914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89720" y="4876920"/>
              <a:ext cx="914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701680" y="5715000"/>
              <a:ext cx="17686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3300"/>
                  </a:solidFill>
                  <a:latin typeface="Tahoma"/>
                </a:rPr>
                <a:t>&lt;critical section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351240" y="480060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71800" y="4876920"/>
              <a:ext cx="380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124080" y="5486400"/>
              <a:ext cx="2286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971800" y="5410080"/>
              <a:ext cx="152280" cy="1526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351240" y="5410080"/>
              <a:ext cx="152280" cy="1526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429000" y="495288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05320" y="5486400"/>
              <a:ext cx="182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84960" y="5486400"/>
              <a:ext cx="2819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37040" y="6095880"/>
              <a:ext cx="152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37240" y="480060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713560" y="4952880"/>
              <a:ext cx="1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37240" y="6019920"/>
              <a:ext cx="152280" cy="15228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67120" y="4267080"/>
              <a:ext cx="914400" cy="304920"/>
            </a:xfrm>
            <a:prstGeom prst="wedgeRectCallout">
              <a:avLst>
                <a:gd name="adj1" fmla="val 113777"/>
                <a:gd name="adj2" fmla="val 122875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rec_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861080" y="4267080"/>
              <a:ext cx="533160" cy="304920"/>
            </a:xfrm>
            <a:prstGeom prst="wedgeRectCallout">
              <a:avLst>
                <a:gd name="adj1" fmla="val 81893"/>
                <a:gd name="adj2" fmla="val 11815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r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8920" y="4267080"/>
              <a:ext cx="1067040" cy="304920"/>
            </a:xfrm>
            <a:prstGeom prst="wedgeRectCallout">
              <a:avLst>
                <a:gd name="adj1" fmla="val 17912"/>
                <a:gd name="adj2" fmla="val 11709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rec_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025720" y="4267080"/>
              <a:ext cx="533160" cy="304920"/>
            </a:xfrm>
            <a:prstGeom prst="wedgeRectCallout">
              <a:avLst>
                <a:gd name="adj1" fmla="val -30703"/>
                <a:gd name="adj2" fmla="val 122875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r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32120" y="4267080"/>
              <a:ext cx="685800" cy="304920"/>
            </a:xfrm>
            <a:prstGeom prst="wedgeRectCallout">
              <a:avLst>
                <a:gd name="adj1" fmla="val 34833"/>
                <a:gd name="adj2" fmla="val 122875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14920" y="4267080"/>
              <a:ext cx="685800" cy="304920"/>
            </a:xfrm>
            <a:prstGeom prst="wedgeRectCallout">
              <a:avLst>
                <a:gd name="adj1" fmla="val -31208"/>
                <a:gd name="adj2" fmla="val 126412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3366ff"/>
                  </a:solidFill>
                  <a:latin typeface="Tahoma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BE8-6E84-4F63-9708-609F84E1D7EA}" type="slidenum">
              <a:t>106</a:t>
            </a:fld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ESIGN METHODOLOGY WITH MESSAGE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7B14-16D0-465A-8EE9-9EBAEE4EDCBC}" type="slidenum">
              <a:t>107</a:t>
            </a:fld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 different approa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33080" y="1371600"/>
            <a:ext cx="3909960" cy="4635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resource is a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ads ask for services through functions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synchronize through mutexes and condition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1371600"/>
            <a:ext cx="4114800" cy="4635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ach resource has a manager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threads ask for services through messages and receive response through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they synchronize through blocking rece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472-7E43-4DE3-99E1-5C1897EE1403}" type="slidenum">
              <a:t>108</a:t>
            </a:fld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sources and Manag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ach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“manager” thread takes care of executing the services on behalf of the clients/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structure of a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it for a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ode the message, execute th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tually, send back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nager sequentializes al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2CD-D231-43A0-A8D0-2A5B1A21F572}" type="slidenum">
              <a:t>109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operative mod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2510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Cooperativ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ities know about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do not nee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using protection, we have less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need to access the same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cation of the resource is de-centr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Shared memo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the bes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hread model of execution is the bes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EAF-B984-4299-A28C-40F2366264CF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ow to program the data structur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design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ce again, first, design the interface: that is, which functions (services) the threads need to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utual exclusion is automatically guaranteed by the mana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6CD-D0E2-4462-B547-697B68A66987}" type="slidenum">
              <a:t>110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ynchroniz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in the shared memory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y the behavior of the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 which conditions a calling thread should be block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all different block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6B0-63BD-49B3-8616-F7984D51F930}" type="slidenum">
              <a:t>111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ynchroniz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in the shared memory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unblock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blocked thread should be un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the functions that should unblock those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tting all tog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 a state diagram for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S: the various states of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S: threads that send the request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F00-21A5-4E94-A52B-4E9D9996677B}" type="slidenum">
              <a:t>112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: Bridg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 expla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ign the data structur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blocking and unblock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w the stat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6F8-CDDD-4E8B-9867-3870B975D137}" type="slidenum">
              <a:t>113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ding Ru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each blocking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queue of message requests (requests that cannot be completed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(or more) integer variable(s) to code the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rite the initialization function, to be called by the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02A-20F7-4928-8C41-361F3B448A0C}" type="slidenum">
              <a:t>114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fun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092240"/>
            <a:ext cx="8153280" cy="53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ly, code the mana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it for any message, and decod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the blocking conditions (if any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thread has to be block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ert the message in the corresponding blocking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form the code, change state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thread has to be un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the message from the corresponding blocking queue, and send back a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de th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 the message, send the message and wait for the response (with a receiv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159-D73B-4BC6-ACE2-CD51BD36F2E9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e of co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67F-218E-42CF-8BF0-EE2DECAE6C06}" type="slidenum">
              <a:t>11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4880" y="380880"/>
            <a:ext cx="76201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operation and Compe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etion is best resolved by using the message pass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 it can be implemented using a shared memory paradigm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peration is best implemented by using a shared memory paradi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it can be realized by using pure message passing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d memory or message pa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past, there were OS that supported only shared memory or only message 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60B-71FF-42CE-BCCE-E3A62410F14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mpetition and coope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general purpouse OS needs to support both mod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at least protection for compet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support client/server models. So we need message passing prim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support shared memory for reducing the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special OS supports only one of the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many RTOS support only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C94-85EE-4A97-92EE-4A05CEFE201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ual exclusion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357-BC3B-4D7D-BA35-6E71EAE983F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hared memo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d memor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as the first one to be supported in old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the simplest one and the closest to th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threads can access the same memory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3962520"/>
            <a:ext cx="114300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962520"/>
            <a:ext cx="114300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3962520"/>
            <a:ext cx="114300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a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181480"/>
            <a:ext cx="4953240" cy="990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22F-A1F1-4EAD-8489-516E5C05050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tual exclusion probl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do not know in advance the relative speed of th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nce, we do not know the order of execution of the hardware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ll the example of incrementing variabl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4865760"/>
            <a:ext cx="1143000" cy="82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x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54680" y="4433760"/>
            <a:ext cx="1905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666699"/>
                </a:solidFill>
                <a:latin typeface="Tahoma"/>
              </a:rPr>
              <a:t>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05480" y="4422600"/>
            <a:ext cx="2201400" cy="15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A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 = x +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04960" y="4419720"/>
            <a:ext cx="2203200" cy="15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B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 = x +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A4A9-ABCD-4D55-B090-3776664686F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d interlea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74800" y="2220840"/>
            <a:ext cx="3735360" cy="175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LD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R0, x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TA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x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LD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R0, x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1" lang="en-GB" sz="1600" spc="-1" strike="noStrike">
                <a:solidFill>
                  <a:srgbClr val="ff3300"/>
                </a:solidFill>
                <a:latin typeface="FreeSans"/>
              </a:rPr>
              <a:t>TB</a:t>
            </a:r>
            <a:r>
              <a:rPr b="1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x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INC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R0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1" lang="en-GB" sz="1600" spc="-1" strike="noStrike">
                <a:solidFill>
                  <a:srgbClr val="ff3300"/>
                </a:solidFill>
                <a:latin typeface="FreeSans"/>
              </a:rPr>
              <a:t>TB</a:t>
            </a:r>
            <a:r>
              <a:rPr b="1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x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ST 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x, R0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1" lang="en-GB" sz="1600" spc="-1" strike="noStrike">
                <a:solidFill>
                  <a:srgbClr val="ff3300"/>
                </a:solidFill>
                <a:latin typeface="FreeSans"/>
              </a:rPr>
              <a:t>TB</a:t>
            </a:r>
            <a:r>
              <a:rPr b="1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x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INC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R0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TA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x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x, R0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TA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x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D7A-CCEA-4D40-AC0A-3A8C822024A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0" y="5486400"/>
            <a:ext cx="1828800" cy="99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23" y="7995"/>
                </a:moveTo>
                <a:lnTo>
                  <a:pt x="-900" y="2492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i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on-consis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94240" y="3962520"/>
            <a:ext cx="1676520" cy="121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568" y="-5229"/>
                </a:moveTo>
                <a:lnTo>
                  <a:pt x="-982" y="2025"/>
                </a:lnTo>
              </a:path>
              <a:path w="21600" h="21600">
                <a:moveTo>
                  <a:pt x="-982" y="0"/>
                </a:moveTo>
                <a:lnTo>
                  <a:pt x="-982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Consistenc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fter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per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 =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- I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5240" y="4038120"/>
            <a:ext cx="3200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2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d interle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1680" y="1676520"/>
            <a:ext cx="3894840" cy="170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int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int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A() : a(1), b(1) {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void inc() { a = a + 1; b = b +1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void double() { b = b * 2; a = a * 2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} obj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1219320"/>
            <a:ext cx="3335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hared object (sw resource)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55160" y="1600200"/>
            <a:ext cx="2255040" cy="13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void * threadA(void *)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obj.inc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11600" y="3429000"/>
            <a:ext cx="2288520" cy="13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void * threadB(void *)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obj.doubl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4495680"/>
            <a:ext cx="3124440" cy="134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a = a + 1;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TA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i="1" lang="en-GB" sz="1600" spc="-1" strike="noStrike">
                <a:solidFill>
                  <a:srgbClr val="0033cc"/>
                </a:solidFill>
                <a:latin typeface="FreeSans"/>
              </a:rPr>
              <a:t>a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b = b * 2;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TB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FreeSans"/>
              </a:rPr>
              <a:t>b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b = b + 1;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TA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i="1" lang="en-GB" sz="1600" spc="-1" strike="noStrike">
                <a:solidFill>
                  <a:srgbClr val="0033cc"/>
                </a:solidFill>
                <a:latin typeface="FreeSans"/>
              </a:rPr>
              <a:t>b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a = a * 2;</a:t>
            </a: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TB</a:t>
            </a:r>
            <a:r>
              <a:rPr b="0" lang="en-GB" sz="1600" spc="-1" strike="noStrike">
                <a:solidFill>
                  <a:srgbClr val="ff3300"/>
                </a:solidFill>
                <a:latin typeface="FreeSans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FreeSans"/>
              </a:rPr>
              <a:t>a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780-4AC4-413B-8A2D-1DEF8DF5981A}" type="slidenum">
              <a:t>1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nsisten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resource, we can state some consistency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nsistency property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 boolean expression on the values of the internal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nsistency property must hold before and after each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does not hol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operations are properly sequentialized, the consistency properties must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l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e a resource, and le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(R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e a set of consistency properties on the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 = { C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ncurrent program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rrec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f, for every possible interleaving of the operations on the resource, the consistency properties hold after each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6775-0100-4FA4-A2BD-E146768F10A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need for concurren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many reason for con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users may be connected to the same system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user can have its own processes that execute concurrently with the processes of the othe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 many operations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listen to music, write with a word processor, burn a CD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all different and independent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can be done “at the same tim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8C8B-9314-44AF-B965-DBD19FC5CE3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2200" y="1147680"/>
            <a:ext cx="3940560" cy="53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class Circular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int array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int head, tail, n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CircularArray() : head(0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tail(0), num(0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bool insert(int ele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if (num == 10) return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array[head] = el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head = (head + 1) %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num 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bool extract(int &amp;ele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if (num == 0) return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elem = array[tail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tail = (tail + 1) %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num - -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} que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732-3950-473E-940A-C324F5FC9B6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352680" y="2925720"/>
            <a:ext cx="106704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8187" y="-17997"/>
                </a:moveTo>
                <a:lnTo>
                  <a:pt x="-1543" y="5400"/>
                </a:lnTo>
              </a:path>
              <a:path w="21600" h="21600">
                <a:moveTo>
                  <a:pt x="-1543" y="0"/>
                </a:moveTo>
                <a:lnTo>
                  <a:pt x="-15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ad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2925720"/>
            <a:ext cx="1143000" cy="99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71" y="-8618"/>
                </a:moveTo>
                <a:lnTo>
                  <a:pt x="-1440" y="2492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ad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il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um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- Inser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2163600"/>
            <a:ext cx="38088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2163600"/>
            <a:ext cx="38124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163600"/>
            <a:ext cx="38088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2163600"/>
            <a:ext cx="38088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2163600"/>
            <a:ext cx="38124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2163600"/>
            <a:ext cx="38088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2163600"/>
            <a:ext cx="38088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37040" y="2163600"/>
            <a:ext cx="38088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2163600"/>
            <a:ext cx="38088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2163600"/>
            <a:ext cx="38088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36040" y="2087640"/>
            <a:ext cx="2782080" cy="8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itial st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0;  tail = 0;  num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5840" y="3002040"/>
            <a:ext cx="251460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queue.insert (5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2163600"/>
            <a:ext cx="380880" cy="3812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36040" y="3459240"/>
            <a:ext cx="278208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1;  tail = 0;  num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6D7-D029-4A13-B96B-723CEB38D325}" type="slidenum">
              <a:t>21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 fill="hold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81080" y="297036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940" y="-19394"/>
                </a:moveTo>
                <a:lnTo>
                  <a:pt x="0" y="0"/>
                </a:lnTo>
              </a:path>
              <a:path w="21600" h="21600">
                <a:moveTo>
                  <a:pt x="0" y="0"/>
                </a:moveTo>
                <a:lnTo>
                  <a:pt x="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274176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29" y="-10289"/>
                </a:moveTo>
                <a:lnTo>
                  <a:pt x="0" y="0"/>
                </a:lnTo>
              </a:path>
              <a:path w="21600" h="21600">
                <a:moveTo>
                  <a:pt x="0" y="0"/>
                </a:moveTo>
                <a:lnTo>
                  <a:pt x="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- Insert I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89520" y="3889440"/>
            <a:ext cx="251460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queue. insert (3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205596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2055960"/>
            <a:ext cx="38124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205596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205596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2055960"/>
            <a:ext cx="38124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05596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205596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7040" y="205596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05596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05596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205596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2055960"/>
            <a:ext cx="38124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59720" y="1979640"/>
            <a:ext cx="2782080" cy="8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itial st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0;  tail = 0;  num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89520" y="2975040"/>
            <a:ext cx="251460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queue.insert (5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59720" y="3427560"/>
            <a:ext cx="278208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1;  tail = 0;  num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59720" y="4346640"/>
            <a:ext cx="278208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2;  tail = 0;  num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DCE9-581C-4A3D-87A6-9786220687E8}" type="slidenum">
              <a:t>22</a:t>
            </a:fld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- Inserting II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303696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839" y="-15687"/>
                </a:moveTo>
                <a:lnTo>
                  <a:pt x="23400" y="0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303696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255" y="-14501"/>
                </a:moveTo>
                <a:lnTo>
                  <a:pt x="23400" y="0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220032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2200320"/>
            <a:ext cx="38124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220032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220032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200320"/>
            <a:ext cx="38124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220032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220032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37040" y="220032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19720" y="220032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220032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220032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20032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220032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220032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59720" y="2122560"/>
            <a:ext cx="2782080" cy="8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itial st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9;  tail = 5;  num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440" y="2657520"/>
            <a:ext cx="1371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89520" y="3119400"/>
            <a:ext cx="251460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queue. insert (6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89520" y="3571920"/>
            <a:ext cx="289584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0; tail = 5; num =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72276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422" y="-38803"/>
                </a:moveTo>
                <a:lnTo>
                  <a:pt x="0" y="0"/>
                </a:lnTo>
              </a:path>
              <a:path w="21600" h="21600">
                <a:moveTo>
                  <a:pt x="0" y="0"/>
                </a:moveTo>
                <a:lnTo>
                  <a:pt x="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220032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3D8-7C12-42A8-80AC-0C6E483792B9}" type="slidenum">
              <a:t>23</a:t>
            </a:fld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- Extrac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37040" y="234324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234324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234324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37040" y="234324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34324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34324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59720" y="2266920"/>
            <a:ext cx="2782080" cy="8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itial st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0;  tail = 5;  num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31813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839" y="-15687"/>
                </a:moveTo>
                <a:lnTo>
                  <a:pt x="23400" y="0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33720" y="38671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422" y="-38803"/>
                </a:moveTo>
                <a:lnTo>
                  <a:pt x="0" y="0"/>
                </a:lnTo>
              </a:path>
              <a:path w="21600" h="21600">
                <a:moveTo>
                  <a:pt x="0" y="0"/>
                </a:moveTo>
                <a:lnTo>
                  <a:pt x="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89520" y="3262320"/>
            <a:ext cx="289584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queue. extract (int &amp;elem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89520" y="3714840"/>
            <a:ext cx="289584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0; tail = 6; num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7400" y="2724120"/>
            <a:ext cx="160020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31813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839" y="-15687"/>
                </a:moveTo>
                <a:lnTo>
                  <a:pt x="23400" y="0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234324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52480" y="2343240"/>
            <a:ext cx="38124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234324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234324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2343240"/>
            <a:ext cx="38124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234324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234324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234324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2343240"/>
            <a:ext cx="380880" cy="3808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2343240"/>
            <a:ext cx="38088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053F-699F-4AE4-8BF2-69296B620350}" type="slidenum">
              <a:t>24</a:t>
            </a:fld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 fill="hold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nsistency propert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1233360"/>
            <a:ext cx="8096400" cy="491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Let INS(k) be the data inserted in the queue after the k-th successful call of the insert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Let EXT(k) be the data extracted from the queue after the k-th successful call  of the extract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FreeSans"/>
              </a:rPr>
              <a:t>C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onsistency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C1: for all k,  EXT(k) == INS(k)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C2: (num==0 </a:t>
            </a:r>
            <a:r>
              <a:rPr b="0" i="1" lang="en-GB" sz="1800" spc="-1" strike="noStrike">
                <a:solidFill>
                  <a:srgbClr val="0033cc"/>
                </a:solidFill>
                <a:latin typeface="FreeSans"/>
              </a:rPr>
              <a:t>OR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 num == 10) 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  <a:ea typeface="FreeSans"/>
              </a:rPr>
              <a:t>⇔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 (head == tail)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  <a:ea typeface="FreeSans"/>
              </a:rPr>
              <a:t>C3: (0 &lt; num &lt; 9) ⇒ (num == (head – tail) % 10)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  <a:ea typeface="Free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FreeSans"/>
                <a:ea typeface="FreeSans"/>
              </a:rPr>
              <a:t>These properties must hold </a:t>
            </a:r>
            <a:r>
              <a:rPr b="0" i="1" lang="en-GB" sz="1800" spc="-1" strike="noStrike">
                <a:solidFill>
                  <a:srgbClr val="0033cc"/>
                </a:solidFill>
                <a:latin typeface="FreeSans"/>
                <a:ea typeface="FreeSans"/>
              </a:rPr>
              <a:t>before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  <a:ea typeface="FreeSans"/>
              </a:rPr>
              <a:t> or </a:t>
            </a:r>
            <a:r>
              <a:rPr b="0" i="1" lang="en-GB" sz="1800" spc="-1" strike="noStrike">
                <a:solidFill>
                  <a:srgbClr val="0033cc"/>
                </a:solidFill>
                <a:latin typeface="FreeSans"/>
                <a:ea typeface="FreeSans"/>
              </a:rPr>
              <a:t>after</a:t>
            </a:r>
            <a:r>
              <a:rPr b="0" lang="en-GB" sz="1800" spc="-1" strike="noStrike">
                <a:solidFill>
                  <a:srgbClr val="0033cc"/>
                </a:solidFill>
                <a:latin typeface="FreeSans"/>
                <a:ea typeface="FreeSans"/>
              </a:rPr>
              <a:t> the insert and extract operation, not </a:t>
            </a:r>
            <a:r>
              <a:rPr b="0" i="1" lang="en-GB" sz="1800" spc="-1" strike="noStrike">
                <a:solidFill>
                  <a:srgbClr val="0033cc"/>
                </a:solidFill>
                <a:latin typeface="FreeSans"/>
                <a:ea typeface="FreeSans"/>
              </a:rPr>
              <a:t>d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2A6-4164-4022-AAA9-7AFA6716AC1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2666880" y="3352680"/>
            <a:ext cx="3808440" cy="381240"/>
            <a:chOff x="2666880" y="3352680"/>
            <a:chExt cx="3808440" cy="381240"/>
          </a:xfrm>
        </p:grpSpPr>
        <p:sp>
          <p:nvSpPr>
            <p:cNvPr id="264" name=""/>
            <p:cNvSpPr/>
            <p:nvPr/>
          </p:nvSpPr>
          <p:spPr>
            <a:xfrm>
              <a:off x="2666880" y="3352680"/>
              <a:ext cx="38124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8120" y="33526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29000" y="33526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08440" y="33526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91120" y="33526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2320" y="3352680"/>
              <a:ext cx="38124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13560" y="33526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94440" y="33526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0560" y="33526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51440" y="33526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2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insert operation is performed by two processes, some consistency property may be viola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93400" y="4343400"/>
            <a:ext cx="2201400" cy="156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A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queue.insert(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14960" y="4343400"/>
            <a:ext cx="2203200" cy="156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B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queue.insert(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24040" y="2666880"/>
            <a:ext cx="214380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ircularArray que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91120" y="3352680"/>
            <a:ext cx="380880" cy="3812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3352680"/>
            <a:ext cx="380880" cy="3812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08440" y="3352680"/>
            <a:ext cx="380880" cy="3812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51440" y="3352680"/>
            <a:ext cx="380880" cy="3812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4FD1-059B-46FB-8C0E-FE94CF96537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219320" y="1295280"/>
            <a:ext cx="3809880" cy="381240"/>
            <a:chOff x="1219320" y="1295280"/>
            <a:chExt cx="3809880" cy="381240"/>
          </a:xfrm>
        </p:grpSpPr>
        <p:sp>
          <p:nvSpPr>
            <p:cNvPr id="285" name=""/>
            <p:cNvSpPr/>
            <p:nvPr/>
          </p:nvSpPr>
          <p:spPr>
            <a:xfrm>
              <a:off x="1219320" y="12952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00200" y="12952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81080" y="1295280"/>
              <a:ext cx="38124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62320" y="12952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43200" y="12952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86200" y="12952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65640" y="12952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48320" y="12952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24080" y="1295280"/>
              <a:ext cx="38124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1295280"/>
              <a:ext cx="380880" cy="3812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43200" y="1295280"/>
              <a:ext cx="380880" cy="381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24080" y="1295280"/>
              <a:ext cx="381240" cy="381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62320" y="1295280"/>
              <a:ext cx="380880" cy="381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05320" y="1295280"/>
              <a:ext cx="380880" cy="381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936040" y="1981080"/>
            <a:ext cx="2782080" cy="8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itial st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7;  tail = 3;  num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18120" y="2976480"/>
            <a:ext cx="251460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queue. insert (5) ;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2438280"/>
            <a:ext cx="2514600" cy="1295640"/>
          </a:xfrm>
          <a:prstGeom prst="wedgeRectCallout">
            <a:avLst>
              <a:gd name="adj1" fmla="val 58875"/>
              <a:gd name="adj2" fmla="val 86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if (num == 10) return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array[head] = 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head = (head + 1) %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num 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8120" y="3433680"/>
            <a:ext cx="251460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queue. insert (2) ;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TB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18120" y="4038480"/>
            <a:ext cx="2514600" cy="1295640"/>
          </a:xfrm>
          <a:prstGeom prst="wedgeRectCallout">
            <a:avLst>
              <a:gd name="adj1" fmla="val -32365"/>
              <a:gd name="adj2" fmla="val -656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if (num == 10) return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array[head] 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head = (head + 1) %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num 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3854520"/>
            <a:ext cx="3505320" cy="22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Helvetica-Narrow"/>
              </a:rPr>
              <a:t>i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f (num == 10) return false;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array[head] = 5;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if (num == 10) return false;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(TB)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array[head] = 2;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(TB)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head = (head + 1) % 10;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(TB)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num ++;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(TB)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return true;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(TB)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head = (head + 1) % 10;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num ++;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return true;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380880" cy="3812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18120" y="5410080"/>
            <a:ext cx="2514600" cy="73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Final St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ahoma"/>
              </a:rPr>
              <a:t>head = 9; tail = 3; num = 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1295280"/>
            <a:ext cx="380880" cy="3812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5320" y="1295280"/>
            <a:ext cx="106704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2895" y="8310"/>
                </a:moveTo>
                <a:lnTo>
                  <a:pt x="-1543" y="5400"/>
                </a:lnTo>
              </a:path>
              <a:path w="21600" h="21600">
                <a:moveTo>
                  <a:pt x="-1543" y="0"/>
                </a:moveTo>
                <a:lnTo>
                  <a:pt x="-15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ad (2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00200" y="1905120"/>
            <a:ext cx="106668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62738" y="-16637"/>
                </a:moveTo>
                <a:lnTo>
                  <a:pt x="23143" y="5400"/>
                </a:lnTo>
              </a:path>
              <a:path w="21600" h="21600">
                <a:moveTo>
                  <a:pt x="23143" y="0"/>
                </a:moveTo>
                <a:lnTo>
                  <a:pt x="231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ead (1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03320" y="2662200"/>
            <a:ext cx="1739880" cy="801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C</a:t>
            </a:r>
            <a:r>
              <a:rPr b="1" lang="en-GB" sz="1800" spc="-1" strike="noStrike" u="sng" baseline="-25000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 is viola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7F6F-C487-472C-8578-4AE2D9F4D86B}" type="slidenum">
              <a:t>27</a:t>
            </a:fld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 fill="hold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 fill="hold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rrectn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evious program is not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exists a possible interleaving of two operations that leaves the resource in a inconsisten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ng the non-correctness is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suffices to find a counte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ng the correctness is not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ecessary to prove the correctness for every possible interleaving of every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0A0-4BE1-4451-BAFA-466BAC51B3A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ssumption: one producer / one consum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um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one thread calls insert (produce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one thread calls extract (consume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the program corr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! operations num++ and num-- are not atomi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previous examples on variabl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D90-4C95-443A-9FD0-92DBEB768B8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need for concurren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247760"/>
            <a:ext cx="762012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advantage of block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some thread waits for a blocking condition, another thread performs another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llelism in multi-processor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we have a multi-processor machine, independent activities can be carried out on different processors are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6A1B-EB06-419F-8B30-70AE015311C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ritical se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hared object where the conflict may happen is a “re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arts of the code where the problem may happen are called “critical sec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ritical section is a sequence of operations that cannot be interleaved with other operations on the same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critical sections on the same resource must be properly sequent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say that two critical sections on the same resource must execute in </a:t>
            </a: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MUTUAL 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FFC6-C488-4EE9-9DE2-3D262FA0CDD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 SW solution to mutual exclu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one general mechanism to protect critical sections and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algorithm by Dek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ter improved by Pet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by Lam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A64-8C24-4BFE-9B9F-73FB61BEE76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kker's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23600" y="2514600"/>
            <a:ext cx="2524680" cy="353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p0: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0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f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turn ≠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0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turn ≠ 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0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// critical section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urn := 1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0 := false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443920" y="2514600"/>
            <a:ext cx="2524680" cy="353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p1: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1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f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turn ≠ 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1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turn ≠ 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1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// critical section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urn := 0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1 := false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43200" y="1395360"/>
            <a:ext cx="2514600" cy="914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f0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f1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turn = 0;   // o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231-A1F6-4941-85FC-6ED04CA945D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eterson's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71920" y="2984400"/>
            <a:ext cx="3164760" cy="230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P0: flag[0] = 1;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urn = 1;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(flag[1] &amp;&amp; turn == 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// critical section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// end of critical section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lag[0] = 0;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68280" y="2984400"/>
            <a:ext cx="3164760" cy="230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P0: flag[1] = 1;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urn = 0;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( flag[0] &amp;&amp; turn == 0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// critical section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// end of critical section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lag[1]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1600200"/>
            <a:ext cx="2057400" cy="914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ahoma"/>
              </a:rPr>
              <a:t>flag[0]  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ahoma"/>
              </a:rPr>
              <a:t>flag[1]  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ahoma"/>
              </a:rPr>
              <a:t>turn     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B3F-AF87-42C7-8BAD-C48EF9EE0DD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amport's bakery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07840" y="1143000"/>
            <a:ext cx="6096600" cy="549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bool Entering[N];   //  init to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   Number[N];   // init to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lock(int i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ntering[i]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umber[i] = 1 + max(Number[1], ..., Number[N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ntering[i]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or (j = 1; j &lt;= N; j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Entering[j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(Number[j] != 0) &amp;&amp; ((Number[j], j) &lt; (Number[i], i)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unlock(integer i) { Number[i] = 0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hread(integer i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ock(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// The critical section goes here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unlock(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3F8-92CB-4E0D-B450-4D311F75895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s with the previous solu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these solutions are based o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usy-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lgorithms perform one or more loops for checking flags: in single processor systems, this is a waste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algorithms require special variables (flags and numbers) for each thread; cannot be easily generalized to an arbitrary (unknown) number of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need a more efficien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3C0-264F-4756-9672-0CEE93305F2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Q&amp;D solutions to mutual exclu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ingle processor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able interrupts during a ciritical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critical section is long, no interrupt can arrive during the critical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 a timer interrupt thas arrives every 1 mse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critical section lasts for more than 1 msec, a timer interrupt could be l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urrency is disabled during the critical se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must avoid conflicts on the resource, not disabling interrup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3C5-6DC6-4FEE-AFBF-CE5BAD2BFB5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Q&amp;D solutions to mutual exclu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ngle processor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ome scheduler, it is possible to disable preemption for a limited interval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high priority critical thread needs to execute, it cannot make preemption and it is de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if the high priority task does not access the resour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50240" y="4749840"/>
            <a:ext cx="2538360" cy="9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disable preemp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ritical se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enable preemp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29160" y="4597560"/>
            <a:ext cx="2417760" cy="121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510" y="10289"/>
                </a:moveTo>
                <a:lnTo>
                  <a:pt x="-681" y="2025"/>
                </a:lnTo>
              </a:path>
              <a:path w="21600" h="21600">
                <a:moveTo>
                  <a:pt x="-681" y="0"/>
                </a:moveTo>
                <a:lnTo>
                  <a:pt x="-681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witch may hap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ring the 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525-9218-4048-B016-CEB5C345C0E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Q&amp;D solutions to mutual exclu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 a flag s for each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lock(s)/unlock(s) around the critical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sy waiting: if the critical section is long, we waste a lo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not be used in single process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73240" y="4495680"/>
            <a:ext cx="1976040" cy="175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nt 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lock(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ritical se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unlock(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273-55DA-4FDD-A680-60238FA86CC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A8E-EBBF-4873-BB3D-CD715AEB905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oretical mod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ystem is a set of concurren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an be processes or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interact in two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ccess the hardware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exchang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activities compete for the resources and/or cooperate for some commo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D84-4A1D-4BED-938D-3E2CED5B826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ynchronis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tual exclusion is not the only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a way of synchronise two or more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: producer/consu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se we have two threa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produces some integers and sends them to another thread (the PRODUCER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other one takes the integer and elaborates it (CONSUMER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57400" y="5105520"/>
            <a:ext cx="205740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2320" y="5105520"/>
            <a:ext cx="205740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5638680"/>
            <a:ext cx="12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0D0-365B-4BDF-97CF-D422FAD3C75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ducer/consum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wo threads have different sp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 the producer is much faster than the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store the integers in a queue, so that no data is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’s use the CircularArray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5141-6822-49C1-9FF3-F26D0BE91A2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ducer/Consum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4880" y="4495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s with this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queue is full, the producer actively w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queue is empty, the consumer actively w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0440" y="1955880"/>
            <a:ext cx="363564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producer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bool r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dat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(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obtain dat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!queue.insert(data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36800" y="1955880"/>
            <a:ext cx="390096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consumer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bool r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dat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(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!queue.extract(&amp;data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use dat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28800" y="1320840"/>
            <a:ext cx="2143800" cy="3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ircularArray que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404-0BD8-4156-90E8-3B0F8FD52D3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 more general approa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need to provide a general mechanism for syncho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nchronise two threads on on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block the producer when the queue is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utual exclusion between critical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 two insertions operation to interle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E3A-2B46-4AA8-ACD4-663C1426E1BB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1EF-4DE8-41B2-A92E-DDD3BCB7CAE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General mechanis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jikstra proposed the semaphore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emaphore is an abstract entity that cons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locking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ration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ration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perations on a semaphore are considered at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92B-C464-43EA-861C-618037090804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emapho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maphores are basic mechanisms for providing 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has been shown that every kind of synchronization and mutual exclusion can be implemented by using sempah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analyze possible implementation of the semaphore mechanism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99560" y="3786120"/>
            <a:ext cx="4565160" cy="23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class Semaphor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blocked queue&gt; block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nt count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emaphore (int n) : count (n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F4E-69B4-43D8-A40F-6A98D25DEFE5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ai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wait operation has the following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counter == 0, the requiring thread is bloc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removed from the ready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inserted in the blocked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counter &gt; 0, then counter--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gnal operation has the following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counter == 0 and there is some blocked thread, unblock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hread is removed from the blocked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inserted in the ready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wise, increment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5F6E-D792-41D8-A432-FD209C18803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emapho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1273320"/>
            <a:ext cx="3975120" cy="480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class Semaphor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blocked queue&gt; block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nt 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emaphore (int n) : count (n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wai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counter == 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block the thr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else counter--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signal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&lt;some blocked thread&gt;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unblock the thr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else counter++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67D-248A-4D79-91FF-505125D24A0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tual exclusion with semapho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9644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to use a semaphore for critical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 a semaphore initialized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entering the critical section, perform a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leaving the critical section, perform a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641760" y="3352680"/>
            <a:ext cx="1919520" cy="3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emaphore s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72600" y="3859200"/>
            <a:ext cx="2890440" cy="23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*threadA(void *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ritical se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31800" y="3894120"/>
            <a:ext cx="2890440" cy="23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*threadB(void *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ritical se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D47-707F-43F5-818B-2F2625DF416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sour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esource can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HW resource like a I/O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W resource, i.e. a data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both case, access to a resource must be regulated to avoid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wo processes want to print on the same printer, their access must be sequentialised, otherwise the two printing could be intermangl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wo threads access the same data structure, the operation on the data must be sequentialized otherwise the data could be inconsist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362-E4F5-4976-8071-5605A416093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tual exclusion with semapho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65400" y="1676520"/>
            <a:ext cx="2320920" cy="2057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95000" y="1295280"/>
            <a:ext cx="14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maph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26760" y="1905120"/>
            <a:ext cx="101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43200" y="1905120"/>
            <a:ext cx="45720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743200" y="1905120"/>
            <a:ext cx="45720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08640" y="1371600"/>
            <a:ext cx="315288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.wait();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ritical section (1)&gt;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s.wait()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(TB)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ritical section (2)&gt;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.signal(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(TA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&lt;critical section&gt;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(TB)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s.signal()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(TB)</a:t>
            </a:r>
            <a:r>
              <a:rPr b="0" lang="en-GB" sz="18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43200" y="1905120"/>
            <a:ext cx="457200" cy="45720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43200" y="2895480"/>
            <a:ext cx="633240" cy="60984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25600" y="2590920"/>
            <a:ext cx="1771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locked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09960" y="2895480"/>
            <a:ext cx="633240" cy="60984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76360" y="2895480"/>
            <a:ext cx="633600" cy="60984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4876920"/>
            <a:ext cx="633240" cy="6094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109960" y="4876920"/>
            <a:ext cx="633240" cy="6094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76360" y="4876920"/>
            <a:ext cx="633600" cy="6094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79880" y="4724280"/>
            <a:ext cx="844560" cy="8384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75000" y="5181480"/>
            <a:ext cx="703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4876920"/>
            <a:ext cx="633240" cy="60948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efde3"/>
                </a:solidFill>
                <a:latin typeface="Tahoma"/>
              </a:rPr>
              <a:t>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09960" y="4876920"/>
            <a:ext cx="63324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efde3"/>
                </a:solidFill>
                <a:latin typeface="Tahoma"/>
              </a:rPr>
              <a:t>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109960" y="4876920"/>
            <a:ext cx="1266480" cy="609480"/>
            <a:chOff x="2109960" y="4876920"/>
            <a:chExt cx="1266480" cy="609480"/>
          </a:xfrm>
        </p:grpSpPr>
        <p:sp>
          <p:nvSpPr>
            <p:cNvPr id="392" name=""/>
            <p:cNvSpPr/>
            <p:nvPr/>
          </p:nvSpPr>
          <p:spPr>
            <a:xfrm>
              <a:off x="2743200" y="4876920"/>
              <a:ext cx="63324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efde3"/>
                  </a:solidFill>
                  <a:latin typeface="Tahoma"/>
                </a:rPr>
                <a:t>T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09960" y="4876920"/>
              <a:ext cx="633240" cy="60948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efde3"/>
                  </a:solidFill>
                  <a:latin typeface="Tahoma"/>
                </a:rPr>
                <a:t>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109960" y="4876920"/>
            <a:ext cx="1266480" cy="609480"/>
            <a:chOff x="2109960" y="4876920"/>
            <a:chExt cx="1266480" cy="609480"/>
          </a:xfrm>
        </p:grpSpPr>
        <p:sp>
          <p:nvSpPr>
            <p:cNvPr id="395" name=""/>
            <p:cNvSpPr/>
            <p:nvPr/>
          </p:nvSpPr>
          <p:spPr>
            <a:xfrm>
              <a:off x="2109960" y="4876920"/>
              <a:ext cx="633240" cy="609480"/>
            </a:xfrm>
            <a:prstGeom prst="rect">
              <a:avLst/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43200" y="4876920"/>
              <a:ext cx="633240" cy="60948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efde3"/>
                  </a:solidFill>
                  <a:latin typeface="Tahoma"/>
                </a:rPr>
                <a:t>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2743200" y="2895480"/>
            <a:ext cx="63324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efde3"/>
                </a:solidFill>
                <a:latin typeface="Tahoma"/>
              </a:rPr>
              <a:t>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109960" y="4876920"/>
            <a:ext cx="1266480" cy="609480"/>
            <a:chOff x="2109960" y="4876920"/>
            <a:chExt cx="1266480" cy="609480"/>
          </a:xfrm>
        </p:grpSpPr>
        <p:sp>
          <p:nvSpPr>
            <p:cNvPr id="399" name=""/>
            <p:cNvSpPr/>
            <p:nvPr/>
          </p:nvSpPr>
          <p:spPr>
            <a:xfrm>
              <a:off x="2743200" y="4876920"/>
              <a:ext cx="63324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efde3"/>
                  </a:solidFill>
                  <a:latin typeface="Tahoma"/>
                </a:rPr>
                <a:t>T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09960" y="4876920"/>
              <a:ext cx="633240" cy="60948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efde3"/>
                  </a:solidFill>
                  <a:latin typeface="Tahoma"/>
                </a:rPr>
                <a:t>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743200" y="2895480"/>
            <a:ext cx="633240" cy="60984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0DC-7C93-4004-83E5-19E7CE67D5CC}" type="slidenum">
              <a:t>50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 fill="hold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2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2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 fill="hold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ynchronization with semapho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se a thread TA wants to synchronize with thread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ad TA cannot execute &lt;code TA2&gt; before thread TB complete &lt;code TB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3639960"/>
            <a:ext cx="27432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Thread 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A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SYNCH POIN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A2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54640" y="3603600"/>
            <a:ext cx="27432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Thread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B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SYNCH POIN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B2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006800" y="4800600"/>
            <a:ext cx="1143000" cy="2286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1E92-C819-49E1-AEF9-5C394BD5384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olution with semapho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815328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 it out with pen and paper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2319480"/>
            <a:ext cx="27432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Thread 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A 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s.wai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A 2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75360" y="2319480"/>
            <a:ext cx="27432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Thread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B 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s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B 2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971800" y="1687680"/>
            <a:ext cx="3429000" cy="3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Semaphore s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5F5-411C-4AF8-B8AB-FEB63590A680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: Symmetric synchroniz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415880"/>
            <a:ext cx="81532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se a thread TA wants to synchronize with thread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ad TA cannot execute &lt;code TA2&gt; before thread TB complete &lt;code TB1&gt;, and vice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43000" y="3639960"/>
            <a:ext cx="27432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Thread 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A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SYNCH POIN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A2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54640" y="3605040"/>
            <a:ext cx="274320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Thread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B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SYNCH POIN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&lt;code TB2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886200" y="4799880"/>
            <a:ext cx="1371600" cy="228600"/>
          </a:xfrm>
          <a:prstGeom prst="leftRightArrow">
            <a:avLst>
              <a:gd name="adj1" fmla="val 50000"/>
              <a:gd name="adj2" fmla="val 1194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2D7-D86A-4C51-90D9-F4C3DD74796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we have 2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ization to N threa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648-76AD-42AE-9EC2-8DD467A0EB6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ducer/Consumer with semapho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 a producer/consum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producer executes queue.insert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ant the producer to be blocked when the queue is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ducer will be unblocked when there is some spac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consumer executes queue.ex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ant the consumer to be blocked when the queue is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sumer will be unblocked when there is some spac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attempt: one producer and one consumer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BBC-AC7A-4825-9F58-74C91F365FE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ducer/Consumer with semapho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676600" y="1162080"/>
            <a:ext cx="3875040" cy="500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lass CircularArra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array[1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head, tai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empty, f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ircularArray() : head(0),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ail(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empty(0), full(1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insert(int elem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wait(f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array[head] = el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(head + 1) %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ignal(emp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extract(int &amp;elem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wait(emp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lem = array[tail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ail = (tail + 1) %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ignal(f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 que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663-EADD-4E5C-9F32-9705D2542035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pert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ic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alue of the counter of empty is the number of elements in th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the number of times we can call extract without blo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alue of the counter of full is the complement of the elements in th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the number of times we can call insert without blo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e that the implementation is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ert() never overwrites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ract() always gets an element of the que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659-3D7E-4842-9C29-EAB7F0541B0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ducers/consum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let’s combine mutual exclusion and 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a system in which there are many producers and many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ant to implement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ant to protect the dat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60E-A949-4525-A046-9C623354698C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oes it work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995400"/>
            <a:ext cx="4497120" cy="279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lass CircularArra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array[1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head, tai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full, emp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mute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ircularArray() : head(0), tail(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mpty(0), full(10), mutex(1)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insert(int elem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extract(int &amp;ele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 que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130040" y="3954600"/>
            <a:ext cx="343764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CircularArray::insert(int elem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utex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ull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array[head]=el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(head+1)%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mpty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utex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646520" y="3938760"/>
            <a:ext cx="370260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CircularArray::extract(int &amp;elem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utex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mpty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lem = array[tail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ail = (tail+1)%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ull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utex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391-3E0C-4170-8440-464CA32E3D1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action mod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ities can interact according to two fundament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activities access the same memory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Message 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activities communicate each other by sending messages through OS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analize both models in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2E2-4CF9-4DB0-834E-40DAA60B66AF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rrect solu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90920" y="995400"/>
            <a:ext cx="4268520" cy="279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lass CircularArra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array[1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head, tai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full, emp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mute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ircularArray() : head(0), tail(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mpty(0), full(10), mutex(1)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insert(int elem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extract(int &amp;ele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 que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30040" y="3954600"/>
            <a:ext cx="343764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CircularArray::insert(int elem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full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mutex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array[head]=el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head = (head+1)%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mutex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empty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646520" y="3938760"/>
            <a:ext cx="370260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CircularArray::extract(int &amp;elem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empty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mutex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lem = array[tail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ail = (tail+1)%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mutex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full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B47-6B74-4D26-8F86-CC9DA6DCFB65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adlock situ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dlock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read executes mutex.wait() and then blocks on a synchronisation semap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e unblocked another thread must enter a critical section guarded by the same mutex semaph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, the first thread cannot be unblocked and free the mut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tuation cannot be solved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984-1206-4897-8DEF-29F5A3EC230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emaphore implemen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() and signal() involve a possible thread-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 they must be implemented as system cal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blocked thread must be removed from state RUNNING and be moved in the semaphore blocking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emaphore is itself a shared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() and signal() are critical sect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must run with interrupt disabled and by using lock() and unlock() primi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9BF-44DD-4B2F-98B7-1FB76DB23FD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06480" y="1266840"/>
            <a:ext cx="3115800" cy="286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Semaphore::wait(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pin_lock_irqsav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counter==0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block the thr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chedu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 else counter--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pin_lock_irqrestor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136840" y="3171960"/>
            <a:ext cx="3173760" cy="286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Semaphore::signal(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pin_lock_irqsav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counter== 0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unblock a thr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chedu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 else counter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pin_lock_irqrestor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B171-359A-4CF2-B335-E6FEBC803E4F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IX THREADS AND SEMAPH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33C-E795-4845-B218-6E07A9FDB5E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ee slides on pthread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362-4C49-455D-9D5A-C1C546AFDB84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e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7A2-700B-4671-8ED7-3B7719E1A00F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ESIGN METHODOLOGY FOR SHARED MEMOR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496-ACB6-4883-B60D-D9AD0118330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present here a structured methodology for programming in shared memor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ethodology leads to “safe”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necessarily optimized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ammers can always use their intelligence and come up with “elegant”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288-CEF8-4416-9A1A-67B4232876E9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hared memory programm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ogram is a se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ads that interact by accessing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tructures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hared resourc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ata structure can be seen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et of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et of functions operating on th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 the data structures only through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13C-D8BF-4C0F-BEC9-99EBBBBA067A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source Al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cation of resource can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: one activity at time only is granted access to the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d: many activity can access the resource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ic: once the resource is granted, it is never rev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ynamic: resource can be granted and revoked dynam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267080"/>
            <a:ext cx="4114800" cy="20574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48006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12040" y="4343400"/>
            <a:ext cx="1335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ed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7400" y="4343400"/>
            <a:ext cx="981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440" y="426708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01960" y="4967280"/>
            <a:ext cx="83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41400" y="5729400"/>
            <a:ext cx="118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56272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80040" y="426708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22920" y="4876920"/>
            <a:ext cx="1066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41040" y="4967280"/>
            <a:ext cx="114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47520" y="5729400"/>
            <a:ext cx="114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17160" y="5729400"/>
            <a:ext cx="114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D962-8626-42A7-9802-4E8C5E022CE2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bject Oriented programm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416400" y="1612800"/>
            <a:ext cx="2743200" cy="228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class SharedData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t array[1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t first, las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haredData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t insert(int 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t extrac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730520" y="1523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143000" y="39718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514600" y="4097160"/>
            <a:ext cx="4800600" cy="2076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truct SharedData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t array[1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t first, las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};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haredData_init(struct SharedData *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t SharedData_insert(struct SharedData *d,  int 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t SharedData_extract(struct SharedData *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32D-F36D-444A-BCA0-1386B1152616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hared Data stru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apsulating the semaph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ata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uld already include the mechanisms for mutual exclusion and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the CircularArray data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s on the dat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uld use the semaphores inside th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only access the data structure through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A89-00CC-47C6-BDC7-108FE3E88A9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ow to program the data structur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design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, design the interface: that is, which functions the threads need to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implicity, all functions on the same data struture should be in mutual ex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ybe, this is not optimized, but it is SAF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71D-C23B-4C67-BA30-6216D69B458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tual exclu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ach data structu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 a mutual exclusion semaphore, initialized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ach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after starting the function, take the semaphore, and leave it before ret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14E-9149-4243-A05C-EC416D9A8C4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tual exclu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84400" y="1960560"/>
            <a:ext cx="3200400" cy="3886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class MyData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..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em_t 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..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MyData(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em_init(&amp;m, 0, 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t myf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em_wait(&amp;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em_post(&amp;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404-14FE-4727-8A6B-A685B189ACD2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ynchroniz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ign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y the behavior of the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 which conditions a calling thread should be block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all different block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6E4-43E9-4726-B6A0-886DD9024A96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ynchroniz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design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unblock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blocked thread should be un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the functions that should unblock those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tting all tog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 a state diagram for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S: the various states of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S: threads that call th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619-90EE-4193-876B-692027EE04E2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: CircularArray with Manag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 expla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ign the data structur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blocking and unblock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w the stat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ED68-B07F-456B-8196-016E93D564F0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ding Ru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each blocking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semaphore initialized to 0 (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locking semaphore)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 integer that counts the number of blocked threads on the condition (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locking counte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it to 0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(or more) integer variable(s) to code the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rite the initialization function (constructor in C++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C98-3793-4D77-AD8A-179C80D3FDFD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fun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091880"/>
            <a:ext cx="815328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ly, code th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the mutex at the beg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the blocking conditions (if any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thread has to be block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ment the blocking counter, signal on the mutex, wait on the blocking semaphore, wait on the mu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form the code, change state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unblock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thread has to be un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rement the blocked counter, signal the semap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DD49-126F-4856-8394-E56F5068D21F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operative vs Competitiv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3240" y="1155600"/>
            <a:ext cx="762012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nteraction between concurrent activities (threads or processes) can be classified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etitive con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activities compete for th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activity does not know anything about th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S must manage the resources so t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 confl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f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perative con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activities cooperate to perform an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activity knows about th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must synchronize on particular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DDA-239B-4CEF-B4C8-48EE54B523B5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co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BDD-60AF-4C9D-94E8-CD8121B096A5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 subtle erro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“man in the middle”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blocking conditions in a while()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E9C-178C-41D9-9D86-9D9BFEC9FE40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assing “le baton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(more elegant)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2B0-4814-44E2-A248-6305C62C392B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THREADS – MUTEXES AND CONDI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8CA0-BB85-4D61-9F8F-C846A2ADF9F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onit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s are a language structure equivalent to semaphores, but clea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onitor is similar to an object in a OO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ontains variables and provides procedures to other software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one thread can execute a procedure at a certa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y other thread that has invoked the procedure is blocked and waits for the first threads to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fore, a monitor implicitely provides mutual ex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219-A60A-4903-B465-F99A9E57D57F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onit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320" y="1143000"/>
            <a:ext cx="76201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s support synchronization with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ndition variable is a blocking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operations are defined on a condition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it() -&gt; suspends the calling thread on the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gnal() -&gt; resume execution of one thread blocked on the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t n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it() and signal() operation on a condition variable are different from wait and signal on a semapho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not any counter in a condition variab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we do a signal on a condition variable with an empty queue, the signal is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E7C6-1F1C-46F2-9712-298B69F495EA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onitors in Jav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va provides something that vaguely resembles mon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“synchronized” keyword allows to define classes with protecte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“synchronized” class has one implicit condition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“signal” one thread with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notify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 and all threads with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notifyAll(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B84-A7FA-4585-9411-AE8E054C2BB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onitors in POSIX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not possible to provide monitors i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and C++ do not provide any concurrency control mechanism; they are “purely sequential languag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IX allows something similar to Monitors through library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0CF-F4F6-4DB7-9080-44E265625E09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lides on POSIX monit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728-9398-4F54-9043-D485409EEE5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ercises on POSIX monit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1B0-E7CC-4A5A-A4A5-7CF5AB741CD7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mpeting activit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perative and competitive activities need different models of execution and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Compet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vities need to be “protected” from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parate memory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model is the 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llocation of the resource and the synchronization must be 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etitive activities requests for services to a central manager (the OS or some dedicated process) which allocates the resources in a fair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ent/Serve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cation is usually done through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8EF-8BB1-41E2-91FE-7DEF6062707A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X SYNCHRONIZAT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ERS - WR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EC8-E455-49B9-A678-879D2AD5C86C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aders/wri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shared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read the content of th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readers can read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write in th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one writer is writing no other reader or writer can access th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emaphores to implement th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4000"/>
              </a:lnSpc>
              <a:spcBef>
                <a:spcPts val="499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9C6-FC23-417E-94F5-061182CBE778}" type="slidenum">
              <a:t>91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imple implement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25000" y="1219320"/>
            <a:ext cx="398772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lass Buffe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ws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n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publi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Buffer() : wsem(1), x(1), nr(0)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rea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writ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 buff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21200" y="3657600"/>
            <a:ext cx="2902680" cy="279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Buffer::read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r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r==1) wse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read the buff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r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r==0) wse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79400" y="4390920"/>
            <a:ext cx="2360160" cy="132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Buffer::write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se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write the buff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se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7FC-779C-41EB-BEFC-784C7DC64224}" type="slidenum">
              <a:t>92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: starv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se we have 2 readers (R1 and R2) and 1 writer (W1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se that R1 starts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R1 is reading, W1 blocks because it wants to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R2 starts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R1 finishes, but, since R2 is reading, W1 cannot be unblo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R2 finishes to read, R1 starts to read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R2 finishes, W1 cannot be unblocked because R1 is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2F37-FE85-484F-BF29-C6AA7AA59387}" type="slidenum">
              <a:t>93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iority to writers!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84800" y="1174680"/>
            <a:ext cx="6340680" cy="15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lass Buffe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x, y, z, wsem, rs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nr, n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publi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Buffer() : x(1), y(1), z(1), wsem(1), rsem(1), nr(0), nw(0)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142240" y="2784600"/>
            <a:ext cx="3359880" cy="37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Buffer::read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z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se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r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r==1) wse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se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z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read the buff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r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r==0) wse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83600" y="2784600"/>
            <a:ext cx="3466440" cy="328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Buffer::write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y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w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w==1) rse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y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se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write the buff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se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y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w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w == 0) rse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y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1A9D-9A6A-4474-8779-788F2E2E7E28}" type="slidenum">
              <a:t>94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solve the readers/writers problem in the general c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starvation for r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starvation for wr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tain a FIFO ordering with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t least one writer is blocked, every next reader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t least one reader is blocked, every next writer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single semapho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57F-9891-4F3E-9BBB-D33AD5757333}" type="slidenum">
              <a:t>95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15600" y="1536840"/>
            <a:ext cx="5226840" cy="37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class Buffe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int nbr, nb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int nr, n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Semaphore rsem, ws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Semaphore 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Buffer(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nbw(0),nbr(0), nr(0), nw(0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rsem(0), wsem(0) 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void rea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void writ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ahoma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3C9-EDBB-496F-BACB-C2E865699D6C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92840" y="1295280"/>
            <a:ext cx="4016520" cy="426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Buffer::read(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w || nbw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br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signal();rsem.wait();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nbr&gt;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nbr--;rsem.signal(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r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read buffer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r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bw &amp;&amp; nr == 0) wse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785840" y="1295280"/>
            <a:ext cx="4092840" cy="426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Buffer::write(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w || nbw || nr || nbr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bw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signal();wsem.wait();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bw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w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&lt;read buffer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w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nbr) {nbr--; rsem.signal()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lse if (nbw) wse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1A1E-4480-4CE6-BCF3-DE3FC47A55B8}" type="slidenum">
              <a:t>97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85800" y="156816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32E-9598-4186-ACBD-EBF9E4DA8C0B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ssage pass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ssage passing systems are based on the basic concept of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basic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d(destination, messag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eive(source, &amp;messag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124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th operations can be synchronous or a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eive can be symmetric or asym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BB6C-B174-479F-9243-E80A99E0A0A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