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F8533-275B-40D5-AB6B-3C0BF53AC7F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5FB-C6B5-4EBE-BCC5-416A3F5B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74D-ACB8-4E93-886C-34EC8E0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99E-CE27-4285-A25F-FAAEF1C4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B69-A73A-4EA3-A0FD-CF4DCCF0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B0C0-579F-47AE-ACDD-F330EB4F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086B-1F9C-4ADA-8F85-3E9815C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8E48-E8A0-4C72-8A99-CBBA17C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11E9-6B78-4E86-A13C-33F82506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8513-2EF8-4EB9-BBEB-2AD8DF74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862-599E-493A-AB11-1821E55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4A9A-2AD4-46D3-9A4B-E3A69DF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36B-96FE-4F4E-96BD-609B7E6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317-BF71-46AE-B08F-87221BB3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088D-2064-4AE6-A89B-B0DF699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949-0BE7-4D8C-A065-14A673DF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3D1-CD02-4D13-9040-8B41A2D4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A0C-C291-49BF-82F3-318788FA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384-D45E-4AC0-AD97-EE2A2BCF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7AA-D034-4706-A817-9BF62A52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CB0-86F3-48A5-B3E5-52C58DEF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407-A215-4A8A-B420-F287826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DA9-1A52-48B9-A3E9-21F3199A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52F-4D3A-418C-B96A-CDB7FAF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C45-C4C8-4E9C-AA9C-5EE77BD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91CD0-25FA-4DA4-9AB8-59511E733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8823F-ABE9-4939-9A7C-D12EB5CD9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eadlock and Star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 for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one process may use the resourc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and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rocess may hold allocated resources when i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ource cannot be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three above conditions ho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osed chain of threads exists such that each thread holds at least one resources needed by the next thread in th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a deadlock can occ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necessary and sufficient conditions for a dead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7D4-4D54-4648-9082-6070AA0A75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solve the problem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event deadlock from happening we can distinguish two class of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: we impose strict rules in the way resources may be requested so that a deadlock canno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: dynamically, we avoid the system to enter in dangerous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sic idea is to avoid that one of the previous conditions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prevention (stat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avoidance (dynam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detection (dynam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2AE-D4F8-4C91-9302-F2F21DC8FB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not be disallowed. If a resource must be accessed in mutual exclusion, there is nothing else we can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ld and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impose the tasks to take all resources at the same time with a sing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very restrictive! Even if we use the resource for a small interval of time, we must take it at the beginn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BEF-962B-422B-A18B-D9147EC479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echnique can be done only if we can actually suspend what we are doing on a resource and give it to another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“processor” resource, this is what we do with a thread s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ther kinds of resources, we should “undo” what we were doing on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ay not be possible in many ca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E12-55B3-4621-95EC-76583123A9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ndition can be prevented by defining a linear ordering of th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we impose that each thread must access resources in a certain well-defined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41840" y="370188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9080" y="365760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581280"/>
            <a:ext cx="3048120" cy="2971800"/>
          </a:xfrm>
          <a:custGeom>
            <a:avLst/>
            <a:gdLst/>
            <a:ahLst/>
            <a:rect l="l" t="t" r="r" b="b"/>
            <a:pathLst>
              <a:path w="8466" h="8256">
                <a:moveTo>
                  <a:pt x="0" y="0"/>
                </a:moveTo>
                <a:lnTo>
                  <a:pt x="8465" y="8255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5080" y="3505320"/>
            <a:ext cx="3051000" cy="2971800"/>
          </a:xfrm>
          <a:custGeom>
            <a:avLst/>
            <a:gdLst/>
            <a:ahLst/>
            <a:rect l="l" t="t" r="r" b="b"/>
            <a:pathLst>
              <a:path w="8475" h="8256">
                <a:moveTo>
                  <a:pt x="8474" y="0"/>
                </a:moveTo>
                <a:lnTo>
                  <a:pt x="0" y="8255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4FE-5001-430C-92DF-23673379E886}" type="slidenum">
              <a:t>14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this strategy work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define a orien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rtex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hread (round vertex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source (square vertex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ow from a thread to a resource denotes that the thread requires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ow from a resource to a thread denotes that the resource is granted to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adlock happens if at some point in time there is a cycle i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4EA-F9AC-4FD1-ADCF-C7D9D12F36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79720" y="133992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48880" y="133992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419720"/>
            <a:ext cx="60948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410080"/>
            <a:ext cx="609480" cy="6098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419720"/>
            <a:ext cx="533520" cy="533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486400"/>
            <a:ext cx="53352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120840" y="4648320"/>
            <a:ext cx="14540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876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120840" y="5711400"/>
            <a:ext cx="145404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124080" y="4873680"/>
            <a:ext cx="1447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212-4A00-4024-BE43-49469AD496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or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ll threads access resources in a given order, a deadlock cannot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of: by contra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se that a deadlock occurs. Then, there is a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hypothesis all threads access resources b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each thread is blocked on a resource that has an order number grater than the resources it h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from a thread and following the cycle, the order number of the resource should always increase. However, since there is a cycle, we go back to the first thread. Then there must be a thread T that holds a resource Ra and requests a Resource Rb with Ra &lt; 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contradic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136-5C18-4367-A626-1FABE4B0B7F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ierarchies of lo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use the previous techniqu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e the software into layers (usually the SW is already in layers!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layer defines its own locks and semap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yer can only call functions from the same layer or from l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 the resource ordering is automatically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D87-F5C3-4A0B-AE11-AE38C3CA67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avoid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chnique consists in monitoring the system to avoid dea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heck the behaviour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ee that we are going into a dangerous situation, we block the thread that is doing the request, even if the resource is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6C2-4D14-4F18-A9AC-48B1B17420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is the situation in which a group of threads are permanently blocked waiting for som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can happen in many subtl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will study ways of avoiding deadlock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E19-443C-4C3A-9F91-80CE0EEAF4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ive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1, R2, ... Rm): total amount of each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1, V2, ..., Vm): amount of free resource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67240" y="2590920"/>
                <a:ext cx="15080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576600" y="4375080"/>
                <a:ext cx="14875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B0A-6866-4D3E-BA73-6836B51D789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ive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avoidance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w thread T(n+1) is started only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68520" y="1295280"/>
                <a:ext cx="1565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14720" y="1476360"/>
                <a:ext cx="143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,i: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278400" y="1447920"/>
                <a:ext cx="150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,i: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17800" y="3809880"/>
                <a:ext cx="2040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143000" y="4952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o restri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1E9-9EDC-43A1-B09B-C9B9DA8F7B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ase of the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rule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745080" y="4665600"/>
                <a:ext cx="2033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71E-524C-4F51-9F72-5BDB6C77C7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es to identify “safe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 a thread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ituation after the request is unsafe (i.e. it leads to a deadlock) block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grant the resour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B56-C921-49BD-9E35-C92A634F878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36040" y="1830240"/>
            <a:ext cx="7070760" cy="313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M is the number of differe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N is the number of distinc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Ban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avail[M]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How many are left for each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quest[N,M]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How much each process requ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assigned[N, M]; // how much each process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p identifies the process. p is in [0,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r identifies the resource. r is in [0, M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bool try(int p, in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3D2-8A42-40A2-854B-6F5F7F435C1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7560" y="1295280"/>
            <a:ext cx="3361320" cy="328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Bank::try(int p, int r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flag[N];int i,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ok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i=0; i&lt;N; i++) flag[i]=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my_avail[M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j] = avail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quest[p,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ssigned[p,r]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15560" y="1287360"/>
            <a:ext cx="3670560" cy="52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i&lt;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flag[i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ok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request[i,j]&gt;my_avail[j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ok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ok &amp;&amp; fla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j] += assigned[i,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i]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safe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i=0; i&lt;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flag[i]) safe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safe)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vail[p,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turn saf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92D-BA99-445D-AE5C-6D4E0351E48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strategy, we monitor the system to check for deadlock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y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ook for cycles between thread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often should we l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complex thing to do, so it takes precious process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one not so 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we discover deadlock, we m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dea is to kill some blocke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D88-D043-484A-9065-F320996320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rt al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in almost all OS. The simplest thing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reads define saf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ck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When the OS discover a deadlock, all involved threads are restarted to a previous check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. The can go in the same deadlock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rt one thread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re aborted one after the other until deadlo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ively preemp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 resources one at time until the deadlo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3F9-A3D4-4298-BDC4-62472DB90408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440" y="5095800"/>
            <a:ext cx="1600200" cy="39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269" y="19750"/>
                </a:moveTo>
                <a:lnTo>
                  <a:pt x="-1029" y="6322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ADLO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24600" y="129528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34880" y="129528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0880" y="1295280"/>
            <a:ext cx="1838880" cy="58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s1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s2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952880"/>
            <a:ext cx="6856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715000"/>
            <a:ext cx="685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724280"/>
            <a:ext cx="1143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000" y="44956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8560" y="527220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486400"/>
            <a:ext cx="1143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114800"/>
            <a:ext cx="1066680" cy="304920"/>
          </a:xfrm>
          <a:prstGeom prst="wedgeRectCallout">
            <a:avLst>
              <a:gd name="adj1" fmla="val 37518"/>
              <a:gd name="adj2" fmla="val 15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1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72428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6095880"/>
            <a:ext cx="1066680" cy="304920"/>
          </a:xfrm>
          <a:prstGeom prst="wedgeRectCallout">
            <a:avLst>
              <a:gd name="adj1" fmla="val 34620"/>
              <a:gd name="adj2" fmla="val -16509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2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48640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7040" y="4114800"/>
            <a:ext cx="1066680" cy="304920"/>
          </a:xfrm>
          <a:prstGeom prst="wedgeRectCallout">
            <a:avLst>
              <a:gd name="adj1" fmla="val -49430"/>
              <a:gd name="adj2" fmla="val 15200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2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7040" y="6095880"/>
            <a:ext cx="1066680" cy="304920"/>
          </a:xfrm>
          <a:prstGeom prst="wedgeRectCallout">
            <a:avLst>
              <a:gd name="adj1" fmla="val -49865"/>
              <a:gd name="adj2" fmla="val -16662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1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7F9-518E-4D07-BD05-79AB5A17085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51240" y="2438280"/>
            <a:ext cx="15238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124080"/>
            <a:ext cx="152388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ic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51814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590920" y="19778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0000" y="53658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2960" y="19051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958480" y="55076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798720" y="55076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4880" y="42814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4880" y="35956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5124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1480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495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8098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809880"/>
            <a:ext cx="7621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Dead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5040" y="28954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5040" y="22860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368240" y="56912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5114880" y="56721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124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438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3724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48769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33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124080"/>
            <a:ext cx="7621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5320" y="1600200"/>
            <a:ext cx="106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416" y="41669"/>
                </a:moveTo>
                <a:lnTo>
                  <a:pt x="-1543" y="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 an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n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5160" y="3276720"/>
            <a:ext cx="1066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780" y="10800"/>
                </a:moveTo>
                <a:lnTo>
                  <a:pt x="-1543" y="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 an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n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240-E6C1-4BBE-9C9E-074CB33E5122}" type="slidenum">
              <a:t>4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76720" y="2209680"/>
            <a:ext cx="15238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7040" y="2895480"/>
            <a:ext cx="152388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581280"/>
            <a:ext cx="76176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Dead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7040" y="2895480"/>
            <a:ext cx="7621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ic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9528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514600" y="17492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4040" y="51372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6640" y="16765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88432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72096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8920" y="40528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8920" y="33670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7672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3704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267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81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8720" y="26668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8720" y="20574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291920" y="54626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503820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8954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0060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60920" y="1901880"/>
            <a:ext cx="180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648320"/>
            <a:ext cx="76176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5840" y="38847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004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5840" y="312264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5840" y="23605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5840" y="15987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DE0-F678-4147-BBCC-37ACF3FD6474}" type="slidenum">
              <a:t>5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with no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209680"/>
            <a:ext cx="76176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2895480"/>
            <a:ext cx="76212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49528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14600" y="17492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4040" y="51372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6640" y="16765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288432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4415760" y="524700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8920" y="40528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8920" y="33670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7672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3704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267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581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8720" y="26668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8720" y="20574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343944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03820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8954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60920" y="1901880"/>
            <a:ext cx="180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9625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79840" y="3884760"/>
            <a:ext cx="1440" cy="765000"/>
          </a:xfrm>
          <a:custGeom>
            <a:avLst/>
            <a:gdLst/>
            <a:ahLst/>
            <a:rect l="l" t="t" r="r" b="b"/>
            <a:pathLst>
              <a:path w="6" h="2126">
                <a:moveTo>
                  <a:pt x="0" y="2125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2749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5891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2590920"/>
            <a:ext cx="76176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0040" y="25909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18273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C74-1599-40A8-9F97-A6C20252487A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examples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situations can happen even when the resource is not “on-of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memory al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the maximum memory allocable is 200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45360" y="4103640"/>
            <a:ext cx="252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 threadA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8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6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lease(14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34400" y="4114800"/>
            <a:ext cx="252324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 threadB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7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8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lease(15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46D-66E4-4E33-A6E1-2D5294FBE2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umable and reusable resour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us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safely used by only one thread at time and is nod depleted by t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must request the resource and later release it, so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u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other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are processor, memory, semaphor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created and destroyed dynam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the resource is acquired by a thread, it is immediately “destroyed” an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are messages in a FIFO queue, interrupts, I/O dat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FFA-BE62-4696-B48B-8141F7FB8F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with consumable resour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91520" y="1371600"/>
            <a:ext cx="3638520" cy="180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threadB, msg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threadB, msg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240" y="1371600"/>
            <a:ext cx="3637080" cy="180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threadA, msg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threadA, msg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4648320"/>
            <a:ext cx="662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5562720"/>
            <a:ext cx="662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320" y="42670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4880" y="504360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419720"/>
            <a:ext cx="9144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5334120"/>
            <a:ext cx="9144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3048120" cy="304560"/>
          </a:xfrm>
          <a:prstGeom prst="wedgeRectCallout">
            <a:avLst>
              <a:gd name="adj1" fmla="val -74222"/>
              <a:gd name="adj2" fmla="val 1675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_receive_from(threadB,msg1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5943600"/>
            <a:ext cx="3048120" cy="304920"/>
          </a:xfrm>
          <a:prstGeom prst="wedgeRectCallout">
            <a:avLst>
              <a:gd name="adj1" fmla="val -62009"/>
              <a:gd name="adj2" fmla="val -16968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_receive_from(threadA,msg1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853-165D-4980-86EF-F6203F39F2E7}" type="slidenum">
              <a:t>9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