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48876-7EED-42F8-B0E6-947A5FE04203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998E-4BCD-476B-811B-F2E145983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4FE5-EC03-463F-A774-DFD2251F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64B2-4D33-48A4-8EF5-98532E754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4232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9848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4232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9848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0E10-A8E2-4667-8BD8-A5675EDC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FAB8-C799-45D9-890C-68081B23F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CB78-6BD5-49B0-B4FD-16A24F65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B4B3-838A-467C-B16E-BE80B1EC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5A1B-473C-4DFE-8EF7-8BE3CD48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52AE-FFBB-4A46-A61F-DEF7352A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237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F32E-24D3-4330-AC91-F78AAD37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275E-94A2-4629-8CEC-A6D9ACC3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FA3D-96A0-4A83-ACB0-6479971E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4595-8693-4249-BE71-715B97FD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D37F-6D6D-43FE-BB7C-34889258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2810-C158-4973-AF66-27F964BC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F751-6AB2-4CB0-BB05-E4091988F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4232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9848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4232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9848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F1B7-8EAD-4DCC-B470-DB4FA725B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0061-531A-428D-BFE4-74657514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0796-E17C-4506-91D5-1497A496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C533-8153-4B6A-B342-7F3D1AA9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237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EA8E-1195-47F4-BEF2-A038CEF9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42D0-7530-4123-B0EC-1332CAFB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7C8D-97BB-42E5-B750-AEE975CB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55A7-3248-4190-88C8-F58E7E2D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792E80-8FA2-4351-B5B8-3D7113AD8E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8088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b05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219320" cy="119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3733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36BAD-C5BA-4B89-A0B3-D185BC20CB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66543" b="49852"/>
          <a:stretch/>
        </p:blipFill>
        <p:spPr>
          <a:xfrm>
            <a:off x="4191120" y="228600"/>
            <a:ext cx="1065240" cy="1066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00ff"/>
          </a:solidFill>
          <a:ln w="9360">
            <a:solidFill>
              <a:srgbClr val="b05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152880" y="1955880"/>
            <a:ext cx="2816280" cy="1438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0" y="1219320"/>
            <a:ext cx="48546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cuola Superiore Sant’Ann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Memory Managemen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523880" y="5105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useppe Lip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emory partition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fore looking at modern virtual memory systems, we should look at simpler systems that are not used any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p by step we will complicate the management system to arrive to the modern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xed part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ynamic part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ple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rtual memory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rtual memory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1B62-0583-42C5-92D6-498AB9B4F5B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ixed parti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hysical memory is divided into fixed part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form partitions: they all have the sam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n uniform: they can have different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program can be loaded into a partition of equal or greater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 program is too big to be fit into a partition, it cannot be loaded. The programmer should work out a solution, for example by dividing the program into two smaller programs that commun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89DB-AE4D-419E-A749-9E255659251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ixed and Uniform Parti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75760" y="1600200"/>
            <a:ext cx="2172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ixed and Uni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rt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90760" y="2590920"/>
            <a:ext cx="154800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90760" y="3048120"/>
            <a:ext cx="1548000" cy="53316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90760" y="3733920"/>
            <a:ext cx="154800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90760" y="4343400"/>
            <a:ext cx="1548000" cy="9144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12480" y="1828800"/>
            <a:ext cx="19774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cess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33960" y="2286000"/>
            <a:ext cx="1548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33960" y="2971800"/>
            <a:ext cx="1548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33960" y="3657600"/>
            <a:ext cx="1548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33960" y="4343400"/>
            <a:ext cx="1548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33960" y="5029200"/>
            <a:ext cx="1548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33960" y="2666880"/>
            <a:ext cx="1548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33960" y="3124080"/>
            <a:ext cx="1548000" cy="53352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33960" y="4038480"/>
            <a:ext cx="15480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46200" y="5791320"/>
            <a:ext cx="1266840" cy="33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538" y="-32697"/>
                </a:moveTo>
                <a:lnTo>
                  <a:pt x="22800" y="7267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oesn’t f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678720" y="2438280"/>
            <a:ext cx="2080440" cy="2324160"/>
            <a:chOff x="6678720" y="2438280"/>
            <a:chExt cx="2080440" cy="2324160"/>
          </a:xfrm>
        </p:grpSpPr>
        <p:sp>
          <p:nvSpPr>
            <p:cNvPr id="135" name=""/>
            <p:cNvSpPr/>
            <p:nvPr/>
          </p:nvSpPr>
          <p:spPr>
            <a:xfrm>
              <a:off x="7749360" y="4114800"/>
              <a:ext cx="10098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waste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sp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6678720" y="2438280"/>
              <a:ext cx="568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6678720" y="3048120"/>
              <a:ext cx="568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6678720" y="3809880"/>
              <a:ext cx="568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243920" y="2438280"/>
              <a:ext cx="144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243920" y="4419720"/>
              <a:ext cx="633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720F-3AF9-4224-89A5-5463CD505638}" type="slidenum">
              <a:t>1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ixed and non-uniform Parti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62320" y="1600200"/>
            <a:ext cx="160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on-Uni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rt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90760" y="2590920"/>
            <a:ext cx="154800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90760" y="3048120"/>
            <a:ext cx="1548000" cy="53316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90760" y="3733920"/>
            <a:ext cx="154800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90760" y="4343400"/>
            <a:ext cx="1548000" cy="9144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12480" y="1828800"/>
            <a:ext cx="19774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cess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33960" y="2286000"/>
            <a:ext cx="1548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33960" y="2666880"/>
            <a:ext cx="1548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33960" y="3048120"/>
            <a:ext cx="1548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33960" y="3733920"/>
            <a:ext cx="1548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33960" y="4419720"/>
            <a:ext cx="15480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33960" y="2362320"/>
            <a:ext cx="154800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33960" y="3200400"/>
            <a:ext cx="1548000" cy="53352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33960" y="2743200"/>
            <a:ext cx="15480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33960" y="4800600"/>
            <a:ext cx="1548000" cy="9144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678720" y="2362320"/>
            <a:ext cx="2183400" cy="2953800"/>
            <a:chOff x="6678720" y="2362320"/>
            <a:chExt cx="2183400" cy="2953800"/>
          </a:xfrm>
        </p:grpSpPr>
        <p:sp>
          <p:nvSpPr>
            <p:cNvPr id="158" name=""/>
            <p:cNvSpPr/>
            <p:nvPr/>
          </p:nvSpPr>
          <p:spPr>
            <a:xfrm>
              <a:off x="7651080" y="4114800"/>
              <a:ext cx="1211040" cy="12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waste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sp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(less th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before)</a:t>
              </a: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6678720" y="2362320"/>
              <a:ext cx="568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6678720" y="2743200"/>
              <a:ext cx="568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6678720" y="3124080"/>
              <a:ext cx="568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43920" y="2362320"/>
              <a:ext cx="144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43920" y="4419720"/>
              <a:ext cx="633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678720" y="4648320"/>
              <a:ext cx="568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B48D-E853-4276-9200-85A0AFA207A5}" type="slidenum">
              <a:t>13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lacement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5400" y="1144440"/>
            <a:ext cx="825948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form part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ivial: every program can be loaded in any partition, it does not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ll partitions are full, one process is swapped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n-uniform part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algorith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ign each process to the smallest partition that can hold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two process can fit in the same partitions, one is swapped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queue for every par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 algorith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ign each process to the smallest free partition that can hold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there are no more partitions, swap out the process in the smallest partition that can hold the desir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819A-A2E6-4E64-89BE-40341C152BD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blems with fixed parti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iform part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s: we may waste a lot of space (small programs will occupy one partition). This problem is calle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nternal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n uniform part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 algorithm: reduces internal fragmentation, but a lot of swapping in and out. Some part of memory may remain un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ond algorithm: good use of memory, but internal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A475-DADB-42D7-99BD-5065775B3B7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ynamic parti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overcome the internal fragmentation memory, we can compute the size of each partition dynam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the system start-up there is only one single par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a process is loaded, if there is a free partition big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ree partition is splitted in t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irst one has exactly the size of th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econd one has the remaining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2AAF-47CE-4012-B6C3-0FBDCFFAE5A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ynamic Parti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90760" y="2590920"/>
            <a:ext cx="154800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90760" y="3048120"/>
            <a:ext cx="1548000" cy="53316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0760" y="3733920"/>
            <a:ext cx="154800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33960" y="3429000"/>
            <a:ext cx="1548000" cy="9144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12480" y="1828800"/>
            <a:ext cx="19774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cess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33960" y="2286000"/>
            <a:ext cx="1548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33960" y="2286000"/>
            <a:ext cx="1548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33960" y="2590920"/>
            <a:ext cx="1548000" cy="53316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33960" y="3124080"/>
            <a:ext cx="15480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38920" y="4572000"/>
            <a:ext cx="180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o in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ragm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12840" y="1600200"/>
            <a:ext cx="221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ynamic Part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90760" y="4343400"/>
            <a:ext cx="1548000" cy="9144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866C-FECF-44C2-9BDD-7536E6FE25E5}" type="slidenum">
              <a:t>17</a:t>
            </a:fld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ble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 process are created and destroyed, a lot of small partitions may a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are called “ho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problem is called “external fragment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may be overcome with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mp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it takes a lot of tim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ton Disk de-fragmen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1BE6-B114-421F-847F-6372F4AB37A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ragment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33960" y="2286000"/>
            <a:ext cx="1548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90760" y="2057400"/>
            <a:ext cx="1548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390760" y="2514600"/>
            <a:ext cx="1548000" cy="53352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390760" y="3200400"/>
            <a:ext cx="15480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12480" y="1295280"/>
            <a:ext cx="19774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cess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390760" y="3657600"/>
            <a:ext cx="1548000" cy="9144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90760" y="4724280"/>
            <a:ext cx="154800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90760" y="5486400"/>
            <a:ext cx="1548000" cy="38088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33960" y="2286000"/>
            <a:ext cx="1548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33960" y="2590920"/>
            <a:ext cx="1548000" cy="53316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33960" y="3124080"/>
            <a:ext cx="15480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33960" y="3429000"/>
            <a:ext cx="1548000" cy="9144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33960" y="2286000"/>
            <a:ext cx="1548000" cy="30492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676560" y="2286000"/>
            <a:ext cx="2131200" cy="647640"/>
            <a:chOff x="6676560" y="2286000"/>
            <a:chExt cx="2131200" cy="647640"/>
          </a:xfrm>
        </p:grpSpPr>
        <p:sp>
          <p:nvSpPr>
            <p:cNvPr id="201" name=""/>
            <p:cNvSpPr/>
            <p:nvPr/>
          </p:nvSpPr>
          <p:spPr>
            <a:xfrm>
              <a:off x="7302600" y="2286000"/>
              <a:ext cx="15051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PE does no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fit here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6676560" y="2435400"/>
              <a:ext cx="709560" cy="1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5133960" y="4343400"/>
            <a:ext cx="15480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33960" y="3124080"/>
            <a:ext cx="1548000" cy="30492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133960" y="4952880"/>
            <a:ext cx="1548000" cy="38124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133960" y="4343400"/>
            <a:ext cx="1548000" cy="60948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224840" y="4343400"/>
            <a:ext cx="1360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o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ragment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B51C-9F5F-4E9C-B5DA-E88DC16C2B06}" type="slidenum">
              <a:t>19</a:t>
            </a:fld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520" y="15084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5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15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15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verview of hardware archite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15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15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cesses and Thre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15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currency: mutual exclusion and synchronis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15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adlock and Starv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15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Arial"/>
              </a:rPr>
              <a:t>Memory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15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15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/O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15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15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istributed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A324-09EE-4D48-8626-8D9E3E1F56A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lacement algorith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41360" y="1219320"/>
            <a:ext cx="824544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lacement algorithm is very important to minimise the h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free partition to split when a process must be loa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can choose the smallest partition which the process fit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st-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generates a small h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can choose the first partition we 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rst-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can choose the next partition after the last one we have ass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xt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one is best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best! depends on the sequence of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D374-D027-4DD5-B9C2-A029B58CB4C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Buddy syst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8160" y="1219320"/>
            <a:ext cx="828828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4880" indent="-52488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similar to the dynamic part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itions can only be of siz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tially there is one single par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a process of size s ar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9440" indent="-37404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the smallest i such that s &lt;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i = ln(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9440" indent="-37404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re is a block of size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then it is assigne to th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9440" indent="-37404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therwise, find the smallest block with size greater than s, suppose it is of size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9440" indent="-37404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lit the block into two smaller blocks of size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k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4160" indent="-33624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i==k-1, assign one block to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94160" indent="-33624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therwise, go to step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0443-9058-4DE9-9DF6-1F2353E463E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Buddy syst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a good compromise between speed and need to reduce fra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ternal fragmentation is not so big, especially for small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other superio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in some special application it is useful and it is still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E079-1175-4E4D-AE1F-7EEDDBC365B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85800" y="156816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QUES: P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5587-B4B5-4B49-B288-17306A810E1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Relo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82480" y="1218960"/>
            <a:ext cx="8102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a way to relocate the process when it is first loaded and when it is swapped in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.e. the address references in the program must b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ransl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to actual addresses in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distingu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gical address: a reference in memory made by the program that needs to be translated into actual address in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ve address: a reference in memory relative to some know point, for example the beginning of th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 address: the real address in the physical memory after the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D545-4889-4FAC-BBE3-AFBAF2E4B91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Hardware support for relo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high-end processor have an internal module called MMU (memory management unit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reference in memory is first passed to the MMU that actually translates the logical address into a 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9EB9-D796-4BFD-B211-7EE59E92E68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ag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ory is divided into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fram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small s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similar to fixed part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these are very small (tipically 4Kb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emory of each process is also divided into pages of the sam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page of the process can be loaded into one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ages must not be necessarily consecutive in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nal fragmentation is very sm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2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the last part of the last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ternal fragmentation is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gle pages can be moved out or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process does not need to be entirely on the main memory at the same ti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C027-6DD3-4F14-AC47-017F1488ACA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ages and Fram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48360" y="1828800"/>
            <a:ext cx="1201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50040" y="59436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54840" y="59436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250040" y="144792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54840" y="144792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48360" y="2286000"/>
            <a:ext cx="1201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48360" y="2743200"/>
            <a:ext cx="1201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48360" y="3200400"/>
            <a:ext cx="1201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48360" y="3657600"/>
            <a:ext cx="1201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48360" y="4114800"/>
            <a:ext cx="1201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48360" y="4572000"/>
            <a:ext cx="1201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48360" y="5029200"/>
            <a:ext cx="1201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48360" y="5486400"/>
            <a:ext cx="1201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470000" y="1447920"/>
            <a:ext cx="1081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h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frames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81200" y="1752480"/>
            <a:ext cx="12081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81200" y="2209680"/>
            <a:ext cx="12081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81200" y="2666880"/>
            <a:ext cx="12081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81200" y="3124080"/>
            <a:ext cx="12081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81200" y="3581280"/>
            <a:ext cx="12081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16760" y="1386000"/>
            <a:ext cx="1355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cess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87680" y="4800600"/>
            <a:ext cx="120168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87680" y="5257800"/>
            <a:ext cx="120168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87680" y="5715000"/>
            <a:ext cx="120168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96600" y="4433760"/>
            <a:ext cx="1358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cess 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41880" y="4114800"/>
            <a:ext cx="12081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48360" y="4572000"/>
            <a:ext cx="120168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48360" y="5029200"/>
            <a:ext cx="12081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41880" y="2286000"/>
            <a:ext cx="12081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48360" y="2743200"/>
            <a:ext cx="120168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48360" y="3657600"/>
            <a:ext cx="12081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48360" y="3200400"/>
            <a:ext cx="120168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48360" y="5486400"/>
            <a:ext cx="12081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CEDD-D8CA-4BEE-9BE5-6ECD711FE26B}" type="slidenum">
              <a:t>27</a:t>
            </a:fld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dur="indefinite" fill="hold">
                      <p:stCondLst>
                        <p:cond delay="indefinite"/>
                      </p:stCondLst>
                      <p:childTnLst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dur="indefinite" fill="hold">
                      <p:stCondLst>
                        <p:cond delay="indefinite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dur="indefinite" fill="hold">
                      <p:stCondLst>
                        <p:cond delay="indefinite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age tab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499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logical address can be divided into two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5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first part is the 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5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econd part is the offset relative to the beginning of the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499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 pages of 4 Kb, addresses on 32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5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 bits are for page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5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 bits are off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499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S maintains a page table for each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5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each page, it stores the frame address in the re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499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translate logical addresses into physical addresses we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5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tain the 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5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tain the frame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5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 the offset to the frame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499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rdware support: see nex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02E5-E1E4-4BD7-88C7-974741355D2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age tab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375000" y="1838160"/>
            <a:ext cx="274320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00....0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18200" y="1838160"/>
            <a:ext cx="126684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0100...1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77440" y="1736640"/>
            <a:ext cx="20368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ogical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08840" y="1457280"/>
            <a:ext cx="1707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ffset (12 bits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035240" y="1457280"/>
            <a:ext cx="1639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87680" y="2905200"/>
            <a:ext cx="27432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1010...1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30880" y="2905200"/>
            <a:ext cx="12664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430880" y="3133800"/>
            <a:ext cx="12664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30880" y="3362400"/>
            <a:ext cx="12664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430880" y="3591000"/>
            <a:ext cx="12664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30880" y="3819600"/>
            <a:ext cx="12664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30880" y="4048200"/>
            <a:ext cx="12664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430880" y="4276800"/>
            <a:ext cx="12664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430880" y="4505400"/>
            <a:ext cx="12664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430880" y="4734000"/>
            <a:ext cx="12664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68240" y="5038560"/>
            <a:ext cx="14943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ag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64240" y="2905200"/>
            <a:ext cx="589320" cy="3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164240" y="3133800"/>
            <a:ext cx="589320" cy="3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0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64240" y="3362400"/>
            <a:ext cx="589320" cy="3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0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64240" y="3591000"/>
            <a:ext cx="589320" cy="3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0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64240" y="3819600"/>
            <a:ext cx="589320" cy="3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0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64240" y="4048200"/>
            <a:ext cx="589320" cy="3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01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64240" y="4276800"/>
            <a:ext cx="589320" cy="3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0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64240" y="4505400"/>
            <a:ext cx="589320" cy="3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0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164240" y="4734000"/>
            <a:ext cx="589320" cy="3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687680" y="3133800"/>
            <a:ext cx="27432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0000...1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687680" y="3362400"/>
            <a:ext cx="27432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0111...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87680" y="3591000"/>
            <a:ext cx="27432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0110...0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87680" y="3819600"/>
            <a:ext cx="27432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0010...1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687680" y="4048200"/>
            <a:ext cx="27432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1000...0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87680" y="4276800"/>
            <a:ext cx="27432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0010...1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87680" y="4505400"/>
            <a:ext cx="27432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0000...0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687680" y="4734000"/>
            <a:ext cx="27432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0010...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29800" y="2219400"/>
            <a:ext cx="1415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ble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06520" y="2523960"/>
            <a:ext cx="6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"/>
          <p:cNvCxnSpPr>
            <a:stCxn id="258" idx="2"/>
            <a:endCxn id="263" idx="0"/>
          </p:cNvCxnSpPr>
          <p:nvPr/>
        </p:nvCxnSpPr>
        <p:spPr>
          <a:xfrm flipV="1" rot="10800000">
            <a:off x="3058560" y="2066400"/>
            <a:ext cx="16880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94" name=""/>
          <p:cNvGrpSpPr/>
          <p:nvPr/>
        </p:nvGrpSpPr>
        <p:grpSpPr>
          <a:xfrm>
            <a:off x="4572000" y="4113360"/>
            <a:ext cx="2743200" cy="1611000"/>
            <a:chOff x="4572000" y="4113360"/>
            <a:chExt cx="2743200" cy="1611000"/>
          </a:xfrm>
        </p:grpSpPr>
        <p:sp>
          <p:nvSpPr>
            <p:cNvPr id="295" name=""/>
            <p:cNvSpPr/>
            <p:nvPr/>
          </p:nvSpPr>
          <p:spPr>
            <a:xfrm>
              <a:off x="4572000" y="5495760"/>
              <a:ext cx="2743200" cy="228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1000...00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5695920" y="4113360"/>
              <a:ext cx="382680" cy="1374480"/>
              <a:chOff x="5695920" y="4113360"/>
              <a:chExt cx="382680" cy="1374480"/>
            </a:xfrm>
          </p:grpSpPr>
          <p:sp>
            <p:nvSpPr>
              <p:cNvPr id="297" name=""/>
              <p:cNvSpPr/>
              <p:nvPr/>
            </p:nvSpPr>
            <p:spPr>
              <a:xfrm flipV="1">
                <a:off x="6076800" y="4113360"/>
                <a:ext cx="1800" cy="13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95920" y="4133880"/>
                <a:ext cx="380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9" name=""/>
          <p:cNvGrpSpPr/>
          <p:nvPr/>
        </p:nvGrpSpPr>
        <p:grpSpPr>
          <a:xfrm>
            <a:off x="6751800" y="2066400"/>
            <a:ext cx="1828800" cy="3657960"/>
            <a:chOff x="6751800" y="2066400"/>
            <a:chExt cx="1828800" cy="3657960"/>
          </a:xfrm>
        </p:grpSpPr>
        <p:sp>
          <p:nvSpPr>
            <p:cNvPr id="300" name=""/>
            <p:cNvSpPr/>
            <p:nvPr/>
          </p:nvSpPr>
          <p:spPr>
            <a:xfrm>
              <a:off x="7313760" y="5495760"/>
              <a:ext cx="1266840" cy="22860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0100...11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1" name=""/>
            <p:cNvCxnSpPr>
              <a:endCxn id="300" idx="0"/>
            </p:cNvCxnSpPr>
            <p:nvPr/>
          </p:nvCxnSpPr>
          <p:spPr>
            <a:xfrm>
              <a:off x="6751800" y="2066400"/>
              <a:ext cx="1195920" cy="3429720"/>
            </a:xfrm>
            <a:prstGeom prst="bentConnector3">
              <a:avLst>
                <a:gd name="adj1" fmla="val 4998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02" name=""/>
          <p:cNvSpPr/>
          <p:nvPr/>
        </p:nvSpPr>
        <p:spPr>
          <a:xfrm>
            <a:off x="3577680" y="5775480"/>
            <a:ext cx="21542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hysical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BA82-2717-4C00-92F4-11DA666EBA60}" type="slidenum">
              <a:t>29</a:t>
            </a:fld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Requiremen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quirements for a memor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gical 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sical 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2DAA-3CC3-4F88-A6B7-3F89CC802AA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68080" y="1219320"/>
            <a:ext cx="81169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to p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program is divided into “segments” of differen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segment is assigned a base address and a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program is associated a “segment ta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y similar to paging but segments are fewer and la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ivision in segments is usually done by the compiler and by the lin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one or more segments for the code, one or more segments for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132A-006C-4367-B8B8-4D1F6E4C8F9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Virtual memor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55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using paging and segmentation, we are ready to implement a memory management system (virtual memory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ually, virtual memory is based on pagi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hought all modern virtual memory systems use both paging and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t us start by describing the basic hardware mechanisms necessary to virtual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E978-9596-4E92-A416-D8E6FAF38438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ag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t us start by analysing the paging mechanism in more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page table, we need two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: is the page is present in memory. In virtual memory it is possible to swap out only some of the process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: set to 1 when the page is modified. If it is not modified we do not need to write it to disk when we swap out (think of code pages for exampl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bits can be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: if the page is shared or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: if the page was recently used or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16B8-ABF6-489E-B8D5-45645DCF3F3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Hardware structures for pag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ge table must be loaded 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, page tables may be h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the maximum number of elements of a process page ta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means that page tables are stored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n virtual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ge tables are kernel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stay on the virtual memory of the 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 of the page table can be swapped out on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03F2-90F7-4836-AEF0-204D444F4762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wo-level structur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processor makes use of a two leve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root page table holds address of segments of the pag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age number is divided into two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 bits for the index in the root pag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 bits are offsets in the pag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other mechanism consists in using an hash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3F43-23EB-4F92-82AA-50FA97E1FB1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wo-level structur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813040" y="1523880"/>
            <a:ext cx="133668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00....0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486400" y="1523880"/>
            <a:ext cx="126684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0100...1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149720" y="1523880"/>
            <a:ext cx="133668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00....11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13680" y="1432080"/>
            <a:ext cx="20368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ogical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77040" y="1157400"/>
            <a:ext cx="1707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ffset (12 bits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03440" y="1157400"/>
            <a:ext cx="1639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06520" y="23623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406520" y="25909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406520" y="28195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406520" y="30481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228680" y="3276720"/>
            <a:ext cx="2026440" cy="11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oot 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contains the phy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address of the 2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level page table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27440" y="21337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727440" y="23623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727440" y="25909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27440" y="28195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727440" y="32767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727440" y="35053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27440" y="37339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727440" y="39625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727440" y="449568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727440" y="472428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727440" y="495288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727440" y="518148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386880" y="5545080"/>
            <a:ext cx="23356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level page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contains the phy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address of the frame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"/>
          <p:cNvCxnSpPr>
            <a:stCxn id="314" idx="2"/>
            <a:endCxn id="320" idx="0"/>
          </p:cNvCxnSpPr>
          <p:nvPr/>
        </p:nvCxnSpPr>
        <p:spPr>
          <a:xfrm flipV="1" rot="10800000">
            <a:off x="2074320" y="1752120"/>
            <a:ext cx="1407240" cy="610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9" name=""/>
          <p:cNvCxnSpPr>
            <a:stCxn id="321" idx="3"/>
            <a:endCxn id="329" idx="1"/>
          </p:cNvCxnSpPr>
          <p:nvPr/>
        </p:nvCxnSpPr>
        <p:spPr>
          <a:xfrm>
            <a:off x="2743200" y="2704680"/>
            <a:ext cx="984960" cy="68652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0" name=""/>
          <p:cNvSpPr/>
          <p:nvPr/>
        </p:nvSpPr>
        <p:spPr>
          <a:xfrm>
            <a:off x="5978520" y="388620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3760" y="3886200"/>
            <a:ext cx="126684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0100...1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"/>
          <p:cNvCxnSpPr>
            <a:stCxn id="316" idx="2"/>
            <a:endCxn id="329" idx="0"/>
          </p:cNvCxnSpPr>
          <p:nvPr/>
        </p:nvCxnSpPr>
        <p:spPr>
          <a:xfrm flipV="1" rot="10800000">
            <a:off x="4395240" y="1752120"/>
            <a:ext cx="423000" cy="1524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3" name=""/>
          <p:cNvCxnSpPr>
            <a:stCxn id="331" idx="3"/>
            <a:endCxn id="340" idx="1"/>
          </p:cNvCxnSpPr>
          <p:nvPr/>
        </p:nvCxnSpPr>
        <p:spPr>
          <a:xfrm>
            <a:off x="5064120" y="3848040"/>
            <a:ext cx="915120" cy="1533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4" name=""/>
          <p:cNvSpPr/>
          <p:nvPr/>
        </p:nvSpPr>
        <p:spPr>
          <a:xfrm>
            <a:off x="6409440" y="4191120"/>
            <a:ext cx="1956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hysica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"/>
          <p:cNvCxnSpPr>
            <a:stCxn id="315" idx="2"/>
            <a:endCxn id="341" idx="0"/>
          </p:cNvCxnSpPr>
          <p:nvPr/>
        </p:nvCxnSpPr>
        <p:spPr>
          <a:xfrm>
            <a:off x="6118200" y="1752120"/>
            <a:ext cx="1829520" cy="21344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6" name=""/>
          <p:cNvSpPr/>
          <p:nvPr/>
        </p:nvSpPr>
        <p:spPr>
          <a:xfrm>
            <a:off x="941400" y="5181480"/>
            <a:ext cx="221976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ach table is 4 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10 bits of address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nd it occup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xactly one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1898640" y="4416480"/>
            <a:ext cx="139680" cy="69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2320920" y="4950000"/>
            <a:ext cx="1195560" cy="15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109960" y="3959280"/>
            <a:ext cx="1406520" cy="114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F7FC-1F54-4FDB-A30F-8F9ED6E64E06}" type="slidenum">
              <a:t>35</a:t>
            </a:fld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dur="indefinite" fill="hold">
                      <p:stCondLst>
                        <p:cond delay="indefinite"/>
                      </p:stCondLst>
                      <p:childTnLst>
                        <p:par>
                          <p:cTn id="1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dur="indefinite" fill="hold">
                      <p:stCondLst>
                        <p:cond delay="indefinite"/>
                      </p:stCondLst>
                      <p:childTnLst>
                        <p:par>
                          <p:cTn id="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dur="indefinite" fill="hold">
                      <p:stCondLst>
                        <p:cond delay="indefinite"/>
                      </p:stCondLst>
                      <p:childTnLst>
                        <p:par>
                          <p:cTn id="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dur="indefinite" fill="hold">
                      <p:stCondLst>
                        <p:cond delay="indefinite"/>
                      </p:stCondLst>
                      <p:childTnLst>
                        <p:par>
                          <p:cTn id="1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dur="indefinite" fill="hold">
                      <p:stCondLst>
                        <p:cond delay="indefinite"/>
                      </p:stCondLst>
                      <p:childTnLst>
                        <p:par>
                          <p:cTn id="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LB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ranslation lookaside buffer is used to speed up the paging mechanis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access in memory would require two more ac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for getting the frame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ther one for the real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LB is a cache for frame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a small array that contains a small subset of elements of the pag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managed like a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llowing the principle of locality of a program, only rarely we need to access the page table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6EC3-498F-4217-8C62-5A7224CEAAF7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25360" y="3809880"/>
            <a:ext cx="7315200" cy="28195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LB (succesful hit)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92400" y="1523880"/>
            <a:ext cx="133668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00....0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765760" y="1523880"/>
            <a:ext cx="126684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0100...1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29080" y="1523880"/>
            <a:ext cx="133668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00....11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194840" y="1432080"/>
            <a:ext cx="20368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ogical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56400" y="1157400"/>
            <a:ext cx="1707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ffset (12 bits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682800" y="1157400"/>
            <a:ext cx="1639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743200" y="220968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743200" y="243828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743200" y="266688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743200" y="289548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406520" y="2209680"/>
            <a:ext cx="133668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406520" y="2438280"/>
            <a:ext cx="133668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06520" y="2666880"/>
            <a:ext cx="133668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406520" y="2895480"/>
            <a:ext cx="133668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327680" y="3230640"/>
            <a:ext cx="25902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LB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inside processor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476360" y="48769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476360" y="51055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476360" y="53341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476360" y="55627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077120" y="3886200"/>
            <a:ext cx="214956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ge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root and 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level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65480" y="449568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165480" y="472428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165480" y="495288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165480" y="518148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165480" y="55627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165480" y="57913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65480" y="60199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165480" y="62485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074320" y="1752120"/>
            <a:ext cx="3023280" cy="553320"/>
            <a:chOff x="2074320" y="1752120"/>
            <a:chExt cx="3023280" cy="553320"/>
          </a:xfrm>
        </p:grpSpPr>
        <p:cxnSp>
          <p:nvCxnSpPr>
            <p:cNvPr id="383" name=""/>
            <p:cNvCxnSpPr/>
            <p:nvPr/>
          </p:nvCxnSpPr>
          <p:spPr>
            <a:xfrm flipV="1" rot="10800000">
              <a:off x="2074320" y="1847520"/>
              <a:ext cx="1686600" cy="4579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4" name=""/>
            <p:cNvCxnSpPr/>
            <p:nvPr/>
          </p:nvCxnSpPr>
          <p:spPr>
            <a:xfrm flipV="1" rot="10800000">
              <a:off x="2418480" y="1751760"/>
              <a:ext cx="2679120" cy="267120"/>
            </a:xfrm>
            <a:prstGeom prst="bentConnector3">
              <a:avLst>
                <a:gd name="adj1" fmla="val 499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85" name=""/>
          <p:cNvSpPr/>
          <p:nvPr/>
        </p:nvSpPr>
        <p:spPr>
          <a:xfrm>
            <a:off x="4246200" y="2209680"/>
            <a:ext cx="1218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f in TLB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4079880" y="2666880"/>
            <a:ext cx="2320920" cy="228600"/>
            <a:chOff x="4079880" y="2666880"/>
            <a:chExt cx="2320920" cy="228600"/>
          </a:xfrm>
        </p:grpSpPr>
        <p:sp>
          <p:nvSpPr>
            <p:cNvPr id="387" name=""/>
            <p:cNvSpPr/>
            <p:nvPr/>
          </p:nvSpPr>
          <p:spPr>
            <a:xfrm>
              <a:off x="5064120" y="2666880"/>
              <a:ext cx="1336680" cy="228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8" name=""/>
            <p:cNvCxnSpPr>
              <a:endCxn id="387" idx="1"/>
            </p:cNvCxnSpPr>
            <p:nvPr/>
          </p:nvCxnSpPr>
          <p:spPr>
            <a:xfrm>
              <a:off x="4079880" y="2781360"/>
              <a:ext cx="9849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89" name=""/>
          <p:cNvSpPr/>
          <p:nvPr/>
        </p:nvSpPr>
        <p:spPr>
          <a:xfrm>
            <a:off x="6400800" y="2666880"/>
            <a:ext cx="126684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0100...1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0" name=""/>
          <p:cNvCxnSpPr>
            <a:stCxn id="355" idx="2"/>
            <a:endCxn id="389" idx="0"/>
          </p:cNvCxnSpPr>
          <p:nvPr/>
        </p:nvCxnSpPr>
        <p:spPr>
          <a:xfrm>
            <a:off x="6397560" y="1752480"/>
            <a:ext cx="635760" cy="915120"/>
          </a:xfrm>
          <a:prstGeom prst="bentConnector3">
            <a:avLst>
              <a:gd name="adj1" fmla="val 499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1" name=""/>
          <p:cNvCxnSpPr>
            <a:stCxn id="389" idx="3"/>
            <a:endCxn id="392" idx="3"/>
          </p:cNvCxnSpPr>
          <p:nvPr/>
        </p:nvCxnSpPr>
        <p:spPr>
          <a:xfrm>
            <a:off x="7666200" y="2781360"/>
            <a:ext cx="141840" cy="2629440"/>
          </a:xfrm>
          <a:prstGeom prst="bentConnector3">
            <a:avLst>
              <a:gd name="adj1" fmla="val 498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3" name=""/>
          <p:cNvSpPr/>
          <p:nvPr/>
        </p:nvSpPr>
        <p:spPr>
          <a:xfrm>
            <a:off x="7733160" y="2133720"/>
            <a:ext cx="1146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em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c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81960" y="4267080"/>
            <a:ext cx="1125360" cy="45720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681960" y="4724280"/>
            <a:ext cx="1125360" cy="45720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681960" y="5181480"/>
            <a:ext cx="1125360" cy="45720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681960" y="5638680"/>
            <a:ext cx="1125360" cy="45720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6680160" y="3959280"/>
            <a:ext cx="1800" cy="311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7807320" y="3959280"/>
            <a:ext cx="1440" cy="311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6680160" y="6093000"/>
            <a:ext cx="1800" cy="311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7807320" y="6093000"/>
            <a:ext cx="1440" cy="311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144F-1573-4262-9CD9-FBF7DC3A5AD2}" type="slidenum">
              <a:t>37</a:t>
            </a:fld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dur="indefinite" fill="hold">
                      <p:stCondLst>
                        <p:cond delay="indefinite"/>
                      </p:stCondLst>
                      <p:childTnLst>
                        <p:par>
                          <p:cTn id="1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dur="indefinite" fill="hold">
                      <p:stCondLst>
                        <p:cond delay="indefinite"/>
                      </p:stCondLst>
                      <p:childTnLst>
                        <p:par>
                          <p:cTn id="2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dur="indefinite" fill="hold">
                      <p:stCondLst>
                        <p:cond delay="indefinite"/>
                      </p:stCondLst>
                      <p:childTnLst>
                        <p:par>
                          <p:cTn id="2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dur="indefinite" fill="hold">
                      <p:stCondLst>
                        <p:cond delay="indefinite"/>
                      </p:stCondLst>
                      <p:childTnLst>
                        <p:par>
                          <p:cTn id="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dur="indefinite" fill="hold">
                      <p:stCondLst>
                        <p:cond delay="indefinite"/>
                      </p:stCondLst>
                      <p:childTnLst>
                        <p:par>
                          <p:cTn id="2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dur="indefinite" fill="hold">
                      <p:stCondLst>
                        <p:cond delay="indefinite"/>
                      </p:stCondLst>
                      <p:childTnLst>
                        <p:par>
                          <p:cTn id="2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dur="indefinite" fill="hold">
                      <p:stCondLst>
                        <p:cond delay="indefinite"/>
                      </p:stCondLst>
                      <p:childTnLst>
                        <p:par>
                          <p:cTn id="2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LB (miss)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125360" y="3809880"/>
            <a:ext cx="7315200" cy="28195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375000" y="1523880"/>
            <a:ext cx="133668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00....0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046920" y="1523880"/>
            <a:ext cx="126684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0100...1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10240" y="1523880"/>
            <a:ext cx="133668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00....11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475640" y="1432080"/>
            <a:ext cx="20368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ogical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037560" y="1157400"/>
            <a:ext cx="1707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ffset (12 bits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63600" y="1157400"/>
            <a:ext cx="1639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251080" y="208764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251080" y="231624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251080" y="254484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251080" y="277344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14400" y="2087640"/>
            <a:ext cx="133668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914400" y="2316240"/>
            <a:ext cx="133668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914400" y="2544840"/>
            <a:ext cx="133668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14400" y="2773440"/>
            <a:ext cx="133668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35560" y="2971800"/>
            <a:ext cx="25902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LB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inside processor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6360" y="48769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476360" y="51055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476360" y="53341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476360" y="55627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094400" y="3886200"/>
            <a:ext cx="214956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ge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root and 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level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165480" y="449568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165480" y="472428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65480" y="495288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165480" y="518148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165480" y="55627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65480" y="57913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165480" y="60199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165480" y="624852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400800" y="2666880"/>
            <a:ext cx="126684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0100...1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2" name=""/>
          <p:cNvCxnSpPr>
            <a:stCxn id="404" idx="2"/>
            <a:endCxn id="431" idx="0"/>
          </p:cNvCxnSpPr>
          <p:nvPr/>
        </p:nvCxnSpPr>
        <p:spPr>
          <a:xfrm>
            <a:off x="6679800" y="1752480"/>
            <a:ext cx="354600" cy="915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31" idx="3"/>
            <a:endCxn id="434" idx="3"/>
          </p:cNvCxnSpPr>
          <p:nvPr/>
        </p:nvCxnSpPr>
        <p:spPr>
          <a:xfrm>
            <a:off x="7666200" y="2781360"/>
            <a:ext cx="141840" cy="2629440"/>
          </a:xfrm>
          <a:prstGeom prst="bentConnector3">
            <a:avLst>
              <a:gd name="adj1" fmla="val 498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5" name=""/>
          <p:cNvSpPr/>
          <p:nvPr/>
        </p:nvSpPr>
        <p:spPr>
          <a:xfrm>
            <a:off x="7586280" y="2133720"/>
            <a:ext cx="1337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3 mem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cces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6" name=""/>
          <p:cNvCxnSpPr>
            <a:stCxn id="405" idx="2"/>
            <a:endCxn id="423" idx="0"/>
          </p:cNvCxnSpPr>
          <p:nvPr/>
        </p:nvCxnSpPr>
        <p:spPr>
          <a:xfrm flipV="1" rot="10800000">
            <a:off x="3831480" y="1752120"/>
            <a:ext cx="1545480" cy="2743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7" name=""/>
          <p:cNvCxnSpPr>
            <a:stCxn id="403" idx="2"/>
            <a:endCxn id="418" idx="0"/>
          </p:cNvCxnSpPr>
          <p:nvPr/>
        </p:nvCxnSpPr>
        <p:spPr>
          <a:xfrm flipV="1" rot="10800000">
            <a:off x="2144160" y="1752120"/>
            <a:ext cx="1897560" cy="3125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19" idx="3"/>
            <a:endCxn id="423" idx="1"/>
          </p:cNvCxnSpPr>
          <p:nvPr/>
        </p:nvCxnSpPr>
        <p:spPr>
          <a:xfrm flipV="1">
            <a:off x="2812680" y="4609440"/>
            <a:ext cx="353160" cy="610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9" name=""/>
          <p:cNvCxnSpPr>
            <a:stCxn id="424" idx="3"/>
            <a:endCxn id="440" idx="2"/>
          </p:cNvCxnSpPr>
          <p:nvPr/>
        </p:nvCxnSpPr>
        <p:spPr>
          <a:xfrm flipV="1">
            <a:off x="4500360" y="2895120"/>
            <a:ext cx="1230840" cy="1944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5064120" y="266688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681960" y="4267080"/>
            <a:ext cx="1125360" cy="45720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681960" y="4724280"/>
            <a:ext cx="1125360" cy="45720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681960" y="5181480"/>
            <a:ext cx="1125360" cy="45720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681960" y="5638680"/>
            <a:ext cx="1125360" cy="45720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6680160" y="3959280"/>
            <a:ext cx="1800" cy="311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7807320" y="3959280"/>
            <a:ext cx="1440" cy="311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6680160" y="6093000"/>
            <a:ext cx="1800" cy="311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7807320" y="6093000"/>
            <a:ext cx="1440" cy="311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8" name=""/>
          <p:cNvCxnSpPr>
            <a:stCxn id="440" idx="1"/>
            <a:endCxn id="410" idx="3"/>
          </p:cNvCxnSpPr>
          <p:nvPr/>
        </p:nvCxnSpPr>
        <p:spPr>
          <a:xfrm rot="10800000">
            <a:off x="3585600" y="2429640"/>
            <a:ext cx="1477080" cy="351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DDE6-708A-40AE-B04C-AB2E0A488EE0}" type="slidenum">
              <a:t>38</a:t>
            </a:fld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dur="indefinite" fill="hold">
                      <p:stCondLst>
                        <p:cond delay="indefinite"/>
                      </p:stCondLst>
                      <p:childTnLst>
                        <p:par>
                          <p:cTn id="2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dur="indefinite" fill="hold">
                      <p:stCondLst>
                        <p:cond delay="indefinite"/>
                      </p:stCondLst>
                      <p:childTnLst>
                        <p:par>
                          <p:cTn id="2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dur="indefinite" fill="hold">
                      <p:stCondLst>
                        <p:cond delay="indefinite"/>
                      </p:stCondLst>
                      <p:childTnLst>
                        <p:par>
                          <p:cTn id="2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dur="indefinite" fill="hold">
                      <p:stCondLst>
                        <p:cond delay="indefinite"/>
                      </p:stCondLst>
                      <p:childTnLst>
                        <p:par>
                          <p:cTn id="2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dur="indefinite" fill="hold">
                      <p:stCondLst>
                        <p:cond delay="indefinite"/>
                      </p:stCondLst>
                      <p:childTnLst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dur="indefinite" fill="hold">
                      <p:stCondLst>
                        <p:cond delay="indefinite"/>
                      </p:stCondLst>
                      <p:childTnLst>
                        <p:par>
                          <p:cTn id="2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dur="indefinite" fill="hold">
                      <p:stCondLst>
                        <p:cond delay="indefinite"/>
                      </p:stCondLst>
                      <p:childTnLst>
                        <p:par>
                          <p:cTn id="2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dur="indefinite" fill="hold">
                      <p:stCondLst>
                        <p:cond delay="indefinite"/>
                      </p:stCondLst>
                      <p:childTnLst>
                        <p:par>
                          <p:cTn id="2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dur="indefinite" fill="hold">
                      <p:stCondLst>
                        <p:cond delay="indefinite"/>
                      </p:stCondLst>
                      <p:childTnLst>
                        <p:par>
                          <p:cTn id="2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dur="indefinite" fill="hold">
                      <p:stCondLst>
                        <p:cond delay="indefinite"/>
                      </p:stCondLst>
                      <p:childTnLst>
                        <p:par>
                          <p:cTn id="2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age faul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f a page is not present in main mem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a process accesses a page with P=0, an exception (trap) occurs and an operating system interrupt handler is exec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terrupt is part of the virtual memory sub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must deci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ther to load just one page or 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ther to unload some oth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97EC-859C-45F8-BD70-C41CD35657D3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Relo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programs can be in memory at the sam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do not know where in memory the program will be loa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over, a program can be swapped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it is swapped in, we cannot expect it to be loaded in the sam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to deal with absolute addr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 an absolute branch in a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10DD-1C58-49EE-B9E5-AC5CB2BCEF29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egmen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most modern processors, paging and segmentation techniques are comb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g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oid external seg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ce way of supporting virtual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oid internal seg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8B14-F460-4AB8-9D40-7266E1906639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85800" y="156816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QUES: SE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FD0A-B6F3-4EC1-9AED-BC0D57F7D605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ombining segments and pag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68240" y="1219320"/>
            <a:ext cx="791856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rocess, a set of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segment, a different pag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-27972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ddress is divided into three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gment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fset in the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-27972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segment is associated a base address (that starts with the page table) and a bound address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t the segment base address by looking in the segment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 with the b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o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24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d the page numer: obtain an address in a page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24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et the frame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24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d the offset: obtain the final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FFDE-2B3E-4B22-A900-CEB81D40F6C4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egments and pag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460600" y="1600200"/>
            <a:ext cx="119700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657600" y="1600200"/>
            <a:ext cx="147780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33960" y="1600200"/>
            <a:ext cx="147780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085840" y="1219320"/>
            <a:ext cx="1543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egment 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69280" y="1219320"/>
            <a:ext cx="111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ge 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513040" y="1219320"/>
            <a:ext cx="798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547640" y="434340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547640" y="457200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547640" y="480060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547640" y="502920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547640" y="548640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547640" y="571500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547640" y="594360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547640" y="617220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2" name=""/>
          <p:cNvCxnSpPr>
            <a:stCxn id="458" idx="1"/>
            <a:endCxn id="464" idx="1"/>
          </p:cNvCxnSpPr>
          <p:nvPr/>
        </p:nvCxnSpPr>
        <p:spPr>
          <a:xfrm flipV="1" rot="10800000">
            <a:off x="1546920" y="1714320"/>
            <a:ext cx="915120" cy="274392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3" name=""/>
          <p:cNvSpPr/>
          <p:nvPr/>
        </p:nvSpPr>
        <p:spPr>
          <a:xfrm>
            <a:off x="1215720" y="1981080"/>
            <a:ext cx="88020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elec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whi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59" idx="2"/>
            <a:endCxn id="464" idx="0"/>
          </p:cNvCxnSpPr>
          <p:nvPr/>
        </p:nvCxnSpPr>
        <p:spPr>
          <a:xfrm flipV="1" rot="10800000">
            <a:off x="2214000" y="1828440"/>
            <a:ext cx="2180160" cy="2515320"/>
          </a:xfrm>
          <a:prstGeom prst="bentConnector3">
            <a:avLst>
              <a:gd name="adj1" fmla="val 499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5486400" y="4572000"/>
            <a:ext cx="133668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21640" y="4572000"/>
            <a:ext cx="147780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66" idx="3"/>
            <a:endCxn id="475" idx="1"/>
          </p:cNvCxnSpPr>
          <p:nvPr/>
        </p:nvCxnSpPr>
        <p:spPr>
          <a:xfrm flipV="1">
            <a:off x="2882880" y="4685760"/>
            <a:ext cx="2604240" cy="229320"/>
          </a:xfrm>
          <a:prstGeom prst="bentConnector3">
            <a:avLst>
              <a:gd name="adj1" fmla="val 499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8" name=""/>
          <p:cNvCxnSpPr>
            <a:stCxn id="460" idx="3"/>
            <a:endCxn id="476" idx="0"/>
          </p:cNvCxnSpPr>
          <p:nvPr/>
        </p:nvCxnSpPr>
        <p:spPr>
          <a:xfrm>
            <a:off x="6609960" y="1714320"/>
            <a:ext cx="950040" cy="2858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75440" y="2895480"/>
            <a:ext cx="352080" cy="38124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593600" y="3657600"/>
            <a:ext cx="169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e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79" idx="4"/>
            <a:endCxn id="480" idx="0"/>
          </p:cNvCxnSpPr>
          <p:nvPr/>
        </p:nvCxnSpPr>
        <p:spPr>
          <a:xfrm flipH="1">
            <a:off x="5438160" y="3276720"/>
            <a:ext cx="118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2" name=""/>
          <p:cNvSpPr/>
          <p:nvPr/>
        </p:nvSpPr>
        <p:spPr>
          <a:xfrm>
            <a:off x="2460600" y="2743200"/>
            <a:ext cx="119700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599200" y="2362320"/>
            <a:ext cx="1002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460600" y="2971800"/>
            <a:ext cx="119700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460600" y="3200400"/>
            <a:ext cx="119700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460600" y="3429000"/>
            <a:ext cx="119700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7" name=""/>
          <p:cNvCxnSpPr>
            <a:stCxn id="458" idx="1"/>
            <a:endCxn id="484" idx="1"/>
          </p:cNvCxnSpPr>
          <p:nvPr/>
        </p:nvCxnSpPr>
        <p:spPr>
          <a:xfrm>
            <a:off x="2460600" y="1714680"/>
            <a:ext cx="2160" cy="137232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8" name=""/>
          <p:cNvCxnSpPr>
            <a:stCxn id="484" idx="3"/>
            <a:endCxn id="479" idx="2"/>
          </p:cNvCxnSpPr>
          <p:nvPr/>
        </p:nvCxnSpPr>
        <p:spPr>
          <a:xfrm>
            <a:off x="3657600" y="3086280"/>
            <a:ext cx="1618560" cy="216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9" name=""/>
          <p:cNvCxnSpPr>
            <a:stCxn id="479" idx="6"/>
            <a:endCxn id="476" idx="0"/>
          </p:cNvCxnSpPr>
          <p:nvPr/>
        </p:nvCxnSpPr>
        <p:spPr>
          <a:xfrm>
            <a:off x="5626080" y="3085920"/>
            <a:ext cx="1936080" cy="14864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0" name=""/>
          <p:cNvSpPr/>
          <p:nvPr/>
        </p:nvSpPr>
        <p:spPr>
          <a:xfrm>
            <a:off x="5576040" y="2681280"/>
            <a:ext cx="354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406480" y="3214800"/>
            <a:ext cx="310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834640" y="5530680"/>
            <a:ext cx="2725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ge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one per each segment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C398-95A5-41D3-B10D-99F855BD6E40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7200" y="1197000"/>
            <a:ext cx="8458200" cy="15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a computer system, the virtual address space consists of addresses of 16 bits length. The processor uses pages of 1 Kb (i.e. 10 bits). Moreover, the processor has a TLB containing only 2 page table entries. The TLB is managed with a LRU policy. Consider the following page table for process P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906480" y="2814480"/>
            <a:ext cx="2181240" cy="3776760"/>
            <a:chOff x="906480" y="2814480"/>
            <a:chExt cx="2181240" cy="3776760"/>
          </a:xfrm>
        </p:grpSpPr>
        <p:sp>
          <p:nvSpPr>
            <p:cNvPr id="496" name=""/>
            <p:cNvSpPr/>
            <p:nvPr/>
          </p:nvSpPr>
          <p:spPr>
            <a:xfrm>
              <a:off x="2657520" y="5427720"/>
              <a:ext cx="4302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781280" y="5427720"/>
              <a:ext cx="8762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101 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906480" y="5427720"/>
              <a:ext cx="874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001 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657520" y="5815080"/>
              <a:ext cx="4302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781280" y="5815080"/>
              <a:ext cx="8762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010 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906480" y="5815080"/>
              <a:ext cx="874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100 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57520" y="5040360"/>
              <a:ext cx="4302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81280" y="5040360"/>
              <a:ext cx="8762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101 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06480" y="5040360"/>
              <a:ext cx="874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001 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657520" y="4653000"/>
              <a:ext cx="4302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781280" y="4653000"/>
              <a:ext cx="8762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010 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906480" y="4653000"/>
              <a:ext cx="874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001 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657520" y="3882960"/>
              <a:ext cx="43020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781280" y="3882960"/>
              <a:ext cx="87624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001 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906480" y="3882960"/>
              <a:ext cx="87480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000 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657520" y="4267080"/>
              <a:ext cx="4302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781280" y="4267080"/>
              <a:ext cx="87624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010 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906480" y="4267080"/>
              <a:ext cx="8748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001 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657520" y="6202440"/>
              <a:ext cx="4302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781280" y="6202440"/>
              <a:ext cx="8762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100 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906480" y="6202440"/>
              <a:ext cx="874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100 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657520" y="3500280"/>
              <a:ext cx="43020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781280" y="3500280"/>
              <a:ext cx="8762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000 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906480" y="3500280"/>
              <a:ext cx="87480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000 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657520" y="3195720"/>
              <a:ext cx="430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781280" y="3195720"/>
              <a:ext cx="876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110 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06480" y="3195720"/>
              <a:ext cx="874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000 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657520" y="2814480"/>
              <a:ext cx="430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781280" y="2814480"/>
              <a:ext cx="8762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Fr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06480" y="2814480"/>
              <a:ext cx="8748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906480" y="2814480"/>
              <a:ext cx="21798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906480" y="3195720"/>
              <a:ext cx="2179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06480" y="3500280"/>
              <a:ext cx="2179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906480" y="3882960"/>
              <a:ext cx="2179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906480" y="6589800"/>
              <a:ext cx="2179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06480" y="2814480"/>
              <a:ext cx="1440" cy="377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781280" y="2814480"/>
              <a:ext cx="1440" cy="377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657520" y="2814480"/>
              <a:ext cx="1440" cy="377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86280" y="2814480"/>
              <a:ext cx="1440" cy="377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06480" y="4653000"/>
              <a:ext cx="2179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06480" y="4267080"/>
              <a:ext cx="2179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06480" y="5040360"/>
              <a:ext cx="2179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906480" y="5427720"/>
              <a:ext cx="2179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906480" y="6202440"/>
              <a:ext cx="2179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906480" y="5815080"/>
              <a:ext cx="2179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3727440" y="2743200"/>
            <a:ext cx="4959360" cy="34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00" indent="-12600">
              <a:lnSpc>
                <a:spcPct val="93000"/>
              </a:lnSpc>
              <a:tabLst>
                <a:tab algn="l" pos="0"/>
                <a:tab algn="l" pos="927000"/>
                <a:tab algn="l" pos="1841400"/>
                <a:tab algn="l" pos="2755800"/>
                <a:tab algn="l" pos="3670200"/>
                <a:tab algn="l" pos="4584600"/>
                <a:tab algn="l" pos="5499000"/>
                <a:tab algn="l" pos="6413400"/>
                <a:tab algn="l" pos="7327800"/>
                <a:tab algn="l" pos="8242200"/>
                <a:tab algn="l" pos="9156600"/>
                <a:tab algn="l" pos="100710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itially, the TLB is empty. For each memory reference (in read only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lnSpc>
                <a:spcPct val="93000"/>
              </a:lnSpc>
              <a:tabLst>
                <a:tab algn="l" pos="0"/>
                <a:tab algn="l" pos="927000"/>
                <a:tab algn="l" pos="1841400"/>
                <a:tab algn="l" pos="2755800"/>
                <a:tab algn="l" pos="3670200"/>
                <a:tab algn="l" pos="4584600"/>
                <a:tab algn="l" pos="5499000"/>
                <a:tab algn="l" pos="6413400"/>
                <a:tab algn="l" pos="7327800"/>
                <a:tab algn="l" pos="8242200"/>
                <a:tab algn="l" pos="9156600"/>
                <a:tab algn="l" pos="100710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27000"/>
                <a:tab algn="l" pos="1841400"/>
                <a:tab algn="l" pos="2755800"/>
                <a:tab algn="l" pos="3670200"/>
                <a:tab algn="l" pos="4584600"/>
                <a:tab algn="l" pos="5499000"/>
                <a:tab algn="l" pos="6413400"/>
                <a:tab algn="l" pos="7327800"/>
                <a:tab algn="l" pos="8242200"/>
                <a:tab algn="l" pos="9156600"/>
                <a:tab algn="l" pos="100710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poi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compute the real memory address after the translation, or write PF for a page fault, or IA for an illegal acc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27000"/>
                <a:tab algn="l" pos="1841400"/>
                <a:tab algn="l" pos="2755800"/>
                <a:tab algn="l" pos="3670200"/>
                <a:tab algn="l" pos="4584600"/>
                <a:tab algn="l" pos="5499000"/>
                <a:tab algn="l" pos="6413400"/>
                <a:tab algn="l" pos="7327800"/>
                <a:tab algn="l" pos="8242200"/>
                <a:tab algn="l" pos="9156600"/>
                <a:tab algn="l" pos="100710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poi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compute how many memory accesses are necessary (consider the TLB mechanism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lnSpc>
                <a:spcPct val="93000"/>
              </a:lnSpc>
              <a:tabLst>
                <a:tab algn="l" pos="0"/>
                <a:tab algn="l" pos="927000"/>
                <a:tab algn="l" pos="1841400"/>
                <a:tab algn="l" pos="2755800"/>
                <a:tab algn="l" pos="3670200"/>
                <a:tab algn="l" pos="4584600"/>
                <a:tab algn="l" pos="5499000"/>
                <a:tab algn="l" pos="6413400"/>
                <a:tab algn="l" pos="7327800"/>
                <a:tab algn="l" pos="8242200"/>
                <a:tab algn="l" pos="9156600"/>
                <a:tab algn="l" pos="100710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lnSpc>
                <a:spcPct val="93000"/>
              </a:lnSpc>
              <a:tabLst>
                <a:tab algn="l" pos="0"/>
                <a:tab algn="l" pos="927000"/>
                <a:tab algn="l" pos="1841400"/>
                <a:tab algn="l" pos="2755800"/>
                <a:tab algn="l" pos="3670200"/>
                <a:tab algn="l" pos="4584600"/>
                <a:tab algn="l" pos="5499000"/>
                <a:tab algn="l" pos="6413400"/>
                <a:tab algn="l" pos="7327800"/>
                <a:tab algn="l" pos="8242200"/>
                <a:tab algn="l" pos="9156600"/>
                <a:tab algn="l" pos="100710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emory references in next slid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lnSpc>
                <a:spcPct val="93000"/>
              </a:lnSpc>
              <a:tabLst>
                <a:tab algn="l" pos="0"/>
                <a:tab algn="l" pos="927000"/>
                <a:tab algn="l" pos="1841400"/>
                <a:tab algn="l" pos="2755800"/>
                <a:tab algn="l" pos="3670200"/>
                <a:tab algn="l" pos="4584600"/>
                <a:tab algn="l" pos="5499000"/>
                <a:tab algn="l" pos="6413400"/>
                <a:tab algn="l" pos="7327800"/>
                <a:tab algn="l" pos="8242200"/>
                <a:tab algn="l" pos="9156600"/>
                <a:tab algn="l" pos="100710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B6DB-9F12-45E1-B7B5-3B6607C73001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1547640" y="1227240"/>
            <a:ext cx="2181240" cy="4005000"/>
            <a:chOff x="1547640" y="1227240"/>
            <a:chExt cx="2181240" cy="4005000"/>
          </a:xfrm>
        </p:grpSpPr>
        <p:sp>
          <p:nvSpPr>
            <p:cNvPr id="544" name=""/>
            <p:cNvSpPr/>
            <p:nvPr/>
          </p:nvSpPr>
          <p:spPr>
            <a:xfrm>
              <a:off x="3297240" y="4068720"/>
              <a:ext cx="4302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421000" y="4068720"/>
              <a:ext cx="8762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101 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547640" y="4068720"/>
              <a:ext cx="874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001 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297240" y="4456080"/>
              <a:ext cx="4302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421000" y="4456080"/>
              <a:ext cx="8762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010 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547640" y="4456080"/>
              <a:ext cx="874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100 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297240" y="3681360"/>
              <a:ext cx="4302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421000" y="3681360"/>
              <a:ext cx="8762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101 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547640" y="3681360"/>
              <a:ext cx="874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001 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297240" y="3294000"/>
              <a:ext cx="4302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421000" y="3294000"/>
              <a:ext cx="8762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010 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547640" y="3294000"/>
              <a:ext cx="874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001 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97240" y="2523960"/>
              <a:ext cx="43020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421000" y="2523960"/>
              <a:ext cx="8762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001 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547640" y="2523960"/>
              <a:ext cx="87480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000 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97240" y="2908440"/>
              <a:ext cx="4302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421000" y="2908440"/>
              <a:ext cx="87624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010 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547640" y="2908440"/>
              <a:ext cx="8748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001 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297240" y="4843440"/>
              <a:ext cx="4302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421000" y="4843440"/>
              <a:ext cx="8762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100 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547640" y="4843440"/>
              <a:ext cx="874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100 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97240" y="2141640"/>
              <a:ext cx="43020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421000" y="2141640"/>
              <a:ext cx="87624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000 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547640" y="2141640"/>
              <a:ext cx="87480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000 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297240" y="1760400"/>
              <a:ext cx="430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421000" y="1760400"/>
              <a:ext cx="8762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1110 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547640" y="1760400"/>
              <a:ext cx="8748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0000 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297240" y="1227240"/>
              <a:ext cx="4302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21000" y="1227240"/>
              <a:ext cx="8762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Fr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547640" y="1227240"/>
              <a:ext cx="8748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547640" y="1227240"/>
              <a:ext cx="2179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547640" y="1760400"/>
              <a:ext cx="2179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547640" y="2141640"/>
              <a:ext cx="2179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547640" y="2523960"/>
              <a:ext cx="2179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547640" y="5230800"/>
              <a:ext cx="2179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547640" y="1227240"/>
              <a:ext cx="1800" cy="400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421000" y="1227240"/>
              <a:ext cx="1440" cy="400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297240" y="1227240"/>
              <a:ext cx="1440" cy="400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27440" y="1227240"/>
              <a:ext cx="1440" cy="400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547640" y="3294000"/>
              <a:ext cx="2179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547640" y="2908440"/>
              <a:ext cx="2179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47640" y="3681360"/>
              <a:ext cx="2179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47640" y="4068720"/>
              <a:ext cx="2179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547640" y="4843440"/>
              <a:ext cx="2179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547640" y="4456080"/>
              <a:ext cx="2179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3994200" y="1227240"/>
            <a:ext cx="4657680" cy="4008240"/>
            <a:chOff x="3994200" y="1227240"/>
            <a:chExt cx="4657680" cy="4008240"/>
          </a:xfrm>
        </p:grpSpPr>
        <p:sp>
          <p:nvSpPr>
            <p:cNvPr id="590" name=""/>
            <p:cNvSpPr/>
            <p:nvPr/>
          </p:nvSpPr>
          <p:spPr>
            <a:xfrm>
              <a:off x="7877160" y="2535120"/>
              <a:ext cx="7747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07240" y="2535120"/>
              <a:ext cx="19699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008600" y="2535120"/>
              <a:ext cx="26208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FreeSans"/>
                </a:rPr>
                <a:t>0001 00</a:t>
              </a:r>
              <a:r>
                <a:rPr b="0" lang="en-GB" sz="1400" spc="-1" strike="noStrike">
                  <a:solidFill>
                    <a:srgbClr val="000000"/>
                  </a:solidFill>
                  <a:latin typeface="FreeSans"/>
                </a:rPr>
                <a:t>11 0111 1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877160" y="2921040"/>
              <a:ext cx="7747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907240" y="2921040"/>
              <a:ext cx="19699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008600" y="2921040"/>
              <a:ext cx="25714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FreeSans"/>
                </a:rPr>
                <a:t>0001 11</a:t>
              </a:r>
              <a:r>
                <a:rPr b="0" lang="en-GB" sz="1400" spc="-1" strike="noStrike">
                  <a:solidFill>
                    <a:srgbClr val="000000"/>
                  </a:solidFill>
                  <a:latin typeface="FreeSans"/>
                </a:rPr>
                <a:t>10 0000 10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877160" y="3306600"/>
              <a:ext cx="7747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07240" y="3306600"/>
              <a:ext cx="19699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008600" y="3306600"/>
              <a:ext cx="257148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FreeSans"/>
                </a:rPr>
                <a:t>0100 00</a:t>
              </a:r>
              <a:r>
                <a:rPr b="0" lang="en-GB" sz="1400" spc="-1" strike="noStrike">
                  <a:solidFill>
                    <a:srgbClr val="000000"/>
                  </a:solidFill>
                  <a:latin typeface="FreeSans"/>
                </a:rPr>
                <a:t>00 1000 11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877160" y="3692520"/>
              <a:ext cx="7747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907240" y="3692520"/>
              <a:ext cx="19699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008600" y="3692520"/>
              <a:ext cx="257148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FreeSans"/>
                </a:rPr>
                <a:t>0001 00</a:t>
              </a:r>
              <a:r>
                <a:rPr b="0" lang="en-GB" sz="1400" spc="-1" strike="noStrike">
                  <a:solidFill>
                    <a:srgbClr val="000000"/>
                  </a:solidFill>
                  <a:latin typeface="FreeSans"/>
                </a:rPr>
                <a:t>11 1111 11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77160" y="4078440"/>
              <a:ext cx="7747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907240" y="4078440"/>
              <a:ext cx="19699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008600" y="4078440"/>
              <a:ext cx="25714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FreeSans"/>
                </a:rPr>
                <a:t>0100 00</a:t>
              </a:r>
              <a:r>
                <a:rPr b="0" lang="en-GB" sz="1400" spc="-1" strike="noStrike">
                  <a:solidFill>
                    <a:srgbClr val="000000"/>
                  </a:solidFill>
                  <a:latin typeface="FreeSans"/>
                </a:rPr>
                <a:t>11 1111 11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877160" y="4464000"/>
              <a:ext cx="7747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907240" y="4464000"/>
              <a:ext cx="19699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008600" y="4464000"/>
              <a:ext cx="257148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FreeSans"/>
                </a:rPr>
                <a:t>0100 01</a:t>
              </a:r>
              <a:r>
                <a:rPr b="0" lang="en-GB" sz="1400" spc="-1" strike="noStrike">
                  <a:solidFill>
                    <a:srgbClr val="000000"/>
                  </a:solidFill>
                  <a:latin typeface="FreeSans"/>
                </a:rPr>
                <a:t>11 1111 11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877160" y="4849920"/>
              <a:ext cx="7747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907240" y="4849920"/>
              <a:ext cx="19699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008600" y="4849920"/>
              <a:ext cx="25714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FreeSans"/>
                </a:rPr>
                <a:t>0100 001</a:t>
              </a:r>
              <a:r>
                <a:rPr b="0" lang="en-GB" sz="1400" spc="-1" strike="noStrike">
                  <a:solidFill>
                    <a:srgbClr val="000000"/>
                  </a:solidFill>
                  <a:latin typeface="FreeSans"/>
                </a:rPr>
                <a:t>1 1111 01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877160" y="2158920"/>
              <a:ext cx="77472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907240" y="2158920"/>
              <a:ext cx="196992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08600" y="2158920"/>
              <a:ext cx="257148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FreeSans"/>
                </a:rPr>
                <a:t>0001 11</a:t>
              </a:r>
              <a:r>
                <a:rPr b="0" lang="en-GB" sz="1400" spc="-1" strike="noStrike">
                  <a:solidFill>
                    <a:srgbClr val="000000"/>
                  </a:solidFill>
                  <a:latin typeface="FreeSans"/>
                </a:rPr>
                <a:t>10 0000 0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877160" y="1760400"/>
              <a:ext cx="774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907240" y="1760400"/>
              <a:ext cx="1969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08600" y="1760400"/>
              <a:ext cx="2571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FreeSans"/>
                </a:rPr>
                <a:t>0001 00</a:t>
              </a:r>
              <a:r>
                <a:rPr b="0" lang="en-GB" sz="1400" spc="-1" strike="noStrike">
                  <a:solidFill>
                    <a:srgbClr val="000000"/>
                  </a:solidFill>
                  <a:latin typeface="FreeSans"/>
                </a:rPr>
                <a:t>11 0101 01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877160" y="1227240"/>
              <a:ext cx="7747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# mem ac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907240" y="1227240"/>
              <a:ext cx="19699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Physical add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08600" y="1227240"/>
              <a:ext cx="18986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1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Virtual addr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994200" y="1227240"/>
              <a:ext cx="4654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008600" y="1760400"/>
              <a:ext cx="4641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008600" y="2158920"/>
              <a:ext cx="4641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008600" y="2535120"/>
              <a:ext cx="4641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3994200" y="5230440"/>
              <a:ext cx="464976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008600" y="1227240"/>
              <a:ext cx="1440" cy="400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07240" y="1227240"/>
              <a:ext cx="1440" cy="400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877160" y="1227240"/>
              <a:ext cx="1440" cy="400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8646840" y="1227240"/>
              <a:ext cx="4680" cy="4000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08600" y="4849920"/>
              <a:ext cx="4641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008600" y="4464000"/>
              <a:ext cx="4641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008600" y="4078440"/>
              <a:ext cx="4641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008600" y="3692520"/>
              <a:ext cx="4641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008600" y="3306600"/>
              <a:ext cx="4641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008600" y="2921040"/>
              <a:ext cx="4641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5907240" y="1760400"/>
            <a:ext cx="1969920" cy="38124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1010 10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11 0101 01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125360" y="3056040"/>
            <a:ext cx="352440" cy="228600"/>
          </a:xfrm>
          <a:prstGeom prst="rightArrow">
            <a:avLst>
              <a:gd name="adj1" fmla="val 50000"/>
              <a:gd name="adj2" fmla="val 3854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125360" y="4122720"/>
            <a:ext cx="352440" cy="228600"/>
          </a:xfrm>
          <a:prstGeom prst="rightArrow">
            <a:avLst>
              <a:gd name="adj1" fmla="val 50000"/>
              <a:gd name="adj2" fmla="val 3854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907240" y="2141640"/>
            <a:ext cx="1969920" cy="38088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0101 11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1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907240" y="2522520"/>
            <a:ext cx="1969920" cy="38088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1010 10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11 0111 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877160" y="1760400"/>
            <a:ext cx="774720" cy="38124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877160" y="2141640"/>
            <a:ext cx="774720" cy="38088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877160" y="2522520"/>
            <a:ext cx="774720" cy="38088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907240" y="2903400"/>
            <a:ext cx="1969920" cy="38124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0101 11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10 0000 1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877160" y="2903400"/>
            <a:ext cx="774720" cy="38124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907240" y="3284640"/>
            <a:ext cx="1969920" cy="38088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0010 01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00 1000 1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125360" y="4503600"/>
            <a:ext cx="352440" cy="228600"/>
          </a:xfrm>
          <a:prstGeom prst="rightArrow">
            <a:avLst>
              <a:gd name="adj1" fmla="val 50000"/>
              <a:gd name="adj2" fmla="val 3854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877160" y="3284640"/>
            <a:ext cx="774720" cy="38088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384720" y="5602320"/>
            <a:ext cx="1315800" cy="25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reeSans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384720" y="5854680"/>
            <a:ext cx="1315800" cy="25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reeSans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718160" y="5602320"/>
            <a:ext cx="1315800" cy="25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reeSans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718160" y="5854680"/>
            <a:ext cx="1315800" cy="25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reeSans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384720" y="5602320"/>
            <a:ext cx="2649240" cy="250920"/>
            <a:chOff x="3384720" y="5602320"/>
            <a:chExt cx="2649240" cy="250920"/>
          </a:xfrm>
        </p:grpSpPr>
        <p:sp>
          <p:nvSpPr>
            <p:cNvPr id="653" name=""/>
            <p:cNvSpPr/>
            <p:nvPr/>
          </p:nvSpPr>
          <p:spPr>
            <a:xfrm>
              <a:off x="3384720" y="5602320"/>
              <a:ext cx="1315800" cy="250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eeSans"/>
                </a:rPr>
                <a:t>0001 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718160" y="5602320"/>
              <a:ext cx="1315800" cy="250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eeSans"/>
                </a:rPr>
                <a:t>1010 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3384720" y="5854680"/>
            <a:ext cx="2649240" cy="250920"/>
            <a:chOff x="3384720" y="5854680"/>
            <a:chExt cx="2649240" cy="250920"/>
          </a:xfrm>
        </p:grpSpPr>
        <p:sp>
          <p:nvSpPr>
            <p:cNvPr id="656" name=""/>
            <p:cNvSpPr/>
            <p:nvPr/>
          </p:nvSpPr>
          <p:spPr>
            <a:xfrm>
              <a:off x="3384720" y="5854680"/>
              <a:ext cx="1315800" cy="250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eeSans"/>
                </a:rPr>
                <a:t>0001 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718160" y="5854680"/>
              <a:ext cx="1315800" cy="250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eeSans"/>
                </a:rPr>
                <a:t>1010 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2354400" y="5641920"/>
            <a:ext cx="7714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T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3384720" y="5602320"/>
            <a:ext cx="2649240" cy="250920"/>
            <a:chOff x="3384720" y="5602320"/>
            <a:chExt cx="2649240" cy="250920"/>
          </a:xfrm>
        </p:grpSpPr>
        <p:sp>
          <p:nvSpPr>
            <p:cNvPr id="660" name=""/>
            <p:cNvSpPr/>
            <p:nvPr/>
          </p:nvSpPr>
          <p:spPr>
            <a:xfrm>
              <a:off x="3384720" y="5602320"/>
              <a:ext cx="1315800" cy="250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eeSans"/>
                </a:rPr>
                <a:t>0100 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718160" y="5602320"/>
              <a:ext cx="1315800" cy="250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FreeSans"/>
                </a:rPr>
                <a:t>0010 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659A-9BA3-40EF-9EE7-D4C7D6EA5A1C}" type="slidenum">
              <a:t>45</a:t>
            </a:fld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dur="indefinite" fill="hold">
                      <p:stCondLst>
                        <p:cond delay="indefinite"/>
                      </p:stCondLst>
                      <p:childTnLst>
                        <p:par>
                          <p:cTn id="2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dur="indefinite" fill="hold">
                      <p:stCondLst>
                        <p:cond delay="indefinite"/>
                      </p:stCondLst>
                      <p:childTnLst>
                        <p:par>
                          <p:cTn id="2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dur="indefinite" fill="hold">
                      <p:stCondLst>
                        <p:cond delay="indefinite"/>
                      </p:stCondLst>
                      <p:childTnLst>
                        <p:par>
                          <p:cTn id="2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dur="indefinite" fill="hold">
                      <p:stCondLst>
                        <p:cond delay="indefinite"/>
                      </p:stCondLst>
                      <p:childTnLst>
                        <p:par>
                          <p:cTn id="2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dur="indefinite" fill="hold">
                      <p:stCondLst>
                        <p:cond delay="indefinite"/>
                      </p:stCondLst>
                      <p:childTnLst>
                        <p:par>
                          <p:cTn id="2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dur="indefinite" fill="hold">
                      <p:stCondLst>
                        <p:cond delay="indefinite"/>
                      </p:stCondLst>
                      <p:childTnLst>
                        <p:par>
                          <p:cTn id="2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dur="indefinite" fill="hold">
                      <p:stCondLst>
                        <p:cond delay="indefinite"/>
                      </p:stCondLst>
                      <p:childTnLst>
                        <p:par>
                          <p:cTn id="2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dur="indefinite" fill="hold">
                      <p:stCondLst>
                        <p:cond delay="indefinite"/>
                      </p:stCondLst>
                      <p:childTnLst>
                        <p:par>
                          <p:cTn id="2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dur="indefinite" fill="hold">
                      <p:stCondLst>
                        <p:cond delay="indefinite"/>
                      </p:stCondLst>
                      <p:childTnLst>
                        <p:par>
                          <p:cTn id="3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dur="indefinite" fill="hold">
                      <p:stCondLst>
                        <p:cond delay="indefinite"/>
                      </p:stCondLst>
                      <p:childTnLst>
                        <p:par>
                          <p:cTn id="3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dur="indefinite" fill="hold">
                      <p:stCondLst>
                        <p:cond delay="indefinite"/>
                      </p:stCondLst>
                      <p:childTnLst>
                        <p:par>
                          <p:cTn id="3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dur="indefinite" fill="hold">
                      <p:stCondLst>
                        <p:cond delay="indefinite"/>
                      </p:stCondLst>
                      <p:childTnLst>
                        <p:par>
                          <p:cTn id="3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dur="indefinite" fill="hold">
                      <p:stCondLst>
                        <p:cond delay="indefinite"/>
                      </p:stCondLst>
                      <p:childTnLst>
                        <p:par>
                          <p:cTn id="3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dur="indefinite" fill="hold">
                      <p:stCondLst>
                        <p:cond delay="indefinite"/>
                      </p:stCondLst>
                      <p:childTnLst>
                        <p:par>
                          <p:cTn id="3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dur="indefinite" fill="hold">
                      <p:stCondLst>
                        <p:cond delay="indefinite"/>
                      </p:stCondLst>
                      <p:childTnLst>
                        <p:par>
                          <p:cTn id="3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685800" y="156816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ING SYS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RTUAL MEMORY SUB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B639-6F96-4318-A8C9-16C9A3EA4DD4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Operating system cod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11000" y="1218960"/>
            <a:ext cx="793116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different techniques can be used to implement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most all techniques are based on p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 “things” to be dec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etch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MAND PAGING: Pages can be loaded on demand (i.e. only when a page fault occurs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PAGING: Pages can also be loaded in advance (to take advance of the disk mechanisms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paging, this is not a problem, since all frames are equival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lacement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ch page has to be unloa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1FE1-6204-4B81-B0C9-DA42104FC55B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Replacement Polic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11280" y="1218960"/>
            <a:ext cx="80740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ree sub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Arial"/>
              <a:buAutoNum type="arabicPeriod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many pages are to be allocated to eac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Arial"/>
              <a:buAutoNum type="arabicPeriod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ther to unload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3780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same process that made the page 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3780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all th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Arial"/>
              <a:buAutoNum type="arabicPeriod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mong the set of pages to be consider, which has to be actually unloa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lems 1 and 2 are referred as the “resident set management”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lem 3 is referred as the “replacement policy”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8C74-C717-4A01-A73C-826D6FF5AFA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Replaceme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 us start from the last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bjective is to replace the pages so to have the least number of page fa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le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timal (cannot be implemented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st recently used (LRU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-in first-out (FIFO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al policy is used as a reference to see how good is one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 the page for which the next reference time is the long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algorithm results in the least number of page fa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ever, it is not possible to know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F8E3-6316-4DA7-A79A-161D3B36F676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te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process must be protected from the malicious or unwanted interferences from other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annot be done at compil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 address calculation in an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in contrast with reloc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need to do a check at run-ti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BC9B-CA73-4BEF-982C-11CA270D74AD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LRU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age, maintain a time-stamp of the time the page was referenced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load the page with the smalled time-st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takes a lot of 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requires a list of pages ordered by timest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ry time a page is referenced, update the time-stamp and re-order th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-ordering takes up a lot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feasible in a real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45CB-8C51-4FCA-9AEF-3D18F5027501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IFO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irst page loaded in memory is the first to be unloa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a circular list of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time a page is loaded, insert it in the head of the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time a page must be unloaded, remove from the tail of the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little 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not very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4000"/>
              </a:lnSpc>
              <a:spcBef>
                <a:spcPts val="700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CE7D-3026-42CC-BBBC-6C1A81996C56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lo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a combination of both LRU and FI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has a reasonable 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page has a use bit (U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time the page is first loaded, U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time the page is accessed U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a page has to be unloa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one pointer to a certain page, initially pag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e all frames in turn, clock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 page has U=1 -&gt; U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 page has U=0, unload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72BB-A982-43D2-BF66-25B8931628DA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 of Clock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1968480" y="3657600"/>
            <a:ext cx="734400" cy="685800"/>
            <a:chOff x="1968480" y="3657600"/>
            <a:chExt cx="734400" cy="685800"/>
          </a:xfrm>
        </p:grpSpPr>
        <p:sp>
          <p:nvSpPr>
            <p:cNvPr id="678" name=""/>
            <p:cNvSpPr/>
            <p:nvPr/>
          </p:nvSpPr>
          <p:spPr>
            <a:xfrm>
              <a:off x="196848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32092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74200" y="36576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187800" y="3657600"/>
            <a:ext cx="734040" cy="685800"/>
            <a:chOff x="3187800" y="3657600"/>
            <a:chExt cx="734040" cy="685800"/>
          </a:xfrm>
        </p:grpSpPr>
        <p:sp>
          <p:nvSpPr>
            <p:cNvPr id="682" name=""/>
            <p:cNvSpPr/>
            <p:nvPr/>
          </p:nvSpPr>
          <p:spPr>
            <a:xfrm>
              <a:off x="318780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54024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593160" y="36576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4371840" y="3657600"/>
            <a:ext cx="734400" cy="685800"/>
            <a:chOff x="4371840" y="3657600"/>
            <a:chExt cx="734400" cy="685800"/>
          </a:xfrm>
        </p:grpSpPr>
        <p:sp>
          <p:nvSpPr>
            <p:cNvPr id="686" name=""/>
            <p:cNvSpPr/>
            <p:nvPr/>
          </p:nvSpPr>
          <p:spPr>
            <a:xfrm>
              <a:off x="437184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72284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77560" y="36576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5556240" y="3657600"/>
            <a:ext cx="734400" cy="685800"/>
            <a:chOff x="5556240" y="3657600"/>
            <a:chExt cx="734400" cy="685800"/>
          </a:xfrm>
        </p:grpSpPr>
        <p:sp>
          <p:nvSpPr>
            <p:cNvPr id="690" name=""/>
            <p:cNvSpPr/>
            <p:nvPr/>
          </p:nvSpPr>
          <p:spPr>
            <a:xfrm>
              <a:off x="555624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90724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961960" y="36576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6740640" y="3657600"/>
            <a:ext cx="732600" cy="685800"/>
            <a:chOff x="6740640" y="3657600"/>
            <a:chExt cx="732600" cy="685800"/>
          </a:xfrm>
        </p:grpSpPr>
        <p:sp>
          <p:nvSpPr>
            <p:cNvPr id="694" name=""/>
            <p:cNvSpPr/>
            <p:nvPr/>
          </p:nvSpPr>
          <p:spPr>
            <a:xfrm>
              <a:off x="674064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09128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44560" y="36576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1968480" y="5029200"/>
            <a:ext cx="734400" cy="685800"/>
            <a:chOff x="1968480" y="5029200"/>
            <a:chExt cx="734400" cy="685800"/>
          </a:xfrm>
        </p:grpSpPr>
        <p:sp>
          <p:nvSpPr>
            <p:cNvPr id="698" name=""/>
            <p:cNvSpPr/>
            <p:nvPr/>
          </p:nvSpPr>
          <p:spPr>
            <a:xfrm>
              <a:off x="196848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32092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374200" y="50292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3187800" y="5029200"/>
            <a:ext cx="734040" cy="685800"/>
            <a:chOff x="3187800" y="5029200"/>
            <a:chExt cx="734040" cy="685800"/>
          </a:xfrm>
        </p:grpSpPr>
        <p:sp>
          <p:nvSpPr>
            <p:cNvPr id="702" name=""/>
            <p:cNvSpPr/>
            <p:nvPr/>
          </p:nvSpPr>
          <p:spPr>
            <a:xfrm>
              <a:off x="318780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54024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593160" y="50292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4371840" y="5029200"/>
            <a:ext cx="734400" cy="685800"/>
            <a:chOff x="4371840" y="5029200"/>
            <a:chExt cx="734400" cy="685800"/>
          </a:xfrm>
        </p:grpSpPr>
        <p:sp>
          <p:nvSpPr>
            <p:cNvPr id="706" name=""/>
            <p:cNvSpPr/>
            <p:nvPr/>
          </p:nvSpPr>
          <p:spPr>
            <a:xfrm>
              <a:off x="437184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72284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777560" y="50292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5556240" y="5029200"/>
            <a:ext cx="734400" cy="685800"/>
            <a:chOff x="5556240" y="5029200"/>
            <a:chExt cx="734400" cy="685800"/>
          </a:xfrm>
        </p:grpSpPr>
        <p:sp>
          <p:nvSpPr>
            <p:cNvPr id="710" name=""/>
            <p:cNvSpPr/>
            <p:nvPr/>
          </p:nvSpPr>
          <p:spPr>
            <a:xfrm>
              <a:off x="555624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90724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961960" y="50292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6740640" y="5029200"/>
            <a:ext cx="732600" cy="685800"/>
            <a:chOff x="6740640" y="5029200"/>
            <a:chExt cx="732600" cy="685800"/>
          </a:xfrm>
        </p:grpSpPr>
        <p:sp>
          <p:nvSpPr>
            <p:cNvPr id="714" name=""/>
            <p:cNvSpPr/>
            <p:nvPr/>
          </p:nvSpPr>
          <p:spPr>
            <a:xfrm>
              <a:off x="674064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09128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44560" y="50292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1336680" y="1336680"/>
            <a:ext cx="70326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72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tally, all use bit are set to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the page is loaded, U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1968480" y="3657600"/>
            <a:ext cx="734400" cy="685800"/>
            <a:chOff x="1968480" y="3657600"/>
            <a:chExt cx="734400" cy="685800"/>
          </a:xfrm>
        </p:grpSpPr>
        <p:sp>
          <p:nvSpPr>
            <p:cNvPr id="719" name=""/>
            <p:cNvSpPr/>
            <p:nvPr/>
          </p:nvSpPr>
          <p:spPr>
            <a:xfrm>
              <a:off x="1968480" y="3962520"/>
              <a:ext cx="352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320920" y="3962520"/>
              <a:ext cx="352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374200" y="3657600"/>
              <a:ext cx="32868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4361040" y="3657600"/>
            <a:ext cx="734040" cy="685800"/>
            <a:chOff x="4361040" y="3657600"/>
            <a:chExt cx="734040" cy="685800"/>
          </a:xfrm>
        </p:grpSpPr>
        <p:sp>
          <p:nvSpPr>
            <p:cNvPr id="723" name=""/>
            <p:cNvSpPr/>
            <p:nvPr/>
          </p:nvSpPr>
          <p:spPr>
            <a:xfrm>
              <a:off x="4361040" y="3962520"/>
              <a:ext cx="3520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711680" y="3962520"/>
              <a:ext cx="352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766400" y="3657600"/>
              <a:ext cx="32868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6740640" y="3657600"/>
            <a:ext cx="732600" cy="685800"/>
            <a:chOff x="6740640" y="3657600"/>
            <a:chExt cx="732600" cy="685800"/>
          </a:xfrm>
        </p:grpSpPr>
        <p:sp>
          <p:nvSpPr>
            <p:cNvPr id="727" name=""/>
            <p:cNvSpPr/>
            <p:nvPr/>
          </p:nvSpPr>
          <p:spPr>
            <a:xfrm>
              <a:off x="6740640" y="3962520"/>
              <a:ext cx="352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91280" y="3962520"/>
              <a:ext cx="352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44560" y="3657600"/>
              <a:ext cx="32868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6751800" y="5029200"/>
            <a:ext cx="734040" cy="685800"/>
            <a:chOff x="6751800" y="5029200"/>
            <a:chExt cx="734040" cy="685800"/>
          </a:xfrm>
        </p:grpSpPr>
        <p:sp>
          <p:nvSpPr>
            <p:cNvPr id="731" name=""/>
            <p:cNvSpPr/>
            <p:nvPr/>
          </p:nvSpPr>
          <p:spPr>
            <a:xfrm>
              <a:off x="6751800" y="5334120"/>
              <a:ext cx="352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102440" y="5334120"/>
              <a:ext cx="352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157160" y="5029200"/>
              <a:ext cx="32868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5556240" y="5029200"/>
            <a:ext cx="734400" cy="685800"/>
            <a:chOff x="5556240" y="5029200"/>
            <a:chExt cx="734400" cy="685800"/>
          </a:xfrm>
        </p:grpSpPr>
        <p:sp>
          <p:nvSpPr>
            <p:cNvPr id="735" name=""/>
            <p:cNvSpPr/>
            <p:nvPr/>
          </p:nvSpPr>
          <p:spPr>
            <a:xfrm>
              <a:off x="5556240" y="5334120"/>
              <a:ext cx="352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907240" y="5334120"/>
              <a:ext cx="352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961960" y="5029200"/>
              <a:ext cx="32868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3165480" y="3657600"/>
            <a:ext cx="734400" cy="685800"/>
            <a:chOff x="3165480" y="3657600"/>
            <a:chExt cx="734400" cy="685800"/>
          </a:xfrm>
        </p:grpSpPr>
        <p:sp>
          <p:nvSpPr>
            <p:cNvPr id="739" name=""/>
            <p:cNvSpPr/>
            <p:nvPr/>
          </p:nvSpPr>
          <p:spPr>
            <a:xfrm>
              <a:off x="3165480" y="3962520"/>
              <a:ext cx="352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516480" y="3962520"/>
              <a:ext cx="3520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571200" y="3657600"/>
              <a:ext cx="32868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5556240" y="3657600"/>
            <a:ext cx="734400" cy="685800"/>
            <a:chOff x="5556240" y="3657600"/>
            <a:chExt cx="734400" cy="685800"/>
          </a:xfrm>
        </p:grpSpPr>
        <p:sp>
          <p:nvSpPr>
            <p:cNvPr id="743" name=""/>
            <p:cNvSpPr/>
            <p:nvPr/>
          </p:nvSpPr>
          <p:spPr>
            <a:xfrm>
              <a:off x="5556240" y="3962520"/>
              <a:ext cx="352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907240" y="3962520"/>
              <a:ext cx="352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961960" y="3657600"/>
              <a:ext cx="32868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4361040" y="5029200"/>
            <a:ext cx="734040" cy="685800"/>
            <a:chOff x="4361040" y="5029200"/>
            <a:chExt cx="734040" cy="685800"/>
          </a:xfrm>
        </p:grpSpPr>
        <p:sp>
          <p:nvSpPr>
            <p:cNvPr id="747" name=""/>
            <p:cNvSpPr/>
            <p:nvPr/>
          </p:nvSpPr>
          <p:spPr>
            <a:xfrm>
              <a:off x="4361040" y="5334120"/>
              <a:ext cx="3520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711680" y="5334120"/>
              <a:ext cx="352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766400" y="5029200"/>
              <a:ext cx="32868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1957320" y="5029200"/>
            <a:ext cx="734400" cy="685800"/>
            <a:chOff x="1957320" y="5029200"/>
            <a:chExt cx="734400" cy="685800"/>
          </a:xfrm>
        </p:grpSpPr>
        <p:sp>
          <p:nvSpPr>
            <p:cNvPr id="751" name=""/>
            <p:cNvSpPr/>
            <p:nvPr/>
          </p:nvSpPr>
          <p:spPr>
            <a:xfrm>
              <a:off x="1957320" y="5334120"/>
              <a:ext cx="352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309760" y="5334120"/>
              <a:ext cx="352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363040" y="5029200"/>
              <a:ext cx="32868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3165480" y="5029200"/>
            <a:ext cx="734400" cy="685800"/>
            <a:chOff x="3165480" y="5029200"/>
            <a:chExt cx="734400" cy="685800"/>
          </a:xfrm>
        </p:grpSpPr>
        <p:sp>
          <p:nvSpPr>
            <p:cNvPr id="755" name=""/>
            <p:cNvSpPr/>
            <p:nvPr/>
          </p:nvSpPr>
          <p:spPr>
            <a:xfrm>
              <a:off x="3165480" y="5334120"/>
              <a:ext cx="352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516480" y="5334120"/>
              <a:ext cx="3520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571200" y="5029200"/>
              <a:ext cx="32868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2179800" y="4419720"/>
            <a:ext cx="280800" cy="457200"/>
          </a:xfrm>
          <a:prstGeom prst="upArrow">
            <a:avLst>
              <a:gd name="adj1" fmla="val 50000"/>
              <a:gd name="adj2" fmla="val 40705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9A01-98D0-4569-9607-A9D234C59BE7}" type="slidenum">
              <a:t>53</a:t>
            </a:fld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dur="indefinite" fill="hold">
                      <p:stCondLst>
                        <p:cond delay="indefinite"/>
                      </p:stCondLst>
                      <p:childTnLst>
                        <p:par>
                          <p:cTn id="3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dur="indefinite" fill="hold">
                            <p:stCondLst>
                              <p:cond delay="1"/>
                            </p:stCondLst>
                            <p:childTnLst>
                              <p:par>
                                <p:cTn id="34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dur="indefinite" fill="hold">
                            <p:stCondLst>
                              <p:cond delay="2"/>
                            </p:stCondLst>
                            <p:childTnLst>
                              <p:par>
                                <p:cTn id="34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dur="indefinite" fill="hold">
                            <p:stCondLst>
                              <p:cond delay="3"/>
                            </p:stCondLst>
                            <p:childTnLst>
                              <p:par>
                                <p:cTn id="34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dur="indefinite" fill="hold">
                            <p:stCondLst>
                              <p:cond delay="4"/>
                            </p:stCondLst>
                            <p:childTnLst>
                              <p:par>
                                <p:cTn id="3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dur="indefinite" fill="hold">
                            <p:stCondLst>
                              <p:cond delay="5"/>
                            </p:stCondLst>
                            <p:childTnLst>
                              <p:par>
                                <p:cTn id="35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dur="indefinite" fill="hold">
                            <p:stCondLst>
                              <p:cond delay="6"/>
                            </p:stCondLst>
                            <p:childTnLst>
                              <p:par>
                                <p:cTn id="35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dur="indefinite" fill="hold">
                            <p:stCondLst>
                              <p:cond delay="7"/>
                            </p:stCondLst>
                            <p:childTnLst>
                              <p:par>
                                <p:cTn id="3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dur="indefinite" fill="hold">
                            <p:stCondLst>
                              <p:cond delay="8"/>
                            </p:stCondLst>
                            <p:childTnLst>
                              <p:par>
                                <p:cTn id="3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dur="indefinite" fill="hold">
                            <p:stCondLst>
                              <p:cond delay="9"/>
                            </p:stCondLst>
                            <p:childTnLst>
                              <p:par>
                                <p:cTn id="36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 Clock: page faul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a page has to be replac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ointer is shifted clockwise until it finds U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le it passes, if it finds U=1 then sets U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irst time, the first page is repla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3187800" y="3657600"/>
            <a:ext cx="734040" cy="685800"/>
            <a:chOff x="3187800" y="3657600"/>
            <a:chExt cx="734040" cy="685800"/>
          </a:xfrm>
        </p:grpSpPr>
        <p:sp>
          <p:nvSpPr>
            <p:cNvPr id="762" name=""/>
            <p:cNvSpPr/>
            <p:nvPr/>
          </p:nvSpPr>
          <p:spPr>
            <a:xfrm>
              <a:off x="318780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54024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593160" y="36576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4371840" y="3657600"/>
            <a:ext cx="734400" cy="685800"/>
            <a:chOff x="4371840" y="3657600"/>
            <a:chExt cx="734400" cy="685800"/>
          </a:xfrm>
        </p:grpSpPr>
        <p:sp>
          <p:nvSpPr>
            <p:cNvPr id="766" name=""/>
            <p:cNvSpPr/>
            <p:nvPr/>
          </p:nvSpPr>
          <p:spPr>
            <a:xfrm>
              <a:off x="437184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72284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777560" y="36576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5556240" y="3657600"/>
            <a:ext cx="734400" cy="685800"/>
            <a:chOff x="5556240" y="3657600"/>
            <a:chExt cx="734400" cy="685800"/>
          </a:xfrm>
        </p:grpSpPr>
        <p:sp>
          <p:nvSpPr>
            <p:cNvPr id="770" name=""/>
            <p:cNvSpPr/>
            <p:nvPr/>
          </p:nvSpPr>
          <p:spPr>
            <a:xfrm>
              <a:off x="555624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90724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961960" y="36576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6740640" y="3657600"/>
            <a:ext cx="732600" cy="685800"/>
            <a:chOff x="6740640" y="3657600"/>
            <a:chExt cx="732600" cy="685800"/>
          </a:xfrm>
        </p:grpSpPr>
        <p:sp>
          <p:nvSpPr>
            <p:cNvPr id="774" name=""/>
            <p:cNvSpPr/>
            <p:nvPr/>
          </p:nvSpPr>
          <p:spPr>
            <a:xfrm>
              <a:off x="674064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09128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144560" y="36576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1968480" y="5029200"/>
            <a:ext cx="734400" cy="685800"/>
            <a:chOff x="1968480" y="5029200"/>
            <a:chExt cx="734400" cy="685800"/>
          </a:xfrm>
        </p:grpSpPr>
        <p:sp>
          <p:nvSpPr>
            <p:cNvPr id="778" name=""/>
            <p:cNvSpPr/>
            <p:nvPr/>
          </p:nvSpPr>
          <p:spPr>
            <a:xfrm>
              <a:off x="196848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32092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374200" y="50292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3187800" y="5029200"/>
            <a:ext cx="734040" cy="685800"/>
            <a:chOff x="3187800" y="5029200"/>
            <a:chExt cx="734040" cy="685800"/>
          </a:xfrm>
        </p:grpSpPr>
        <p:sp>
          <p:nvSpPr>
            <p:cNvPr id="782" name=""/>
            <p:cNvSpPr/>
            <p:nvPr/>
          </p:nvSpPr>
          <p:spPr>
            <a:xfrm>
              <a:off x="318780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54024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593160" y="50292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4371840" y="5029200"/>
            <a:ext cx="734400" cy="685800"/>
            <a:chOff x="4371840" y="5029200"/>
            <a:chExt cx="734400" cy="685800"/>
          </a:xfrm>
        </p:grpSpPr>
        <p:sp>
          <p:nvSpPr>
            <p:cNvPr id="786" name=""/>
            <p:cNvSpPr/>
            <p:nvPr/>
          </p:nvSpPr>
          <p:spPr>
            <a:xfrm>
              <a:off x="437184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72284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777560" y="50292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5556240" y="5029200"/>
            <a:ext cx="734400" cy="685800"/>
            <a:chOff x="5556240" y="5029200"/>
            <a:chExt cx="734400" cy="685800"/>
          </a:xfrm>
        </p:grpSpPr>
        <p:sp>
          <p:nvSpPr>
            <p:cNvPr id="790" name=""/>
            <p:cNvSpPr/>
            <p:nvPr/>
          </p:nvSpPr>
          <p:spPr>
            <a:xfrm>
              <a:off x="555624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90724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961960" y="50292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6740640" y="5029200"/>
            <a:ext cx="732600" cy="685800"/>
            <a:chOff x="6740640" y="5029200"/>
            <a:chExt cx="732600" cy="685800"/>
          </a:xfrm>
        </p:grpSpPr>
        <p:sp>
          <p:nvSpPr>
            <p:cNvPr id="794" name=""/>
            <p:cNvSpPr/>
            <p:nvPr/>
          </p:nvSpPr>
          <p:spPr>
            <a:xfrm>
              <a:off x="674064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09128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144560" y="50292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1968480" y="3657600"/>
            <a:ext cx="734400" cy="685800"/>
            <a:chOff x="1968480" y="3657600"/>
            <a:chExt cx="734400" cy="685800"/>
          </a:xfrm>
        </p:grpSpPr>
        <p:sp>
          <p:nvSpPr>
            <p:cNvPr id="798" name=""/>
            <p:cNvSpPr/>
            <p:nvPr/>
          </p:nvSpPr>
          <p:spPr>
            <a:xfrm>
              <a:off x="196848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32092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374200" y="36576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2179800" y="4419720"/>
            <a:ext cx="280800" cy="457200"/>
          </a:xfrm>
          <a:prstGeom prst="upArrow">
            <a:avLst>
              <a:gd name="adj1" fmla="val 50000"/>
              <a:gd name="adj2" fmla="val 40705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1968480" y="3657600"/>
            <a:ext cx="734400" cy="1295280"/>
            <a:chOff x="1968480" y="3657600"/>
            <a:chExt cx="734400" cy="1295280"/>
          </a:xfrm>
        </p:grpSpPr>
        <p:grpSp>
          <p:nvGrpSpPr>
            <p:cNvPr id="803" name=""/>
            <p:cNvGrpSpPr/>
            <p:nvPr/>
          </p:nvGrpSpPr>
          <p:grpSpPr>
            <a:xfrm>
              <a:off x="1968480" y="3657600"/>
              <a:ext cx="734400" cy="685800"/>
              <a:chOff x="1968480" y="3657600"/>
              <a:chExt cx="734400" cy="685800"/>
            </a:xfrm>
          </p:grpSpPr>
          <p:sp>
            <p:nvSpPr>
              <p:cNvPr id="804" name=""/>
              <p:cNvSpPr/>
              <p:nvPr/>
            </p:nvSpPr>
            <p:spPr>
              <a:xfrm>
                <a:off x="1968480" y="3962520"/>
                <a:ext cx="35244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320920" y="3962520"/>
                <a:ext cx="35244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374200" y="3657600"/>
                <a:ext cx="328680" cy="339480"/>
              </a:xfrm>
              <a:prstGeom prst="rect">
                <a:avLst/>
              </a:prstGeom>
              <a:solidFill>
                <a:srgbClr val="fef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ahoma"/>
                  </a:rPr>
                  <a:t>U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7" name=""/>
            <p:cNvSpPr/>
            <p:nvPr/>
          </p:nvSpPr>
          <p:spPr>
            <a:xfrm>
              <a:off x="2039760" y="4419720"/>
              <a:ext cx="563760" cy="53316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"/>
          <p:cNvSpPr/>
          <p:nvPr/>
        </p:nvSpPr>
        <p:spPr>
          <a:xfrm>
            <a:off x="3375000" y="4419720"/>
            <a:ext cx="282600" cy="457200"/>
          </a:xfrm>
          <a:prstGeom prst="upArrow">
            <a:avLst>
              <a:gd name="adj1" fmla="val 50000"/>
              <a:gd name="adj2" fmla="val 4044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3165480" y="3657600"/>
            <a:ext cx="767520" cy="1295280"/>
            <a:chOff x="3165480" y="3657600"/>
            <a:chExt cx="767520" cy="1295280"/>
          </a:xfrm>
        </p:grpSpPr>
        <p:grpSp>
          <p:nvGrpSpPr>
            <p:cNvPr id="810" name=""/>
            <p:cNvGrpSpPr/>
            <p:nvPr/>
          </p:nvGrpSpPr>
          <p:grpSpPr>
            <a:xfrm>
              <a:off x="3165480" y="3657600"/>
              <a:ext cx="767520" cy="685800"/>
              <a:chOff x="3165480" y="3657600"/>
              <a:chExt cx="767520" cy="685800"/>
            </a:xfrm>
          </p:grpSpPr>
          <p:sp>
            <p:nvSpPr>
              <p:cNvPr id="811" name=""/>
              <p:cNvSpPr/>
              <p:nvPr/>
            </p:nvSpPr>
            <p:spPr>
              <a:xfrm>
                <a:off x="3165480" y="3962520"/>
                <a:ext cx="37944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544920" y="3962520"/>
                <a:ext cx="38088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604320" y="3657600"/>
                <a:ext cx="328680" cy="339480"/>
              </a:xfrm>
              <a:prstGeom prst="rect">
                <a:avLst/>
              </a:prstGeom>
              <a:solidFill>
                <a:srgbClr val="fef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ahoma"/>
                  </a:rPr>
                  <a:t>U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>
              <a:off x="3240000" y="4419720"/>
              <a:ext cx="609840" cy="53316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4572000" y="4419720"/>
            <a:ext cx="282600" cy="457200"/>
          </a:xfrm>
          <a:prstGeom prst="upArrow">
            <a:avLst>
              <a:gd name="adj1" fmla="val 50000"/>
              <a:gd name="adj2" fmla="val 4044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767560" y="4419720"/>
            <a:ext cx="280800" cy="457200"/>
          </a:xfrm>
          <a:prstGeom prst="upArrow">
            <a:avLst>
              <a:gd name="adj1" fmla="val 50000"/>
              <a:gd name="adj2" fmla="val 40705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962760" y="4419720"/>
            <a:ext cx="282600" cy="457200"/>
          </a:xfrm>
          <a:prstGeom prst="upArrow">
            <a:avLst>
              <a:gd name="adj1" fmla="val 50000"/>
              <a:gd name="adj2" fmla="val 4044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179800" y="5791320"/>
            <a:ext cx="280800" cy="457200"/>
          </a:xfrm>
          <a:prstGeom prst="upArrow">
            <a:avLst>
              <a:gd name="adj1" fmla="val 50000"/>
              <a:gd name="adj2" fmla="val 40705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375000" y="5791320"/>
            <a:ext cx="282600" cy="457200"/>
          </a:xfrm>
          <a:prstGeom prst="upArrow">
            <a:avLst>
              <a:gd name="adj1" fmla="val 50000"/>
              <a:gd name="adj2" fmla="val 4044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572000" y="5791320"/>
            <a:ext cx="282600" cy="457200"/>
          </a:xfrm>
          <a:prstGeom prst="upArrow">
            <a:avLst>
              <a:gd name="adj1" fmla="val 50000"/>
              <a:gd name="adj2" fmla="val 4044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767560" y="5791320"/>
            <a:ext cx="280800" cy="457200"/>
          </a:xfrm>
          <a:prstGeom prst="upArrow">
            <a:avLst>
              <a:gd name="adj1" fmla="val 50000"/>
              <a:gd name="adj2" fmla="val 40705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962760" y="5791320"/>
            <a:ext cx="282600" cy="457200"/>
          </a:xfrm>
          <a:prstGeom prst="upArrow">
            <a:avLst>
              <a:gd name="adj1" fmla="val 50000"/>
              <a:gd name="adj2" fmla="val 4044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4373640" y="3657600"/>
            <a:ext cx="766080" cy="1295280"/>
            <a:chOff x="4373640" y="3657600"/>
            <a:chExt cx="766080" cy="1295280"/>
          </a:xfrm>
        </p:grpSpPr>
        <p:grpSp>
          <p:nvGrpSpPr>
            <p:cNvPr id="824" name=""/>
            <p:cNvGrpSpPr/>
            <p:nvPr/>
          </p:nvGrpSpPr>
          <p:grpSpPr>
            <a:xfrm>
              <a:off x="4373640" y="3657600"/>
              <a:ext cx="766080" cy="685800"/>
              <a:chOff x="4373640" y="3657600"/>
              <a:chExt cx="766080" cy="685800"/>
            </a:xfrm>
          </p:grpSpPr>
          <p:sp>
            <p:nvSpPr>
              <p:cNvPr id="825" name=""/>
              <p:cNvSpPr/>
              <p:nvPr/>
            </p:nvSpPr>
            <p:spPr>
              <a:xfrm>
                <a:off x="4373640" y="3962520"/>
                <a:ext cx="37944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753080" y="3962520"/>
                <a:ext cx="38088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811040" y="3657600"/>
                <a:ext cx="328680" cy="339480"/>
              </a:xfrm>
              <a:prstGeom prst="rect">
                <a:avLst/>
              </a:prstGeom>
              <a:solidFill>
                <a:srgbClr val="fef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ahoma"/>
                  </a:rPr>
                  <a:t>U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>
              <a:off x="4449600" y="4419720"/>
              <a:ext cx="609840" cy="53316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5556240" y="3657600"/>
            <a:ext cx="766080" cy="1295280"/>
            <a:chOff x="5556240" y="3657600"/>
            <a:chExt cx="766080" cy="1295280"/>
          </a:xfrm>
        </p:grpSpPr>
        <p:grpSp>
          <p:nvGrpSpPr>
            <p:cNvPr id="830" name=""/>
            <p:cNvGrpSpPr/>
            <p:nvPr/>
          </p:nvGrpSpPr>
          <p:grpSpPr>
            <a:xfrm>
              <a:off x="5556240" y="3657600"/>
              <a:ext cx="766080" cy="685800"/>
              <a:chOff x="5556240" y="3657600"/>
              <a:chExt cx="766080" cy="685800"/>
            </a:xfrm>
          </p:grpSpPr>
          <p:sp>
            <p:nvSpPr>
              <p:cNvPr id="831" name=""/>
              <p:cNvSpPr/>
              <p:nvPr/>
            </p:nvSpPr>
            <p:spPr>
              <a:xfrm>
                <a:off x="5556240" y="3962520"/>
                <a:ext cx="37944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935680" y="3962520"/>
                <a:ext cx="38088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993640" y="3657600"/>
                <a:ext cx="328680" cy="339480"/>
              </a:xfrm>
              <a:prstGeom prst="rect">
                <a:avLst/>
              </a:prstGeom>
              <a:solidFill>
                <a:srgbClr val="fef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ahoma"/>
                  </a:rPr>
                  <a:t>U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4" name=""/>
            <p:cNvSpPr/>
            <p:nvPr/>
          </p:nvSpPr>
          <p:spPr>
            <a:xfrm>
              <a:off x="5632560" y="4419720"/>
              <a:ext cx="608040" cy="53316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6680160" y="3657600"/>
            <a:ext cx="767520" cy="1295280"/>
            <a:chOff x="6680160" y="3657600"/>
            <a:chExt cx="767520" cy="1295280"/>
          </a:xfrm>
        </p:grpSpPr>
        <p:grpSp>
          <p:nvGrpSpPr>
            <p:cNvPr id="836" name=""/>
            <p:cNvGrpSpPr/>
            <p:nvPr/>
          </p:nvGrpSpPr>
          <p:grpSpPr>
            <a:xfrm>
              <a:off x="6680160" y="3657600"/>
              <a:ext cx="767520" cy="685800"/>
              <a:chOff x="6680160" y="3657600"/>
              <a:chExt cx="767520" cy="685800"/>
            </a:xfrm>
          </p:grpSpPr>
          <p:sp>
            <p:nvSpPr>
              <p:cNvPr id="837" name=""/>
              <p:cNvSpPr/>
              <p:nvPr/>
            </p:nvSpPr>
            <p:spPr>
              <a:xfrm>
                <a:off x="6680160" y="3962520"/>
                <a:ext cx="37944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059600" y="3962520"/>
                <a:ext cx="38088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119000" y="3657600"/>
                <a:ext cx="328680" cy="339480"/>
              </a:xfrm>
              <a:prstGeom prst="rect">
                <a:avLst/>
              </a:prstGeom>
              <a:solidFill>
                <a:srgbClr val="fef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ahoma"/>
                  </a:rPr>
                  <a:t>U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0" name=""/>
            <p:cNvSpPr/>
            <p:nvPr/>
          </p:nvSpPr>
          <p:spPr>
            <a:xfrm>
              <a:off x="6757920" y="4419720"/>
              <a:ext cx="609840" cy="53316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1968480" y="5029200"/>
            <a:ext cx="767520" cy="1295280"/>
            <a:chOff x="1968480" y="5029200"/>
            <a:chExt cx="767520" cy="1295280"/>
          </a:xfrm>
        </p:grpSpPr>
        <p:grpSp>
          <p:nvGrpSpPr>
            <p:cNvPr id="842" name=""/>
            <p:cNvGrpSpPr/>
            <p:nvPr/>
          </p:nvGrpSpPr>
          <p:grpSpPr>
            <a:xfrm>
              <a:off x="1968480" y="5029200"/>
              <a:ext cx="767520" cy="685800"/>
              <a:chOff x="1968480" y="5029200"/>
              <a:chExt cx="767520" cy="685800"/>
            </a:xfrm>
          </p:grpSpPr>
          <p:sp>
            <p:nvSpPr>
              <p:cNvPr id="843" name=""/>
              <p:cNvSpPr/>
              <p:nvPr/>
            </p:nvSpPr>
            <p:spPr>
              <a:xfrm>
                <a:off x="1968480" y="5334120"/>
                <a:ext cx="37944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347920" y="5334120"/>
                <a:ext cx="38088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407320" y="5029200"/>
                <a:ext cx="328680" cy="339480"/>
              </a:xfrm>
              <a:prstGeom prst="rect">
                <a:avLst/>
              </a:prstGeom>
              <a:solidFill>
                <a:srgbClr val="fef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ahoma"/>
                  </a:rPr>
                  <a:t>U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6" name=""/>
            <p:cNvSpPr/>
            <p:nvPr/>
          </p:nvSpPr>
          <p:spPr>
            <a:xfrm>
              <a:off x="2044800" y="5791320"/>
              <a:ext cx="608040" cy="53316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3178080" y="5029200"/>
            <a:ext cx="766080" cy="1295280"/>
            <a:chOff x="3178080" y="5029200"/>
            <a:chExt cx="766080" cy="1295280"/>
          </a:xfrm>
        </p:grpSpPr>
        <p:grpSp>
          <p:nvGrpSpPr>
            <p:cNvPr id="848" name=""/>
            <p:cNvGrpSpPr/>
            <p:nvPr/>
          </p:nvGrpSpPr>
          <p:grpSpPr>
            <a:xfrm>
              <a:off x="3178080" y="5029200"/>
              <a:ext cx="766080" cy="685800"/>
              <a:chOff x="3178080" y="5029200"/>
              <a:chExt cx="766080" cy="685800"/>
            </a:xfrm>
          </p:grpSpPr>
          <p:sp>
            <p:nvSpPr>
              <p:cNvPr id="849" name=""/>
              <p:cNvSpPr/>
              <p:nvPr/>
            </p:nvSpPr>
            <p:spPr>
              <a:xfrm>
                <a:off x="3178080" y="5334120"/>
                <a:ext cx="37944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557520" y="5334120"/>
                <a:ext cx="38124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615480" y="5029200"/>
                <a:ext cx="328680" cy="339480"/>
              </a:xfrm>
              <a:prstGeom prst="rect">
                <a:avLst/>
              </a:prstGeom>
              <a:solidFill>
                <a:srgbClr val="fef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ahoma"/>
                  </a:rPr>
                  <a:t>U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2" name=""/>
            <p:cNvSpPr/>
            <p:nvPr/>
          </p:nvSpPr>
          <p:spPr>
            <a:xfrm>
              <a:off x="3254400" y="5791320"/>
              <a:ext cx="608040" cy="53316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4373640" y="5029200"/>
            <a:ext cx="766080" cy="1295280"/>
            <a:chOff x="4373640" y="5029200"/>
            <a:chExt cx="766080" cy="1295280"/>
          </a:xfrm>
        </p:grpSpPr>
        <p:grpSp>
          <p:nvGrpSpPr>
            <p:cNvPr id="854" name=""/>
            <p:cNvGrpSpPr/>
            <p:nvPr/>
          </p:nvGrpSpPr>
          <p:grpSpPr>
            <a:xfrm>
              <a:off x="4373640" y="5029200"/>
              <a:ext cx="766080" cy="685800"/>
              <a:chOff x="4373640" y="5029200"/>
              <a:chExt cx="766080" cy="685800"/>
            </a:xfrm>
          </p:grpSpPr>
          <p:sp>
            <p:nvSpPr>
              <p:cNvPr id="855" name=""/>
              <p:cNvSpPr/>
              <p:nvPr/>
            </p:nvSpPr>
            <p:spPr>
              <a:xfrm>
                <a:off x="4373640" y="5334120"/>
                <a:ext cx="37944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753080" y="5334120"/>
                <a:ext cx="38088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811040" y="5029200"/>
                <a:ext cx="328680" cy="339480"/>
              </a:xfrm>
              <a:prstGeom prst="rect">
                <a:avLst/>
              </a:prstGeom>
              <a:solidFill>
                <a:srgbClr val="fef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ahoma"/>
                  </a:rPr>
                  <a:t>U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"/>
            <p:cNvSpPr/>
            <p:nvPr/>
          </p:nvSpPr>
          <p:spPr>
            <a:xfrm>
              <a:off x="4449600" y="5791320"/>
              <a:ext cx="609840" cy="53316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5556240" y="5029200"/>
            <a:ext cx="766080" cy="1295280"/>
            <a:chOff x="5556240" y="5029200"/>
            <a:chExt cx="766080" cy="1295280"/>
          </a:xfrm>
        </p:grpSpPr>
        <p:grpSp>
          <p:nvGrpSpPr>
            <p:cNvPr id="860" name=""/>
            <p:cNvGrpSpPr/>
            <p:nvPr/>
          </p:nvGrpSpPr>
          <p:grpSpPr>
            <a:xfrm>
              <a:off x="5556240" y="5029200"/>
              <a:ext cx="766080" cy="685800"/>
              <a:chOff x="5556240" y="5029200"/>
              <a:chExt cx="766080" cy="685800"/>
            </a:xfrm>
          </p:grpSpPr>
          <p:sp>
            <p:nvSpPr>
              <p:cNvPr id="861" name=""/>
              <p:cNvSpPr/>
              <p:nvPr/>
            </p:nvSpPr>
            <p:spPr>
              <a:xfrm>
                <a:off x="5556240" y="5334120"/>
                <a:ext cx="37944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935680" y="5334120"/>
                <a:ext cx="38088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993640" y="5029200"/>
                <a:ext cx="328680" cy="339480"/>
              </a:xfrm>
              <a:prstGeom prst="rect">
                <a:avLst/>
              </a:prstGeom>
              <a:solidFill>
                <a:srgbClr val="fef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ahoma"/>
                  </a:rPr>
                  <a:t>U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"/>
            <p:cNvSpPr/>
            <p:nvPr/>
          </p:nvSpPr>
          <p:spPr>
            <a:xfrm>
              <a:off x="5632560" y="5791320"/>
              <a:ext cx="608040" cy="53316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6680160" y="5029200"/>
            <a:ext cx="767520" cy="1295280"/>
            <a:chOff x="6680160" y="5029200"/>
            <a:chExt cx="767520" cy="1295280"/>
          </a:xfrm>
        </p:grpSpPr>
        <p:grpSp>
          <p:nvGrpSpPr>
            <p:cNvPr id="866" name=""/>
            <p:cNvGrpSpPr/>
            <p:nvPr/>
          </p:nvGrpSpPr>
          <p:grpSpPr>
            <a:xfrm>
              <a:off x="6680160" y="5029200"/>
              <a:ext cx="767520" cy="685800"/>
              <a:chOff x="6680160" y="5029200"/>
              <a:chExt cx="767520" cy="685800"/>
            </a:xfrm>
          </p:grpSpPr>
          <p:sp>
            <p:nvSpPr>
              <p:cNvPr id="867" name=""/>
              <p:cNvSpPr/>
              <p:nvPr/>
            </p:nvSpPr>
            <p:spPr>
              <a:xfrm>
                <a:off x="6680160" y="5334120"/>
                <a:ext cx="37944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059600" y="5334120"/>
                <a:ext cx="38088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119000" y="5029200"/>
                <a:ext cx="328680" cy="339480"/>
              </a:xfrm>
              <a:prstGeom prst="rect">
                <a:avLst/>
              </a:prstGeom>
              <a:solidFill>
                <a:srgbClr val="fef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ahoma"/>
                  </a:rPr>
                  <a:t>U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"/>
            <p:cNvSpPr/>
            <p:nvPr/>
          </p:nvSpPr>
          <p:spPr>
            <a:xfrm>
              <a:off x="6757920" y="5791320"/>
              <a:ext cx="609840" cy="53316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2179800" y="4419720"/>
            <a:ext cx="280800" cy="457200"/>
          </a:xfrm>
          <a:prstGeom prst="upArrow">
            <a:avLst>
              <a:gd name="adj1" fmla="val 50000"/>
              <a:gd name="adj2" fmla="val 40705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1968480" y="3657600"/>
            <a:ext cx="734400" cy="1295280"/>
            <a:chOff x="1968480" y="3657600"/>
            <a:chExt cx="734400" cy="1295280"/>
          </a:xfrm>
        </p:grpSpPr>
        <p:grpSp>
          <p:nvGrpSpPr>
            <p:cNvPr id="873" name=""/>
            <p:cNvGrpSpPr/>
            <p:nvPr/>
          </p:nvGrpSpPr>
          <p:grpSpPr>
            <a:xfrm>
              <a:off x="1968480" y="3657600"/>
              <a:ext cx="734400" cy="685800"/>
              <a:chOff x="1968480" y="3657600"/>
              <a:chExt cx="734400" cy="685800"/>
            </a:xfrm>
          </p:grpSpPr>
          <p:sp>
            <p:nvSpPr>
              <p:cNvPr id="874" name=""/>
              <p:cNvSpPr/>
              <p:nvPr/>
            </p:nvSpPr>
            <p:spPr>
              <a:xfrm>
                <a:off x="1968480" y="3962520"/>
                <a:ext cx="35244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320920" y="3962520"/>
                <a:ext cx="35244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374200" y="3657600"/>
                <a:ext cx="328680" cy="339480"/>
              </a:xfrm>
              <a:prstGeom prst="rect">
                <a:avLst/>
              </a:prstGeom>
              <a:solidFill>
                <a:srgbClr val="fef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ahoma"/>
                  </a:rPr>
                  <a:t>U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2039760" y="4419720"/>
              <a:ext cx="563760" cy="53316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"/>
          <p:cNvSpPr/>
          <p:nvPr/>
        </p:nvSpPr>
        <p:spPr>
          <a:xfrm>
            <a:off x="3375000" y="4419720"/>
            <a:ext cx="282600" cy="457200"/>
          </a:xfrm>
          <a:prstGeom prst="upArrow">
            <a:avLst>
              <a:gd name="adj1" fmla="val 50000"/>
              <a:gd name="adj2" fmla="val 4044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8BCC-AF47-40DA-BC8B-8C934363BC27}" type="slidenum">
              <a:t>54</a:t>
            </a:fld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dur="indefinite" fill="hold">
                      <p:stCondLst>
                        <p:cond delay="indefinite"/>
                      </p:stCondLst>
                      <p:childTnLst>
                        <p:par>
                          <p:cTn id="3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dur="indefinite" fill="hold">
                      <p:stCondLst>
                        <p:cond delay="indefinite"/>
                      </p:stCondLst>
                      <p:childTnLst>
                        <p:par>
                          <p:cTn id="3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dur="indefinite" fill="hold">
                      <p:stCondLst>
                        <p:cond delay="indefinite"/>
                      </p:stCondLst>
                      <p:childTnLst>
                        <p:par>
                          <p:cTn id="3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dur="indefinite" fill="hold">
                      <p:stCondLst>
                        <p:cond delay="indefinite"/>
                      </p:stCondLst>
                      <p:childTnLst>
                        <p:par>
                          <p:cTn id="3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dur="indefinite" fill="hold">
                      <p:stCondLst>
                        <p:cond delay="indefinite"/>
                      </p:stCondLst>
                      <p:childTnLst>
                        <p:par>
                          <p:cTn id="3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dur="indefinite" fill="hold">
                      <p:stCondLst>
                        <p:cond delay="indefinite"/>
                      </p:stCondLst>
                      <p:childTnLst>
                        <p:par>
                          <p:cTn id="3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dur="indefinite" fill="hold">
                      <p:stCondLst>
                        <p:cond delay="indefinite"/>
                      </p:stCondLst>
                      <p:childTnLst>
                        <p:par>
                          <p:cTn id="3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dur="indefinite" fill="hold">
                      <p:stCondLst>
                        <p:cond delay="indefinite"/>
                      </p:stCondLst>
                      <p:childTnLst>
                        <p:par>
                          <p:cTn id="3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dur="indefinite" fill="hold">
                      <p:stCondLst>
                        <p:cond delay="indefinite"/>
                      </p:stCondLst>
                      <p:childTnLst>
                        <p:par>
                          <p:cTn id="4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dur="indefinite" fill="hold">
                      <p:stCondLst>
                        <p:cond delay="indefinite"/>
                      </p:stCondLst>
                      <p:childTnLst>
                        <p:par>
                          <p:cTn id="4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dur="indefinite" fill="hold">
                      <p:stCondLst>
                        <p:cond delay="indefinite"/>
                      </p:stCondLst>
                      <p:childTnLst>
                        <p:par>
                          <p:cTn id="4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dur="indefinite" fill="hold">
                      <p:stCondLst>
                        <p:cond delay="indefinite"/>
                      </p:stCondLst>
                      <p:childTnLst>
                        <p:par>
                          <p:cTn id="4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dur="indefinite" fill="hold">
                      <p:stCondLst>
                        <p:cond delay="indefinite"/>
                      </p:stCondLst>
                      <p:childTnLst>
                        <p:par>
                          <p:cTn id="4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dur="indefinite" fill="hold">
                      <p:stCondLst>
                        <p:cond delay="indefinite"/>
                      </p:stCondLst>
                      <p:childTnLst>
                        <p:par>
                          <p:cTn id="4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dur="indefinite" fill="hold">
                      <p:stCondLst>
                        <p:cond delay="indefinite"/>
                      </p:stCondLst>
                      <p:childTnLst>
                        <p:par>
                          <p:cTn id="4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dur="indefinite" fill="hold">
                      <p:stCondLst>
                        <p:cond delay="indefinite"/>
                      </p:stCondLst>
                      <p:childTnLst>
                        <p:par>
                          <p:cTn id="4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dur="indefinite" fill="hold">
                      <p:stCondLst>
                        <p:cond delay="indefinite"/>
                      </p:stCondLst>
                      <p:childTnLst>
                        <p:par>
                          <p:cTn id="4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dur="indefinite" fill="hold">
                      <p:stCondLst>
                        <p:cond delay="indefinite"/>
                      </p:stCondLst>
                      <p:childTnLst>
                        <p:par>
                          <p:cTn id="4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dur="indefinite" fill="hold">
                      <p:stCondLst>
                        <p:cond delay="indefinite"/>
                      </p:stCondLst>
                      <p:childTnLst>
                        <p:par>
                          <p:cTn id="4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dur="indefinite" fill="hold">
                      <p:stCondLst>
                        <p:cond delay="indefinite"/>
                      </p:stCondLst>
                      <p:childTnLst>
                        <p:par>
                          <p:cTn id="4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dur="indefinite" fill="hold">
                      <p:stCondLst>
                        <p:cond delay="indefinite"/>
                      </p:stCondLst>
                      <p:childTnLst>
                        <p:par>
                          <p:cTn id="4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dur="indefinite" fill="hold">
                      <p:stCondLst>
                        <p:cond delay="indefinite"/>
                      </p:stCondLst>
                      <p:childTnLst>
                        <p:par>
                          <p:cTn id="4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dur="indefinite" fill="hold">
                      <p:stCondLst>
                        <p:cond delay="indefinite"/>
                      </p:stCondLst>
                      <p:childTnLst>
                        <p:par>
                          <p:cTn id="4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 clock: one more roun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w suppose that some page is used, and then another page f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ne to be replaced is the least recently used from last clock turn (approximately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3187800" y="3657600"/>
            <a:ext cx="734040" cy="685800"/>
            <a:chOff x="3187800" y="3657600"/>
            <a:chExt cx="734040" cy="685800"/>
          </a:xfrm>
        </p:grpSpPr>
        <p:sp>
          <p:nvSpPr>
            <p:cNvPr id="882" name=""/>
            <p:cNvSpPr/>
            <p:nvPr/>
          </p:nvSpPr>
          <p:spPr>
            <a:xfrm>
              <a:off x="318780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54024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593160" y="36576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4371840" y="3657600"/>
            <a:ext cx="734400" cy="685800"/>
            <a:chOff x="4371840" y="3657600"/>
            <a:chExt cx="734400" cy="685800"/>
          </a:xfrm>
        </p:grpSpPr>
        <p:sp>
          <p:nvSpPr>
            <p:cNvPr id="886" name=""/>
            <p:cNvSpPr/>
            <p:nvPr/>
          </p:nvSpPr>
          <p:spPr>
            <a:xfrm>
              <a:off x="437184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72284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777560" y="36576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5556240" y="3657600"/>
            <a:ext cx="734400" cy="685800"/>
            <a:chOff x="5556240" y="3657600"/>
            <a:chExt cx="734400" cy="685800"/>
          </a:xfrm>
        </p:grpSpPr>
        <p:sp>
          <p:nvSpPr>
            <p:cNvPr id="890" name=""/>
            <p:cNvSpPr/>
            <p:nvPr/>
          </p:nvSpPr>
          <p:spPr>
            <a:xfrm>
              <a:off x="555624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90724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961960" y="36576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6740640" y="3657600"/>
            <a:ext cx="732600" cy="685800"/>
            <a:chOff x="6740640" y="3657600"/>
            <a:chExt cx="732600" cy="685800"/>
          </a:xfrm>
        </p:grpSpPr>
        <p:sp>
          <p:nvSpPr>
            <p:cNvPr id="894" name=""/>
            <p:cNvSpPr/>
            <p:nvPr/>
          </p:nvSpPr>
          <p:spPr>
            <a:xfrm>
              <a:off x="674064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09128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144560" y="36576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1968480" y="5029200"/>
            <a:ext cx="734400" cy="685800"/>
            <a:chOff x="1968480" y="5029200"/>
            <a:chExt cx="734400" cy="685800"/>
          </a:xfrm>
        </p:grpSpPr>
        <p:sp>
          <p:nvSpPr>
            <p:cNvPr id="898" name=""/>
            <p:cNvSpPr/>
            <p:nvPr/>
          </p:nvSpPr>
          <p:spPr>
            <a:xfrm>
              <a:off x="196848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32092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374200" y="50292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3187800" y="5029200"/>
            <a:ext cx="734040" cy="685800"/>
            <a:chOff x="3187800" y="5029200"/>
            <a:chExt cx="734040" cy="685800"/>
          </a:xfrm>
        </p:grpSpPr>
        <p:sp>
          <p:nvSpPr>
            <p:cNvPr id="902" name=""/>
            <p:cNvSpPr/>
            <p:nvPr/>
          </p:nvSpPr>
          <p:spPr>
            <a:xfrm>
              <a:off x="318780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54024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593160" y="50292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4371840" y="5029200"/>
            <a:ext cx="734400" cy="685800"/>
            <a:chOff x="4371840" y="5029200"/>
            <a:chExt cx="734400" cy="685800"/>
          </a:xfrm>
        </p:grpSpPr>
        <p:sp>
          <p:nvSpPr>
            <p:cNvPr id="906" name=""/>
            <p:cNvSpPr/>
            <p:nvPr/>
          </p:nvSpPr>
          <p:spPr>
            <a:xfrm>
              <a:off x="437184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72284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777560" y="50292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5556240" y="5029200"/>
            <a:ext cx="734400" cy="685800"/>
            <a:chOff x="5556240" y="5029200"/>
            <a:chExt cx="734400" cy="685800"/>
          </a:xfrm>
        </p:grpSpPr>
        <p:sp>
          <p:nvSpPr>
            <p:cNvPr id="910" name=""/>
            <p:cNvSpPr/>
            <p:nvPr/>
          </p:nvSpPr>
          <p:spPr>
            <a:xfrm>
              <a:off x="555624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90724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961960" y="50292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6740640" y="5029200"/>
            <a:ext cx="732600" cy="685800"/>
            <a:chOff x="6740640" y="5029200"/>
            <a:chExt cx="732600" cy="685800"/>
          </a:xfrm>
        </p:grpSpPr>
        <p:sp>
          <p:nvSpPr>
            <p:cNvPr id="914" name=""/>
            <p:cNvSpPr/>
            <p:nvPr/>
          </p:nvSpPr>
          <p:spPr>
            <a:xfrm>
              <a:off x="674064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091280" y="53341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144560" y="50292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1968480" y="3657600"/>
            <a:ext cx="734400" cy="685800"/>
            <a:chOff x="1968480" y="3657600"/>
            <a:chExt cx="734400" cy="685800"/>
          </a:xfrm>
        </p:grpSpPr>
        <p:sp>
          <p:nvSpPr>
            <p:cNvPr id="918" name=""/>
            <p:cNvSpPr/>
            <p:nvPr/>
          </p:nvSpPr>
          <p:spPr>
            <a:xfrm>
              <a:off x="196848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320920" y="3962520"/>
              <a:ext cx="352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374200" y="3657600"/>
              <a:ext cx="32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1" name=""/>
          <p:cNvSpPr/>
          <p:nvPr/>
        </p:nvSpPr>
        <p:spPr>
          <a:xfrm>
            <a:off x="3375000" y="4419720"/>
            <a:ext cx="282600" cy="457200"/>
          </a:xfrm>
          <a:prstGeom prst="upArrow">
            <a:avLst>
              <a:gd name="adj1" fmla="val 50000"/>
              <a:gd name="adj2" fmla="val 4044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3165480" y="3657600"/>
            <a:ext cx="767520" cy="685800"/>
            <a:chOff x="3165480" y="3657600"/>
            <a:chExt cx="767520" cy="685800"/>
          </a:xfrm>
        </p:grpSpPr>
        <p:sp>
          <p:nvSpPr>
            <p:cNvPr id="923" name=""/>
            <p:cNvSpPr/>
            <p:nvPr/>
          </p:nvSpPr>
          <p:spPr>
            <a:xfrm>
              <a:off x="3165480" y="3962520"/>
              <a:ext cx="379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544920" y="3962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04320" y="3657600"/>
              <a:ext cx="32868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6694560" y="3657600"/>
            <a:ext cx="767520" cy="685800"/>
            <a:chOff x="6694560" y="3657600"/>
            <a:chExt cx="767520" cy="685800"/>
          </a:xfrm>
        </p:grpSpPr>
        <p:sp>
          <p:nvSpPr>
            <p:cNvPr id="927" name=""/>
            <p:cNvSpPr/>
            <p:nvPr/>
          </p:nvSpPr>
          <p:spPr>
            <a:xfrm>
              <a:off x="6694560" y="3962520"/>
              <a:ext cx="379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074000" y="3962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133400" y="3657600"/>
              <a:ext cx="32868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4361040" y="5029200"/>
            <a:ext cx="767520" cy="685800"/>
            <a:chOff x="4361040" y="5029200"/>
            <a:chExt cx="767520" cy="685800"/>
          </a:xfrm>
        </p:grpSpPr>
        <p:sp>
          <p:nvSpPr>
            <p:cNvPr id="931" name=""/>
            <p:cNvSpPr/>
            <p:nvPr/>
          </p:nvSpPr>
          <p:spPr>
            <a:xfrm>
              <a:off x="4361040" y="5334120"/>
              <a:ext cx="3790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740120" y="53341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799880" y="5029200"/>
              <a:ext cx="32868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4361040" y="3657600"/>
            <a:ext cx="767520" cy="685800"/>
            <a:chOff x="4361040" y="3657600"/>
            <a:chExt cx="767520" cy="685800"/>
          </a:xfrm>
        </p:grpSpPr>
        <p:sp>
          <p:nvSpPr>
            <p:cNvPr id="935" name=""/>
            <p:cNvSpPr/>
            <p:nvPr/>
          </p:nvSpPr>
          <p:spPr>
            <a:xfrm>
              <a:off x="4361040" y="3962520"/>
              <a:ext cx="3790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740120" y="39625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799880" y="3657600"/>
              <a:ext cx="32868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3165480" y="5029200"/>
            <a:ext cx="767520" cy="685800"/>
            <a:chOff x="3165480" y="5029200"/>
            <a:chExt cx="767520" cy="685800"/>
          </a:xfrm>
        </p:grpSpPr>
        <p:sp>
          <p:nvSpPr>
            <p:cNvPr id="939" name=""/>
            <p:cNvSpPr/>
            <p:nvPr/>
          </p:nvSpPr>
          <p:spPr>
            <a:xfrm>
              <a:off x="3165480" y="5334120"/>
              <a:ext cx="379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544920" y="53341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604320" y="5029200"/>
              <a:ext cx="32868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5499000" y="3657600"/>
            <a:ext cx="767880" cy="685800"/>
            <a:chOff x="5499000" y="3657600"/>
            <a:chExt cx="767880" cy="685800"/>
          </a:xfrm>
        </p:grpSpPr>
        <p:sp>
          <p:nvSpPr>
            <p:cNvPr id="943" name=""/>
            <p:cNvSpPr/>
            <p:nvPr/>
          </p:nvSpPr>
          <p:spPr>
            <a:xfrm>
              <a:off x="5499000" y="3962520"/>
              <a:ext cx="379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878440" y="39625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938200" y="3657600"/>
              <a:ext cx="32868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3375000" y="5867280"/>
            <a:ext cx="282600" cy="457200"/>
          </a:xfrm>
          <a:prstGeom prst="upArrow">
            <a:avLst>
              <a:gd name="adj1" fmla="val 50000"/>
              <a:gd name="adj2" fmla="val 4044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3165480" y="3657600"/>
            <a:ext cx="767520" cy="1295280"/>
            <a:chOff x="3165480" y="3657600"/>
            <a:chExt cx="767520" cy="1295280"/>
          </a:xfrm>
        </p:grpSpPr>
        <p:grpSp>
          <p:nvGrpSpPr>
            <p:cNvPr id="948" name=""/>
            <p:cNvGrpSpPr/>
            <p:nvPr/>
          </p:nvGrpSpPr>
          <p:grpSpPr>
            <a:xfrm>
              <a:off x="3165480" y="3657600"/>
              <a:ext cx="767520" cy="685800"/>
              <a:chOff x="3165480" y="3657600"/>
              <a:chExt cx="767520" cy="685800"/>
            </a:xfrm>
          </p:grpSpPr>
          <p:sp>
            <p:nvSpPr>
              <p:cNvPr id="949" name=""/>
              <p:cNvSpPr/>
              <p:nvPr/>
            </p:nvSpPr>
            <p:spPr>
              <a:xfrm>
                <a:off x="3165480" y="3962520"/>
                <a:ext cx="37944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544920" y="3962520"/>
                <a:ext cx="380880" cy="380880"/>
              </a:xfrm>
              <a:prstGeom prst="rect">
                <a:avLst/>
              </a:prstGeom>
              <a:solidFill>
                <a:srgbClr val="fefd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604320" y="3657600"/>
                <a:ext cx="328680" cy="339480"/>
              </a:xfrm>
              <a:prstGeom prst="rect">
                <a:avLst/>
              </a:prstGeom>
              <a:solidFill>
                <a:srgbClr val="fef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ahoma"/>
                  </a:rPr>
                  <a:t>U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2" name=""/>
            <p:cNvSpPr/>
            <p:nvPr/>
          </p:nvSpPr>
          <p:spPr>
            <a:xfrm>
              <a:off x="3240000" y="4419720"/>
              <a:ext cx="609840" cy="53316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5486400" y="3657600"/>
            <a:ext cx="767520" cy="685800"/>
            <a:chOff x="5486400" y="3657600"/>
            <a:chExt cx="767520" cy="685800"/>
          </a:xfrm>
        </p:grpSpPr>
        <p:sp>
          <p:nvSpPr>
            <p:cNvPr id="954" name=""/>
            <p:cNvSpPr/>
            <p:nvPr/>
          </p:nvSpPr>
          <p:spPr>
            <a:xfrm>
              <a:off x="5486400" y="3962520"/>
              <a:ext cx="379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865840" y="3962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925240" y="3657600"/>
              <a:ext cx="32868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6681960" y="3657600"/>
            <a:ext cx="775440" cy="685800"/>
            <a:chOff x="6681960" y="3657600"/>
            <a:chExt cx="775440" cy="685800"/>
          </a:xfrm>
        </p:grpSpPr>
        <p:sp>
          <p:nvSpPr>
            <p:cNvPr id="958" name=""/>
            <p:cNvSpPr/>
            <p:nvPr/>
          </p:nvSpPr>
          <p:spPr>
            <a:xfrm>
              <a:off x="6681960" y="3962520"/>
              <a:ext cx="3870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067520" y="3962520"/>
              <a:ext cx="3873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128720" y="3657600"/>
              <a:ext cx="32868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1911240" y="5029200"/>
            <a:ext cx="769320" cy="685800"/>
            <a:chOff x="1911240" y="5029200"/>
            <a:chExt cx="769320" cy="685800"/>
          </a:xfrm>
        </p:grpSpPr>
        <p:sp>
          <p:nvSpPr>
            <p:cNvPr id="962" name=""/>
            <p:cNvSpPr/>
            <p:nvPr/>
          </p:nvSpPr>
          <p:spPr>
            <a:xfrm>
              <a:off x="1911240" y="5334120"/>
              <a:ext cx="3794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290680" y="53341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351880" y="5029200"/>
              <a:ext cx="32868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DC0E-0A62-4978-B9DD-B78A3507E3A9}" type="slidenum">
              <a:t>55</a:t>
            </a:fld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dur="indefinite" fill="hold">
                      <p:stCondLst>
                        <p:cond delay="indefinite"/>
                      </p:stCondLst>
                      <p:childTnLst>
                        <p:par>
                          <p:cTn id="4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dur="indefinite" fill="hold">
                            <p:stCondLst>
                              <p:cond delay="1"/>
                            </p:stCondLst>
                            <p:childTnLst>
                              <p:par>
                                <p:cTn id="46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dur="indefinite" fill="hold">
                            <p:stCondLst>
                              <p:cond delay="2"/>
                            </p:stCondLst>
                            <p:childTnLst>
                              <p:par>
                                <p:cTn id="47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dur="indefinite" fill="hold">
                            <p:stCondLst>
                              <p:cond delay="3"/>
                            </p:stCondLst>
                            <p:childTnLst>
                              <p:par>
                                <p:cTn id="4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dur="indefinite" fill="hold">
                            <p:stCondLst>
                              <p:cond delay="4"/>
                            </p:stCondLst>
                            <p:childTnLst>
                              <p:par>
                                <p:cTn id="47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dur="indefinite" fill="hold">
                            <p:stCondLst>
                              <p:cond delay="5"/>
                            </p:stCondLst>
                            <p:childTnLst>
                              <p:par>
                                <p:cTn id="48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dur="indefinite" fill="hold">
                            <p:stCondLst>
                              <p:cond delay="6"/>
                            </p:stCondLst>
                            <p:childTnLst>
                              <p:par>
                                <p:cTn id="48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dur="indefinite" fill="hold">
                      <p:stCondLst>
                        <p:cond delay="indefinite"/>
                      </p:stCondLst>
                      <p:childTnLst>
                        <p:par>
                          <p:cTn id="4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dur="indefinite" fill="hold">
                            <p:stCondLst>
                              <p:cond delay="1"/>
                            </p:stCondLst>
                            <p:childTnLst>
                              <p:par>
                                <p:cTn id="4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dur="indefinite" fill="hold">
                            <p:stCondLst>
                              <p:cond delay="2"/>
                            </p:stCondLst>
                            <p:childTnLst>
                              <p:par>
                                <p:cTn id="4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dur="indefinite" fill="hold">
                            <p:stCondLst>
                              <p:cond delay="3"/>
                            </p:stCondLst>
                            <p:childTnLst>
                              <p:par>
                                <p:cTn id="49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dur="indefinite" fill="hold">
                            <p:stCondLst>
                              <p:cond delay="4"/>
                            </p:stCondLst>
                            <p:childTnLst>
                              <p:par>
                                <p:cTn id="49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lo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not L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it approximat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so, overhead is 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ormance is between LRU and FI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r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both the U and M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6413-02EE-4533-981E-AC3879E83B6F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ach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ead of unload a page, we can put it in a temporary buffer 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re is the need for more space, take from the buffer, and move an old page into the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a page in the buffer is needed, move that page again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is way, if a page is immediately referenced after it has been moved to the buffer, we can move it again in the main memory at very little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818E-A475-4DBF-A094-B93C75CE6D6F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Replacement Polic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ree sub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Arial"/>
              </a:rPr>
              <a:t>How many pages are to be allocated to eac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ther to unload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3780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same process that made the page 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3780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all th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Arial"/>
              <a:buAutoNum type="arabicPeriod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mong the set of pages to be consider, which has to be actually unloa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4FE4-93E1-46FF-A80D-E43DB074B05A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Resident set manageme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8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et of pages in memory for a process is called “resident set siz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large should be the resident s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xed set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riable set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xed se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ry process is assigned a fixed number of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umber of frames process nev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iable se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umber of frames assigned to each process may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could increase or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A1F8-BB7E-4CA6-B254-A08EC77AB931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har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or more processes should be allowed to share some portion of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permit shard memory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allow two process to share (part of) th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s in contrast with protec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7239-60E5-430C-BA20-DE1983ECC288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Replacement scop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page fault occurs, which page should be unloa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polic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l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page of the same process should be unloa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bal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page from any process can be unloa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C53D-75F9-4AC5-A14A-6B07B00C719E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Replacement scope and polic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cope and the resident set management are not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Arial"/>
              <a:buAutoNum type="arabicPeriod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xed allocation and local re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3780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umber of frames allocated to process is fix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3780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ge to be replaced is chosen from among the frames allocated to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Arial"/>
              <a:buAutoNum type="arabicPeriod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riable allocation and local re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3780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umber of frames allocated to process i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3780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ge to be replaced is chosen from among the frames allocated to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3780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iodically, enlarge or restrict the resident 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Arial"/>
              <a:buAutoNum type="arabicPeriod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riable allocation and global re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3780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umber of frames allocated to process i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3780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ge to be replaced is chosen from among the frames allocated to all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3DEB-3E10-4FFE-9060-5C8DF4C0CF53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Replacement scope and polic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1: fixed allocation and local 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not flexible and it is never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xing a priori the number of frames is too restri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3: variable allocation and global 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a page has to be unloaded, which process should be penaliz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ral possibilities, but a few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ize of the resident set of the process that made a page fault is increased b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ize of the resident set of the process that has been penalized is decreased b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C3A6-A992-4FA6-A9FF-874E06DE274D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Variable allocation and local scop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lot of research has been concentrated on this kind of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a page fault occurs, a frame from the same process’ resident set is unloa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iodically, the resident set size is increased or decr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uitively, if the number of page faults is large, it is better to increase the resident set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number of page faults is very low, it is better to decrease the resident set size to make space for other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imple page fault measurement is not the best thing to d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14E4-8929-43D0-A47D-9AE27FCFAC74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Working se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47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(t,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is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orking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the set of pages of a process that has been accessed in the last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ants in which the process has exec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working set is a non decreasing function of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creases, the working set incr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working set changes as the time p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 process accesses only 1 page for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nsecutive units of time, the working set has siz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 process has a high degree of locality, the working set is sm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process has a “jump” and changes abruptly from one set of pages to another set of pages, the working set enlarges rapid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5DAD-DC3D-405A-A896-228DC90C57B0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Working se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itor the working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iodically remove from the resident set of a process the pages that are not in the working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rocess can execute only if its resident set includes the working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difficult to keep track of the working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ast does not always predict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ptimal value o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unknown and it depends on the process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actical strategies approximate the working set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2940-072E-4E91-A429-0623E7C8B1D1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age Fault Frequenc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ead of the keeping track of the working set, we track the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reference counter for each process, initialized to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e a minimum threshold L and a maximum threshold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a page is acc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t the Use bit t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the reference 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a page fault occ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the reference counter is smaller than L, increase the resident set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the reference counter is greater than H, decrease the resident set size by unloading the pages with use bit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t the reference counter to 0, and all use bits to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8D2B-4B43-4FBB-A650-02EF9A051E4D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FF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asic idea is to “measure” the frequency of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page faults occur oft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the reference counter between two faults does not increase m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it is below L, then increase resident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er frequency -&gt; need to increase resident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page faults occur rar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n the reference counter between two faults increases a 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it is greater then M, then decrease resident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er frequency -&gt; need to reduce resident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B7EA-6E5E-4588-B865-EFCD70C449A2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FF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50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transient periods, when there is a shift to a new locality, there is a large number of page faults in a short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erence counter cannot increase much, then always lower than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ddenly, the size of the resident set could become very l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ery page fault there is an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ize of the resident set however is not reduced with the same velo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other process could suffer from these memory pea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cess that change location takes all the space in a greedy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to find a better strateg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E7A4-C94D-4746-8B44-2F33EF38ABC3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Variable-interval Sampled Working Se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S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is strategy, we define an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e beginning of the interval, all use bits are reset to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a page is accessed, its use bit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the end of the interval, the use bits are sc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the pages with use bit = 1 are kept in the resident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the pages with use bit = 0 are discar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interval boundaries, the resident set can only de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ring the interval, when a page fault occurs, the resident set is increased b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A759-1C88-4C51-93B8-2FDE962E79FA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Logical organis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hysical memory is a linear array of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, a program is often organised i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ules can be compiled separately and then linked togheter at th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module should be read-only (for example the code) some other should be read/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ules can be shared among proce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91B3-E009-41CB-AF19-A0562BC1A7E5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VSW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: minimum duration of the sampling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: maximum duration of the sampling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: maximum number of page faults in the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Arial"/>
              <a:buAutoNum type="arabicPeriod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rtual time (e.g. number of memory reference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Arial"/>
              <a:buAutoNum type="arabicPeriod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 virtual time since last sampling instance reaches L, suspend the process and scan the use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ard all the pages with use bit = 0, set all remaining pages’ use bit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Arial"/>
              <a:buAutoNum type="arabicPeriod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, priori to an elapsed virtual time of L, Q page faults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virtual time is less than M, wait until the elapsed time is equal to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virtual time is greater than M, suspend the process and scan again the use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B12C-32FE-4E5F-BC68-C3A771DD664C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VSW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interval is not fix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can vary between M and L, depending on the amount of time in which Q page faults have occur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the number of page faults is large (for example during transitions) the interval is short (but never shorter than M), so the resident set cannot b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the number of page faults is small, the interval is large (but never larger than L), and the resident set does not change m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88F8-E724-4D27-AC68-39081848BF7D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Load contro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umber of processes that are totally of partially in memory is called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ultiprogramming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lem: Tra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re are too many processes in memory at the same time, the resident sets are necessarily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high number of page faults is lik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ystem spends most of the time loading pages from the disk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cessor utilisations falls down dra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2109-F7DD-47E1-836E-BB5A85A518B0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Reducing the multiprogramming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8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 number of page faults is too large, we must reduce the number of processes in memory, by swapping out some process comple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=S criter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2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mean time between faults must be equal to the average time needed to load 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2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the two are different the multiprogramming level is increased or decre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process to swap 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possibilities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2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est priority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2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ult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2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rges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2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8B2A-FE0D-4B78-A58D-4A87402E7BE6}" type="slidenum">
              <a:t>73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hysical organisation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support virtual memory, that is virtually infinite, the mass storage memory i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there is no more memory space, some process is “swapped ou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the process must execute again, it is “swapped i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swapping is the responsibility of the memory managemen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8FB4-DAFD-4EE9-9CA0-60599F93BE5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56816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QUES: PARTI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BA6C-3AED-4898-8CC6-16D6F72AC60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