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16E43-10FF-471E-8CAB-07501AC2F3C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59080" y="507960"/>
            <a:ext cx="3386160" cy="25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320840" y="3215880"/>
            <a:ext cx="72612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55A-73A3-4EC6-9279-C1AD3B21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ED7-A0BF-40D1-A883-682331FC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B65-3C87-4FA3-9525-752CB062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0C5-C61E-45F2-A430-FB8383CC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EB7-FCB0-42CA-88BC-BB09DE78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F3E-33AA-4FF0-A526-B285BD2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01F1-F240-4E38-84AD-1C63050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CB9-822C-48A8-9C92-04F1EF2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BD7E-696E-4312-AD26-D109B128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9B06-E8BC-40EE-A54F-61A2737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69A5-7293-43A4-B1B4-CE7BF5C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4F0-83D7-47B5-9A37-8585EE6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70D3-6932-4993-A05A-790EF062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D4EF-EA49-4A58-9112-1E7C069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A465-0B2D-4519-9370-5A1B39F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52A8-2A14-4D07-A39B-A77E9BD6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17A8-7946-4712-B29B-593B9DF0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DD5-780A-4DDA-ADF5-50F61B7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C24-156C-40D9-9C4C-314A9350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2F4-507F-4ADB-8CCA-F6777F4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D59-7B5A-4527-ADAC-B9C54C7A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0EF-E453-4E39-A7F0-F4892AE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FB3-CB80-40D8-9416-0D96431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2C2-E265-4AA8-9C34-2FE6D71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E90F0-2B3E-4830-B676-C80DA26DF6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A9216-A371-44D6-A80B-4DE6BB5A7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- bas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429000" y="1523880"/>
            <a:ext cx="1522440" cy="379440"/>
            <a:chOff x="3429000" y="1523880"/>
            <a:chExt cx="1522440" cy="379440"/>
          </a:xfrm>
        </p:grpSpPr>
        <p:sp>
          <p:nvSpPr>
            <p:cNvPr id="143" name=""/>
            <p:cNvSpPr/>
            <p:nvPr/>
          </p:nvSpPr>
          <p:spPr>
            <a:xfrm>
              <a:off x="3429000" y="152388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3400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656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912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988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62440" y="152388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6440" y="152388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429000" y="2362320"/>
            <a:ext cx="1522440" cy="379440"/>
            <a:chOff x="3429000" y="2362320"/>
            <a:chExt cx="1522440" cy="379440"/>
          </a:xfrm>
        </p:grpSpPr>
        <p:sp>
          <p:nvSpPr>
            <p:cNvPr id="151" name=""/>
            <p:cNvSpPr/>
            <p:nvPr/>
          </p:nvSpPr>
          <p:spPr>
            <a:xfrm>
              <a:off x="3429000" y="236232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400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1656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912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7988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2440" y="236232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46440" y="236232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429000" y="3200400"/>
            <a:ext cx="1522440" cy="379440"/>
            <a:chOff x="3429000" y="3200400"/>
            <a:chExt cx="1522440" cy="379440"/>
          </a:xfrm>
        </p:grpSpPr>
        <p:sp>
          <p:nvSpPr>
            <p:cNvPr id="159" name=""/>
            <p:cNvSpPr/>
            <p:nvPr/>
          </p:nvSpPr>
          <p:spPr>
            <a:xfrm>
              <a:off x="3429000" y="320040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3400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1656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9912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7988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62440" y="32004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46440" y="320040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429000" y="4572000"/>
            <a:ext cx="1522440" cy="379440"/>
            <a:chOff x="3429000" y="4572000"/>
            <a:chExt cx="1522440" cy="379440"/>
          </a:xfrm>
        </p:grpSpPr>
        <p:sp>
          <p:nvSpPr>
            <p:cNvPr id="167" name=""/>
            <p:cNvSpPr/>
            <p:nvPr/>
          </p:nvSpPr>
          <p:spPr>
            <a:xfrm>
              <a:off x="3429000" y="4572000"/>
              <a:ext cx="1522440" cy="379440"/>
            </a:xfrm>
            <a:prstGeom prst="roundRect">
              <a:avLst>
                <a:gd name="adj" fmla="val 41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3400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656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9912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7988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62440" y="4572000"/>
              <a:ext cx="144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6440" y="4572000"/>
              <a:ext cx="180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951440" y="125100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67280" y="207180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67280" y="2909880"/>
            <a:ext cx="6447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0" y="4281480"/>
            <a:ext cx="6645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Q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05720" y="1219320"/>
            <a:ext cx="1217520" cy="1065240"/>
            <a:chOff x="6705720" y="1219320"/>
            <a:chExt cx="1217520" cy="1065240"/>
          </a:xfrm>
        </p:grpSpPr>
        <p:sp>
          <p:nvSpPr>
            <p:cNvPr id="179" name=""/>
            <p:cNvSpPr/>
            <p:nvPr/>
          </p:nvSpPr>
          <p:spPr>
            <a:xfrm>
              <a:off x="6705720" y="1219320"/>
              <a:ext cx="1217520" cy="1065240"/>
            </a:xfrm>
            <a:prstGeom prst="ellipse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86440" y="1378080"/>
              <a:ext cx="858960" cy="7491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952880" y="1752480"/>
            <a:ext cx="1752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6765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1749600"/>
            <a:ext cx="1440" cy="29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5146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3526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7242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15200" y="2286000"/>
            <a:ext cx="144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663640" y="5562720"/>
            <a:ext cx="465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666880" y="1673280"/>
            <a:ext cx="1800" cy="38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5146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352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7242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297180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2840" y="2529000"/>
            <a:ext cx="87804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d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86480" y="2743200"/>
            <a:ext cx="1530360" cy="37152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A5D-550E-453C-954D-5AC5BEEE8C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scheduling polic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queue is ordered by arriv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Robin (simpl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 preempts executing process and put it back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ady queue is ordered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N (Shortest Process Nex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est process execut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(Shortest Remaining Tim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SPN but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RN (Highest Response Ratio Nex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with the highest response ratio execute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Round Robin but with multiple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965-62DB-4A3B-85F1-650A057691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is ident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iv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time 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ime to be complet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time w (time waiting to be servic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or-bou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 little access to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sive processo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O-bou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kes a big amount of I/O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nsive use of I/O devices, it is blocked most of th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around time (TA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total time that the process spends in the system, (service time + waiting tim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ized 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AT = TAT/service time:   (w + s) /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75C-A6C0-4EC4-9F20-A7E0789965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C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policy is not very good for shor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fact, if a short process arrives just after a long process, it must wait for the long proces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high N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-bound processes have an advantage over I/O bou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from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4B1-4BA8-497D-8283-9FCECBAC69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ound Rob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s an advantage to shor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“slicing” long processes, the response time of short process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process switch is not for free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quantum size imply high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 from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616-3627-41E5-AEBA-9800EFBCC5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ortest process n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 the shortest process from th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requires an estimation of the execution time of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obtained by averaging over past history, in exponenti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obtained from pas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RR, it gives advantage to smal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lead to star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560-D46A-4408-B19D-45B94EC70E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-feedback que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cheduler consis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 queues,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...,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queue is ordered in FIF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ixed time quantum Q (like in Round Robi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heduler chooses the first process in the highest priority queue and sets the timer equal to Q. Let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 the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completes or blocks before the timer expires, select the next process (go to 1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process has not yet completed by Q, move the process to the next queue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(k+1)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is activated or it is unblocked, it goes in the highest priority queue RQ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780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Tahoma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iodically, processes can be “moved up” if they were not able to execute enough (to avoid starvation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741-DE81-41E3-803A-8CE758098FF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ple-feedback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cheduling policy tries to overcome the penalty for I/O bou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cess always starts from R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hort process, will probably complete very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/O-bound process is always executed with very sh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ng CPU-bound eventually goes in the last queue R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ystem is heavily loaded, periodically the CPU-bound processes in the last queue are “promoted” to higher priority que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87F-F8D5-41FE-BDE7-13CC0BCD1C70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ing is the activity of selecting which process/thread should be executed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distinguish 3 types of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creating a process, decides if it must be activ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um term schedu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s if a process has to swapped out/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 term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s which process has to be execute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BEB-0B96-4E0C-90E8-114B53B6FD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95480" y="1400040"/>
            <a:ext cx="1219320" cy="762120"/>
            <a:chOff x="2895480" y="1400040"/>
            <a:chExt cx="1219320" cy="762120"/>
          </a:xfrm>
        </p:grpSpPr>
        <p:sp>
          <p:nvSpPr>
            <p:cNvPr id="102" name=""/>
            <p:cNvSpPr/>
            <p:nvPr/>
          </p:nvSpPr>
          <p:spPr>
            <a:xfrm>
              <a:off x="2895480" y="1400040"/>
              <a:ext cx="121932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76560" y="1512720"/>
              <a:ext cx="8589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14400" y="2695680"/>
            <a:ext cx="1751040" cy="760320"/>
            <a:chOff x="914400" y="2695680"/>
            <a:chExt cx="1751040" cy="760320"/>
          </a:xfrm>
        </p:grpSpPr>
        <p:sp>
          <p:nvSpPr>
            <p:cNvPr id="105" name=""/>
            <p:cNvSpPr/>
            <p:nvPr/>
          </p:nvSpPr>
          <p:spPr>
            <a:xfrm>
              <a:off x="914400" y="2695680"/>
              <a:ext cx="175104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73240" y="2808360"/>
              <a:ext cx="123336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dy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sp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343400" y="2695680"/>
            <a:ext cx="1219320" cy="760320"/>
            <a:chOff x="4343400" y="2695680"/>
            <a:chExt cx="1219320" cy="760320"/>
          </a:xfrm>
        </p:grpSpPr>
        <p:sp>
          <p:nvSpPr>
            <p:cNvPr id="108" name=""/>
            <p:cNvSpPr/>
            <p:nvPr/>
          </p:nvSpPr>
          <p:spPr>
            <a:xfrm>
              <a:off x="4343400" y="2695680"/>
              <a:ext cx="121932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24480" y="2808360"/>
              <a:ext cx="85860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238880" y="2695680"/>
            <a:ext cx="1447920" cy="760320"/>
            <a:chOff x="7238880" y="2695680"/>
            <a:chExt cx="1447920" cy="760320"/>
          </a:xfrm>
        </p:grpSpPr>
        <p:sp>
          <p:nvSpPr>
            <p:cNvPr id="111" name=""/>
            <p:cNvSpPr/>
            <p:nvPr/>
          </p:nvSpPr>
          <p:spPr>
            <a:xfrm>
              <a:off x="7238880" y="2695680"/>
              <a:ext cx="1447920" cy="7603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3440" y="2808360"/>
              <a:ext cx="1020600" cy="5349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3000" y="4371840"/>
            <a:ext cx="1522440" cy="762120"/>
            <a:chOff x="1143000" y="4371840"/>
            <a:chExt cx="1522440" cy="762120"/>
          </a:xfrm>
        </p:grpSpPr>
        <p:sp>
          <p:nvSpPr>
            <p:cNvPr id="114" name=""/>
            <p:cNvSpPr/>
            <p:nvPr/>
          </p:nvSpPr>
          <p:spPr>
            <a:xfrm>
              <a:off x="1143000" y="4371840"/>
              <a:ext cx="152244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8360" y="4484520"/>
              <a:ext cx="10731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locke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usp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43400" y="4371840"/>
            <a:ext cx="1371600" cy="762120"/>
            <a:chOff x="4343400" y="4371840"/>
            <a:chExt cx="1371600" cy="762120"/>
          </a:xfrm>
        </p:grpSpPr>
        <p:sp>
          <p:nvSpPr>
            <p:cNvPr id="117" name=""/>
            <p:cNvSpPr/>
            <p:nvPr/>
          </p:nvSpPr>
          <p:spPr>
            <a:xfrm>
              <a:off x="4343400" y="4371840"/>
              <a:ext cx="1371600" cy="762120"/>
            </a:xfrm>
            <a:prstGeom prst="ellipse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46440" y="4484520"/>
              <a:ext cx="966960" cy="53676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Block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666880" y="307656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1480" y="3152880"/>
            <a:ext cx="14965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358720" y="2009880"/>
            <a:ext cx="615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0098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75308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076560"/>
            <a:ext cx="16761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1480" y="4829040"/>
            <a:ext cx="14965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84120" y="3152880"/>
            <a:ext cx="122220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54840" y="1781280"/>
            <a:ext cx="12193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ng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8360" y="1781280"/>
            <a:ext cx="1219320" cy="585720"/>
          </a:xfrm>
          <a:prstGeom prst="roundRect">
            <a:avLst>
              <a:gd name="adj" fmla="val 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ong-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5CA-D184-47F8-A6FA-8AC56F3EE7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ng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program is created, it goes through an admiss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admitted, the process is created and put in the ready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program is not admitted, it is put in the suspend state, until the multiprogramming level allows the process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y decision is the multiprogramm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multiprogramming level is too high, each process executes too slowly, and we risk the tr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we can “hold back” the new processes until the load is de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837-C6CE-4458-879D-6DFEC2B560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edium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the part of the OS that decides with processes to swap-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to do with the multiprogramming leve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been already discussed in the previous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6BE-47BF-4014-A433-07D5A9136B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hort-term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distingu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Selection fun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ecides which process is selected from the ready queue, according to som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Decision m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when the decision is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reemptive: once the process goes into running state, no scheduling decision can be takes until it fin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ally (like in round-robi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 process in un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n interrupt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50B-D660-4417-AC30-641B123763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cheduling criteri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evaluate a schedul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orien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 time of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-orien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put: how much work the system can do in any interval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ce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not onl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case we may want some other criter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dictability (see real-time system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2E4-7703-44D2-87C6-C3A675F473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PU-Bound and I/O b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PU-bound processes perform very little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y execute on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cc compiler, a scientific comput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O bound processes perform many I/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 time, they are blocked waiting for an I/O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nd and grep commands, the disk de-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cesses are a mixture of the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F90-DD12-4EAF-8806-064F8F8750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ority based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process is assigned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st priority process is selected to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are in a preemptive systems, when a high priority process is unblocked, it can preempt the execu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it has to wait until the previous process fi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F79-4CE9-46CF-B7CB-2A56340985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