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167C4-E4A5-4A38-9C09-504B8195B0D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74F-9D20-4013-80BC-82742062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4E0-A015-4944-A4B5-2B1C8A3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CD1-7928-4E5F-9D22-6EECC419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332-8C18-4DB4-B3DF-43BA7796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E4CC-8F03-4762-BF18-E71D4E66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6B73-6ECD-41D9-AAAC-C6DCD885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228B-20B9-4497-86D5-30D5CC47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4196-D9C8-4C58-B989-F9AD36AB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8866-113A-4236-B1F9-565525F8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C184-AB69-4F9D-8031-6ACEFB3D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D4C9-2A8E-4BEF-B513-172F519B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A54-F068-427F-9F4E-98E69D6D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52B7-A3F4-4294-B1D2-C68095E3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8562-E279-452D-946D-CBA53B6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766B-887E-4001-87D4-955CC162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BAAA-7B2D-40F1-BCED-225E57FB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58A9-CCAF-43F3-A02C-4DE2B7C0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DE2-C551-4456-83C9-88321AE1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4FC-04C9-48A3-8192-8B84997E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530-908F-48F4-B70C-746E950F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23B-917C-42A8-B208-50AF1A1A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0C6-2400-49FF-B4AE-7BCF17FD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8A0-BDDD-430F-8C78-3AD4823C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115-1382-49BA-9CC6-E131F1E3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D123D-78D1-4BC3-8392-48BF61B07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F4344-E229-42E4-A02D-E3CDC0353C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I/O subsystem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/O device control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us start from the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device has a controller that consis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dicated small processor for I/O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t of registers mapped in memory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end commands to a I/O device, write on th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ad the status of the I/O operation, read from th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PU is NOT synchronised with the I/O process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can arrive from the device in a asynchronou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D17-F953-4693-9C6F-4B22D61E7E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troller Regis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vice controller should posses at least the following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register 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ed to send commands to th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start a output data transfer, start a input data transfer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ssume that a </a:t>
            </a:r>
            <a:r>
              <a:rPr b="1" lang="en-GB" sz="1800" spc="-1" strike="noStrike">
                <a:solidFill>
                  <a:srgbClr val="3366ff"/>
                </a:solidFill>
                <a:latin typeface="Arial"/>
              </a:rPr>
              <a:t>st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it is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 Register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ed to check the status of the current operation and of th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if the transfer has been completed, it an error occurre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ssume that a </a:t>
            </a:r>
            <a:r>
              <a:rPr b="1" lang="en-GB" sz="1800" spc="-1" strike="noStrike">
                <a:solidFill>
                  <a:srgbClr val="3366ff"/>
                </a:solidFill>
                <a:latin typeface="Arial"/>
              </a:rPr>
              <a:t>fla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t is defined to signal to completion of an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have also a data register/buffer and a Configuratio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247-3ECD-466C-8DE4-9F2182E8A1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ternal pro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model the I/O controller as 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a real software process! it is only a model for its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1480" y="3352680"/>
            <a:ext cx="4646880" cy="2309400"/>
          </a:xfrm>
          <a:prstGeom prst="roundRect">
            <a:avLst>
              <a:gd name="adj" fmla="val 6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xtrernal proces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</a:t>
            </a:r>
            <a:r>
              <a:rPr b="1" lang="en-GB" sz="1800" spc="-1" strike="noStrike">
                <a:solidFill>
                  <a:srgbClr val="0033cc"/>
                </a:solidFill>
                <a:latin typeface="Tahoma"/>
              </a:rPr>
              <a:t>start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execute comman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update status regis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Tahoma"/>
              </a:rPr>
              <a:t>flag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2FA-FCB4-4BA3-8745-D7560A2A22A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haracter – based de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, we will discuss character bas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, the keyboard, the serial lin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ransfer n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 different I/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the simplest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143-2977-46C0-AF33-1C552893A03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oll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erating system directly checks the flag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e wa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124080"/>
            <a:ext cx="3733920" cy="2590920"/>
          </a:xfrm>
          <a:prstGeom prst="roundRect">
            <a:avLst>
              <a:gd name="adj" fmla="val 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3124080"/>
            <a:ext cx="37339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prepare transf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tart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flag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statu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A65-3C45-4B81-85F1-DE12A6C099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device is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ast, then polling may be the bes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act, an interrupt based mechanism involves at least a pair of proces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the duration of the operation is less than two process switches, then polling is the most optimize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most all devices ar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lower than the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, a data transfer takes much more than two proces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se devices, an interrupt-based mechanism is the bes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6A9-F61F-4810-8ACB-46149123540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based I/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roller interrupt mechanism must be config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must specify which interrupt line is dedicated to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t devices send data on different interrupts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lines enter in the interrupt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terrupt controller will rais the interrupt pin of the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interrupt mechanism must be config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or has an “interrupt vec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very interrupt line, the address of a function (interrupt handler) is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 interrupt is raised, the corresponding interrupt handler is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D4E-D986-48CC-BC9F-07492A6543C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ing mechanis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evice driver is written as 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very special kind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a user process, but a kernel process, because it runs in the same address space of the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ollowing, it will be called Internal Process, to distinguish from the extern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define a semaphor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nal process is blocked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vail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for the completion of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interrupt handler executes, it performs the signal on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F1A-D6A9-4888-B9C8-58CEEC32593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7240" y="4398840"/>
            <a:ext cx="3133440" cy="2309400"/>
          </a:xfrm>
          <a:prstGeom prst="roundRect">
            <a:avLst>
              <a:gd name="adj" fmla="val 6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prepare transf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tart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available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statu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1320" y="1784520"/>
            <a:ext cx="2941560" cy="2032560"/>
          </a:xfrm>
          <a:prstGeom prst="roundRect">
            <a:avLst>
              <a:gd name="adj" fmla="val 7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Semaphore available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handler(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available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12200" y="1327320"/>
            <a:ext cx="20606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11200" y="3941640"/>
            <a:ext cx="192780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n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69680" y="1770120"/>
            <a:ext cx="4646880" cy="2586240"/>
          </a:xfrm>
          <a:prstGeom prst="roundRect">
            <a:avLst>
              <a:gd name="adj" fmla="val 6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xternal proces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while (start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execute comman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update status regis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flag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raise interru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5480" y="1389240"/>
            <a:ext cx="195552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tern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302-B53F-4897-B454-CF53D6995AC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emporal ev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46748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409-2922-42E2-AFA4-20FBD63878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956960"/>
            <a:ext cx="772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put – Output and Device – Driver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930480"/>
            <a:ext cx="64008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CC7-44BB-4760-8C5D-C969ECD762C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me intelligence in the hand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vious structure has one draw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data byte, the internal process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requires two process switches for every 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ansfer of subsequent bytes can be done by the interrupt handler itsel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ice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 data structure shared by the internal process and the interrup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a buffer of the data to be trans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F7F-99BA-4C52-8DD8-8DEEB3E28C5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descript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emaphore end_of_transfer, on which the internal process will be 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ddress of the device controller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us and control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byt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er for number of transferred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ffer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data is put or where data is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device descriptors are kept in a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rray is indexed by the device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vide identifier is an integer that identifies th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243-8644-4262-95D3-B6D773CB542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descript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52578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538720" y="1371600"/>
            <a:ext cx="4700160" cy="3967920"/>
            <a:chOff x="2538720" y="1371600"/>
            <a:chExt cx="4700160" cy="3967920"/>
          </a:xfrm>
        </p:grpSpPr>
        <p:sp>
          <p:nvSpPr>
            <p:cNvPr id="175" name=""/>
            <p:cNvSpPr/>
            <p:nvPr/>
          </p:nvSpPr>
          <p:spPr>
            <a:xfrm>
              <a:off x="2590920" y="1371600"/>
              <a:ext cx="4593960" cy="3944880"/>
            </a:xfrm>
            <a:prstGeom prst="roundRect">
              <a:avLst>
                <a:gd name="adj" fmla="val 3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38720" y="1371600"/>
              <a:ext cx="4700160" cy="396792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struct IO_descr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Semaphore end_of_transf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count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nbyte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*C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*S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void *buff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int statu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	</a:t>
              </a: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//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}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33cc"/>
                  </a:solidFill>
                  <a:latin typeface="Tahoma"/>
                </a:rPr>
                <a:t>struct IO_descr dev_descr[NUM_DEVICES]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F44-8D5F-4729-BE18-EDCC463A9E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ad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4723920"/>
            <a:ext cx="76201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function is invoked by the in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7360" y="1371600"/>
            <a:ext cx="5299200" cy="3139920"/>
          </a:xfrm>
          <a:prstGeom prst="roundRect">
            <a:avLst>
              <a:gd name="adj" fmla="val 4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read(int ddes, char *pbuf, int nbyte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nbytes = nbyt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counter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buffer = pbu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set start =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end_of_transfer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statu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error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 return error_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turn dev_descr[ddes].cou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9D8-40A1-4E88-8B5B-0F447632D17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9360" y="1219320"/>
            <a:ext cx="7828920" cy="5354640"/>
          </a:xfrm>
          <a:prstGeom prst="roundRect">
            <a:avLst>
              <a:gd name="adj" fmla="val 2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handler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char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for err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no error&gt;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*dev_descr[ddev].buffer = &lt;get data from device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buffer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counter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dev_descr[ddev].counter &lt; dev_descr[ddev].nbyt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set start bit =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end_of_transfer.signal()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non critical error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retry : set start bit =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status = error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7CC-8AAE-48E4-B4EB-C0122A16F89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43000" y="1724040"/>
            <a:ext cx="7543800" cy="33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196-DEFC-45FA-8C1C-F1AC869D7A6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rect memory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/O controllers support Direct Memory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I/O controller has a DM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mory address register (MA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automatically transfer a block of bytes to/from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end of the transfer, an interrupt is ra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rupt handler becomes very sim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B46-FCBF-4262-94B2-535AA40AEB5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425520"/>
            <a:ext cx="762012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5409720"/>
            <a:ext cx="76201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200400"/>
            <a:ext cx="655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657600" y="3657600"/>
            <a:ext cx="2284560" cy="1370160"/>
            <a:chOff x="3657600" y="3657600"/>
            <a:chExt cx="2284560" cy="1370160"/>
          </a:xfrm>
        </p:grpSpPr>
        <p:sp>
          <p:nvSpPr>
            <p:cNvPr id="190" name=""/>
            <p:cNvSpPr/>
            <p:nvPr/>
          </p:nvSpPr>
          <p:spPr>
            <a:xfrm>
              <a:off x="3657600" y="3657600"/>
              <a:ext cx="2284560" cy="1370160"/>
            </a:xfrm>
            <a:prstGeom prst="roundRect">
              <a:avLst>
                <a:gd name="adj" fmla="val 116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7600" y="3657600"/>
              <a:ext cx="2284560" cy="1370160"/>
            </a:xfrm>
            <a:prstGeom prst="roundRect">
              <a:avLst>
                <a:gd name="adj" fmla="val 1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800600" y="3200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09680" y="1752480"/>
            <a:ext cx="1065240" cy="912960"/>
            <a:chOff x="2209680" y="1752480"/>
            <a:chExt cx="1065240" cy="912960"/>
          </a:xfrm>
        </p:grpSpPr>
        <p:sp>
          <p:nvSpPr>
            <p:cNvPr id="194" name=""/>
            <p:cNvSpPr/>
            <p:nvPr/>
          </p:nvSpPr>
          <p:spPr>
            <a:xfrm>
              <a:off x="2209680" y="1752480"/>
              <a:ext cx="1065240" cy="912960"/>
            </a:xfrm>
            <a:prstGeom prst="roundRect">
              <a:avLst>
                <a:gd name="adj" fmla="val 171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1752480"/>
              <a:ext cx="1065240" cy="912960"/>
            </a:xfrm>
            <a:prstGeom prst="roundRect">
              <a:avLst>
                <a:gd name="adj" fmla="val 1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743200" y="2666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1447920"/>
            <a:ext cx="2362320" cy="1371600"/>
          </a:xfrm>
          <a:prstGeom prst="roundRect">
            <a:avLst>
              <a:gd name="adj" fmla="val 11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86400" y="1676520"/>
            <a:ext cx="684360" cy="303120"/>
            <a:chOff x="5486400" y="1676520"/>
            <a:chExt cx="684360" cy="303120"/>
          </a:xfrm>
        </p:grpSpPr>
        <p:sp>
          <p:nvSpPr>
            <p:cNvPr id="199" name=""/>
            <p:cNvSpPr/>
            <p:nvPr/>
          </p:nvSpPr>
          <p:spPr>
            <a:xfrm>
              <a:off x="5486400" y="1676520"/>
              <a:ext cx="684360" cy="303120"/>
            </a:xfrm>
            <a:prstGeom prst="roundRect">
              <a:avLst>
                <a:gd name="adj" fmla="val 519"/>
              </a:avLst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1676520"/>
              <a:ext cx="68436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M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86400" y="2209680"/>
            <a:ext cx="684360" cy="303480"/>
            <a:chOff x="5486400" y="2209680"/>
            <a:chExt cx="684360" cy="303480"/>
          </a:xfrm>
        </p:grpSpPr>
        <p:sp>
          <p:nvSpPr>
            <p:cNvPr id="202" name=""/>
            <p:cNvSpPr/>
            <p:nvPr/>
          </p:nvSpPr>
          <p:spPr>
            <a:xfrm>
              <a:off x="5486400" y="2209680"/>
              <a:ext cx="684360" cy="303480"/>
            </a:xfrm>
            <a:prstGeom prst="roundRect">
              <a:avLst>
                <a:gd name="adj" fmla="val 519"/>
              </a:avLst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2209680"/>
              <a:ext cx="68436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M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477120" y="1676520"/>
            <a:ext cx="684000" cy="303120"/>
            <a:chOff x="6477120" y="1676520"/>
            <a:chExt cx="684000" cy="303120"/>
          </a:xfrm>
        </p:grpSpPr>
        <p:sp>
          <p:nvSpPr>
            <p:cNvPr id="205" name=""/>
            <p:cNvSpPr/>
            <p:nvPr/>
          </p:nvSpPr>
          <p:spPr>
            <a:xfrm>
              <a:off x="6477120" y="1676520"/>
              <a:ext cx="684000" cy="303120"/>
            </a:xfrm>
            <a:prstGeom prst="roundRect">
              <a:avLst>
                <a:gd name="adj" fmla="val 519"/>
              </a:avLst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7120" y="1676520"/>
              <a:ext cx="684000" cy="3031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77120" y="2209680"/>
            <a:ext cx="684000" cy="303480"/>
            <a:chOff x="6477120" y="2209680"/>
            <a:chExt cx="684000" cy="303480"/>
          </a:xfrm>
        </p:grpSpPr>
        <p:sp>
          <p:nvSpPr>
            <p:cNvPr id="208" name=""/>
            <p:cNvSpPr/>
            <p:nvPr/>
          </p:nvSpPr>
          <p:spPr>
            <a:xfrm>
              <a:off x="6477120" y="2209680"/>
              <a:ext cx="684000" cy="303480"/>
            </a:xfrm>
            <a:prstGeom prst="roundRect">
              <a:avLst>
                <a:gd name="adj" fmla="val 519"/>
              </a:avLst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7120" y="2209680"/>
              <a:ext cx="684000" cy="30348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3273120" y="1981080"/>
            <a:ext cx="191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73080" y="1631880"/>
            <a:ext cx="11660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28195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CA9-5632-475A-A799-4FC747DBA6E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ad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5409720"/>
            <a:ext cx="76201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2400" y="1371600"/>
            <a:ext cx="5304960" cy="3693600"/>
          </a:xfrm>
          <a:prstGeom prst="roundRect">
            <a:avLst>
              <a:gd name="adj" fmla="val 4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read(int ddes, char *pbuf, int nbyte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nbytes = nbyt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s].counter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buffer = pbu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program D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MAR = pbuf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MCR = nbyt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end_of_transfer.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statu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error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 return error_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turn dev_descr[ddev].cou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5A5-087E-4EF9-9D12-C628E2891DF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16600" y="1447920"/>
            <a:ext cx="6807960" cy="3693600"/>
          </a:xfrm>
          <a:prstGeom prst="roundRect">
            <a:avLst>
              <a:gd name="adj" fmla="val 4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handler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check for err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no error&gt;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counter=&lt;MCR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end_of_transfer.signal()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f (&lt;non critical error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&lt;retry : set start bit = 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dev_descr[ddev].status = error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C35-E252-4875-A2BE-946EEABF622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bjectives of the I/O sub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hide the complex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variability of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a consinsten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(), Read(), Write(), Close(), Lseek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a na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e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rough buffering and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68D-9CA1-4287-BDD8-8FF12184D31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M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using 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verhead is further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terrupt is called only once at the end of th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ntroller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MA transfers data to memory on the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us and the memory are shared between the processor and the I/O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licts on the bus are resolved by the bus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the overhead of the DMA is not 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read/write operation from/to memory can be delayd because the I/O device could access the memory at the sam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D9B-9BE6-46D2-AF2C-552F4ADBA60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uff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fer data to use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is first loaded into an internal buffer of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, it is transferred into the user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iming reasons: while reading one buffer, I can try to load another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Virtual memory reasons: the memory of the process (which could be subject to swapping and paging) is not directly involved with the I/O hardwar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of loading data wehn we need them, load them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749-350D-4663-9793-84758E2C263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uff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single buffer for each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the operation is performed, the process cannot access th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ble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buffers for each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the operation is performed on one buffer, the other can be used by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end of the reading, we can swap the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la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xtension of the double 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used only in particular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25B-818B-427A-985E-9D125F6B4CE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lock devic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an example of block devices, we will consider the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315200" cy="36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FA1-8437-402A-B94F-E4A5B11EA7F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sk 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transfer time TF = TA + 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verage access time TA is the time to move the disk arm to the desired track and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verage byte transfer time TT is the time needed to actually transfer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 = ST + 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ek time ST is needed to move the arm on the desired tr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tational latency RL is the time waiting for the disk to rotate until the desired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reatest and most important time is the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rm moves more slowly than the disk ro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e the arm the less that is possi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D39-FFD3-4BDE-9059-D556FC06F68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me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stern Digital WDE18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linder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6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ks per cylinde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ors per trac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tes per secto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acit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.3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um 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6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2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tational Latency R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msec, (average 3 mse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transfer time TT 19 microse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F1A-11F8-4EB5-8E46-213B2E2872C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compute the time to read a 320kb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that a process wants to read 640 sectors (320 k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they are stored in two consecutive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Tra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F = ST + RL + TT = 5.2 + 3 + 6 = 1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F = ST + RL + TT = 0.6 + 3  + 6 = 9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:  23.8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they are stored in random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F = ST + RL + TT = 5.2 + 3 + 0.019 =  8.2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: 8.219 * 640 = 5.26 seconds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950-EDFD-4CDF-B560-F3015201048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huge difference in the two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much more convenient to store files consecu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re is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processes could request reading from th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serve the requests as they come, we could end up moving the arm up and down even in the case the files are stored consecutive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34E-7E82-4CE0-98A5-0A791A1A706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43430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s in the queue: 20, 14, 40, 23, 47,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FIFO, we have a very bad performance! (the arm keeps moving randoml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85800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53A-C0E3-4086-8036-B8DD657A3BC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ST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est Seek Tim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r the request that is closer to the actual position of the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s in the queue: 20, 14, 40, 23, 47,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r of service: 20, 23, 14, 7, 40,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6781680" cy="21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499-C383-48E1-9D9A-0FD904A8C24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gical organis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istinguish two logic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ce – dependen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ctly depends on the particular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ce – independen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s an uniform interface to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00400" y="3124080"/>
            <a:ext cx="2208240" cy="532080"/>
            <a:chOff x="3200400" y="3124080"/>
            <a:chExt cx="2208240" cy="532080"/>
          </a:xfrm>
        </p:grpSpPr>
        <p:sp>
          <p:nvSpPr>
            <p:cNvPr id="105" name=""/>
            <p:cNvSpPr/>
            <p:nvPr/>
          </p:nvSpPr>
          <p:spPr>
            <a:xfrm>
              <a:off x="3200400" y="3124080"/>
              <a:ext cx="2208240" cy="532080"/>
            </a:xfrm>
            <a:prstGeom prst="roundRect">
              <a:avLst>
                <a:gd name="adj" fmla="val 296"/>
              </a:avLst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0400" y="3124080"/>
              <a:ext cx="2208240" cy="532080"/>
            </a:xfrm>
            <a:prstGeom prst="roundRect">
              <a:avLst>
                <a:gd name="adj" fmla="val 29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00200" y="388620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8280" y="4114800"/>
            <a:ext cx="3884760" cy="455760"/>
            <a:chOff x="2438280" y="4114800"/>
            <a:chExt cx="3884760" cy="455760"/>
          </a:xfrm>
        </p:grpSpPr>
        <p:sp>
          <p:nvSpPr>
            <p:cNvPr id="109" name=""/>
            <p:cNvSpPr/>
            <p:nvPr/>
          </p:nvSpPr>
          <p:spPr>
            <a:xfrm>
              <a:off x="2438280" y="4114800"/>
              <a:ext cx="3884760" cy="455760"/>
            </a:xfrm>
            <a:prstGeom prst="roundRect">
              <a:avLst>
                <a:gd name="adj" fmla="val 34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8280" y="4114800"/>
              <a:ext cx="38847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 – independent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38280" y="5029200"/>
            <a:ext cx="3884760" cy="455760"/>
            <a:chOff x="2438280" y="5029200"/>
            <a:chExt cx="3884760" cy="455760"/>
          </a:xfrm>
        </p:grpSpPr>
        <p:sp>
          <p:nvSpPr>
            <p:cNvPr id="112" name=""/>
            <p:cNvSpPr/>
            <p:nvPr/>
          </p:nvSpPr>
          <p:spPr>
            <a:xfrm>
              <a:off x="2438280" y="5029200"/>
              <a:ext cx="3884760" cy="455760"/>
            </a:xfrm>
            <a:prstGeom prst="roundRect">
              <a:avLst>
                <a:gd name="adj" fmla="val 347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5029200"/>
              <a:ext cx="388476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 – dependent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600200" y="571500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38280" y="5867280"/>
            <a:ext cx="3884760" cy="608040"/>
            <a:chOff x="2438280" y="5867280"/>
            <a:chExt cx="3884760" cy="608040"/>
          </a:xfrm>
        </p:grpSpPr>
        <p:sp>
          <p:nvSpPr>
            <p:cNvPr id="116" name=""/>
            <p:cNvSpPr/>
            <p:nvPr/>
          </p:nvSpPr>
          <p:spPr>
            <a:xfrm>
              <a:off x="2438280" y="5867280"/>
              <a:ext cx="3884760" cy="608040"/>
            </a:xfrm>
            <a:prstGeom prst="roundRect">
              <a:avLst>
                <a:gd name="adj" fmla="val 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8280" y="5867280"/>
              <a:ext cx="3884760" cy="608040"/>
            </a:xfrm>
            <a:prstGeom prst="roundRect">
              <a:avLst>
                <a:gd name="adj" fmla="val 25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5943600"/>
            <a:ext cx="1065240" cy="455760"/>
            <a:chOff x="2743200" y="5943600"/>
            <a:chExt cx="1065240" cy="455760"/>
          </a:xfrm>
        </p:grpSpPr>
        <p:sp>
          <p:nvSpPr>
            <p:cNvPr id="119" name=""/>
            <p:cNvSpPr/>
            <p:nvPr/>
          </p:nvSpPr>
          <p:spPr>
            <a:xfrm>
              <a:off x="2743200" y="5943600"/>
              <a:ext cx="1065240" cy="455760"/>
            </a:xfrm>
            <a:prstGeom prst="roundRect">
              <a:avLst>
                <a:gd name="adj" fmla="val 34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5943600"/>
              <a:ext cx="1065240" cy="45576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05320" y="54864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8120" y="5483160"/>
            <a:ext cx="144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5720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038480" y="4568760"/>
            <a:ext cx="18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6576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038480" y="3654360"/>
            <a:ext cx="18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61160" y="3200400"/>
            <a:ext cx="1409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ser –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76280" y="4586400"/>
            <a:ext cx="1211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S –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3040" y="6019920"/>
            <a:ext cx="12909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W –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4EC-9E66-429B-9AD6-A4CBD8D4190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STF: 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lgorithm is not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izing the seek time for the next reading does not imply minimizing the total seek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gorithm could cause starv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disk is in overload (too many requests), a request of a cyclinder that is far away never gets serv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ADE-775C-4C2A-B848-2CE3C007527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A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lled the “elevator algorith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 increasing the cylinder search in one direction, then it change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s in the queue: 20, 14, 40, 23, 47,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r of service: 20, 14, 7, 23, 40,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6477120" cy="21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5D5-B72C-49E0-A768-B6A2AF47E0E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AI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used for fault tolerant d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irtual disk is implemented as a set of “real dis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896000" cy="40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FE9-3047-4BCF-8256-045E6836B29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6 leve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redundancy: only for performanc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can be accessed in parall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e duplication, very cos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mming code: quite cos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disk for parity (bit level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level p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5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level distributed p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D 6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al Redund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38E-3A35-4F5B-A980-92662AF100D2}" type="slidenum">
              <a:t>43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- independent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layer, the following functionalities 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needed to transfer data to 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d to optimize the reading/writing on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different kind of erro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s can be reported to the user in a meaningful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cation and sp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o allocate a device to a process requesting th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printing, visualizing, input from the mouse/keyboar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device is assigned a logical “identifi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on the device can be accessed through the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FD3-484F-461B-BA93-20D7BDB199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– dependent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i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vice driver interacts directly with the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nteracts also with the device-independ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rovides specific access modes to th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rovides ways to communicate with the upper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terface between the d-d layer and the d-i level is specific for th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ually, it is a set of functions very similar to the user/level functions open(), read(), write(), close(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64A-82AD-41C7-85BB-3970E1F0FB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vice driv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vice driver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oftware module of the OS that contains code dedicated to the interaction with a particular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k device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board device driv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evic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arity of the O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B12-4518-4D4C-97AF-6DFE0F5133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ari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evice driver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one of the most complex parts of th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plexity is due to the huge variability o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of I/O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use, keyboad, video, print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 re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k, controllers, sensors, act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gital networks, mod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504-AB60-4BA2-AB01-579832F3AB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haracteristics of a de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can be huge differences in the speed of data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y in which a device is used is important to the device drive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example, disk for normal user interaction, disk for web servers, disk for video servers, disk for virtual memory management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xity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very simple (e.g. the printer) to very complex (e.g. the dis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racter devices, block devices, packet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ity, encoding, error correcti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ay in which errors may occur, and the way they are reported may vary a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9F1-282F-47D1-8ED2-53144A04D9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