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3D26D-537A-4D98-99F8-6F1CF8A33806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07B-5E17-4585-B84C-2EBCBC24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1B2-E16C-430F-87E3-D428E551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55A-430B-41D6-B7A9-60F570CA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930-DA0C-4379-BF4E-90162E2A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F0A9-4AFB-4B27-9094-BD8D4939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2E5B-68E6-40D9-9F27-548ED7FD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42F6-71FE-4913-B599-3A67FC1C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DF4C-D871-4080-B9EE-11B66A33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521D-3874-4A08-ABA5-9521FEE8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FED9-E595-4CBA-A858-A25256CA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4412-9C9F-446B-8830-260C9703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14A-6774-4767-9764-B4767F9E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6A01-565C-4513-9483-C5A9635B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33D6-3406-4FFB-AE2F-DEA4C2D8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5026-F8F6-41FA-8C42-3BD95924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3558-02FE-42BD-B6E7-854AB2B8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6D57-9C76-4C0E-BEF4-EB3C0843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B5E-EA3F-4FB9-9B33-0BBF0C87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439-C088-4C3A-9334-6D050597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675-7E61-418B-A409-6AF39E80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6E5-5ED0-4A0C-B450-3D0CC062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C24-0C06-4BE2-B352-550B70D9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351-5A8E-423D-A1A9-F7259EE3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372-51F8-4E3D-A8CD-D33770A6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A54288-B698-4AFC-96CF-C6C0B82CBD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8E13D-71BC-4D16-B955-8D0A0D9223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File System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inary and t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ary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inary file is simply a stream of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mat and the meaning of the bytes are up to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est file is a sequence of ASCII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characters are CR and 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ll OS encode text in the sam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DOS and Windows, we need both the CR and the 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nix, only LF is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when transferring a file from a Unix system to a DOS system, and viceversa, we can have proble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rogram (e.g. ftp) automatically converts text files among the two formats,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ways specify the format (binary of text) when transferring a file with FTP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72F-C8DD-4E92-8D2D-1B4BB6C3DD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ccess method: sequenti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implest method for accessing a file is “sequentiall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“internal open file descriptor” has an “offset” fiel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rds the current position in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read/write operation updates this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le is seen as a “tape” in which you can do play, rewind, fast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S support sequential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165-57D8-4C7C-A3BB-76752C33F0F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le has a partic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file consists of a number of “records” of fixed len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cord is a collection of data of som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cord in a phone book file cont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, surname, phone,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le is a collection of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direct access method, it is possible to read or write one particular record without reading the previous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7F6-1635-4A7D-9C62-9003ED4540E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every record has a size of 100 by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record is at offs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econd record is at offset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-th record is at offset (i-1)*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access is very useful for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S supports direc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the read function has one more parameter read(fd, record, i) where i is the recor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ost OS it is necessary to use a sequential file and the lseek() and read()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6DE-33E5-47B7-9EF1-A6A2F8294B5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dexed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direct access, is the indexe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record has a “key fiel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ly from databases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file contains at the beginning an “index” with the records’ positions and the k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inspecting the index, it is possible to know at which position a certain recor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feature can be implemented directly in the OS or in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E30-36DA-4434-999F-8A329A1A8E1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ory stru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isk is usually structured in partition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isk may contain one or many “partitions” or “volum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artition is a virtual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any OS it is possible to define a partitions that contains many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partition contains a directo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ins a list of files or of other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organised in a structure (tree or acyclic grap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52B-8A60-4A28-A7C9-F74FF601133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ories are organised in 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ot directory: contains all files and sub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 directory can contain an arbitrary number of sub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reate/delete directories, special system call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file has a “parent director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directory (except the root) has a “parent director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rectory organisation has nothing to do with how the files are allocated on the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files in the same directory are not necessarily contigu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C23-DAC6-46AC-B42C-7D077CA137F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ories in Uni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Unix, a directory is a special tex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ntains the list of files, one per eac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o open the directory with v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it cannot be read or written as a normal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58E-EA6A-4DCC-AC34-D8116EE9564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urrent working direct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rocess has a current working directory (CWD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opening a file, we can specify the file name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lative path (i.e. starting from the CWD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absolute path (i.e. starting from the root directory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file is created, it is added to its parent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 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file is deleted, it is removed from the parent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ory 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some OS it is not possible to remove non-empty directories (regular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mand in Unix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mand in Window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thers, removing a directory implies to recursively remove all its contents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m –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Unix and GUI in Window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F0A-9370-42D4-A5F9-7AADF359147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cyclic directory stru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is structure it is possible to establish “link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ile link is a “reference” to a file or a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ossible to link any file or directory in any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possible to creat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ycle would make the system too complex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use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” files and/or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ssociating a symbolic name for 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CB7-EEC7-49C9-81E5-EC72F1A7EB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25760" y="3930480"/>
            <a:ext cx="64008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224-BDF2-44DF-B9AA-7F1CC964F05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54860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cc is a symbolic link to gcc-2.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191120" y="1371600"/>
            <a:ext cx="1293840" cy="303120"/>
            <a:chOff x="4191120" y="1371600"/>
            <a:chExt cx="1293840" cy="303120"/>
          </a:xfrm>
        </p:grpSpPr>
        <p:sp>
          <p:nvSpPr>
            <p:cNvPr id="223" name=""/>
            <p:cNvSpPr/>
            <p:nvPr/>
          </p:nvSpPr>
          <p:spPr>
            <a:xfrm>
              <a:off x="4191120" y="1371600"/>
              <a:ext cx="1293840" cy="30312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1120" y="1371600"/>
              <a:ext cx="129384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57400" y="2057400"/>
            <a:ext cx="1293840" cy="303120"/>
            <a:chOff x="2057400" y="2057400"/>
            <a:chExt cx="1293840" cy="303120"/>
          </a:xfrm>
        </p:grpSpPr>
        <p:sp>
          <p:nvSpPr>
            <p:cNvPr id="226" name=""/>
            <p:cNvSpPr/>
            <p:nvPr/>
          </p:nvSpPr>
          <p:spPr>
            <a:xfrm>
              <a:off x="2057400" y="2057400"/>
              <a:ext cx="1293840" cy="30312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57400" y="2057400"/>
              <a:ext cx="129384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19320" y="2971800"/>
            <a:ext cx="988920" cy="303120"/>
            <a:chOff x="1219320" y="2971800"/>
            <a:chExt cx="988920" cy="303120"/>
          </a:xfrm>
        </p:grpSpPr>
        <p:sp>
          <p:nvSpPr>
            <p:cNvPr id="229" name=""/>
            <p:cNvSpPr/>
            <p:nvPr/>
          </p:nvSpPr>
          <p:spPr>
            <a:xfrm>
              <a:off x="1219320" y="2971800"/>
              <a:ext cx="988920" cy="303120"/>
            </a:xfrm>
            <a:prstGeom prst="roundRect">
              <a:avLst>
                <a:gd name="adj" fmla="val 51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9320" y="2971800"/>
              <a:ext cx="98892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666880" y="2971800"/>
            <a:ext cx="1141560" cy="303120"/>
            <a:chOff x="2666880" y="2971800"/>
            <a:chExt cx="1141560" cy="303120"/>
          </a:xfrm>
        </p:grpSpPr>
        <p:sp>
          <p:nvSpPr>
            <p:cNvPr id="232" name=""/>
            <p:cNvSpPr/>
            <p:nvPr/>
          </p:nvSpPr>
          <p:spPr>
            <a:xfrm>
              <a:off x="2666880" y="2971800"/>
              <a:ext cx="1141560" cy="303120"/>
            </a:xfrm>
            <a:prstGeom prst="roundRect">
              <a:avLst>
                <a:gd name="adj" fmla="val 51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66880" y="2971800"/>
              <a:ext cx="114156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gcc-2.9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715000" y="2057400"/>
            <a:ext cx="1293840" cy="303120"/>
            <a:chOff x="5715000" y="2057400"/>
            <a:chExt cx="1293840" cy="303120"/>
          </a:xfrm>
        </p:grpSpPr>
        <p:sp>
          <p:nvSpPr>
            <p:cNvPr id="235" name=""/>
            <p:cNvSpPr/>
            <p:nvPr/>
          </p:nvSpPr>
          <p:spPr>
            <a:xfrm>
              <a:off x="5715000" y="2057400"/>
              <a:ext cx="1293840" cy="30312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15000" y="2057400"/>
              <a:ext cx="129384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267080" y="2971800"/>
            <a:ext cx="1293840" cy="303120"/>
            <a:chOff x="4267080" y="2971800"/>
            <a:chExt cx="1293840" cy="303120"/>
          </a:xfrm>
        </p:grpSpPr>
        <p:sp>
          <p:nvSpPr>
            <p:cNvPr id="238" name=""/>
            <p:cNvSpPr/>
            <p:nvPr/>
          </p:nvSpPr>
          <p:spPr>
            <a:xfrm>
              <a:off x="4267080" y="2971800"/>
              <a:ext cx="1293840" cy="30312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7080" y="2971800"/>
              <a:ext cx="129384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rj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715000" y="2971800"/>
            <a:ext cx="1293840" cy="303120"/>
            <a:chOff x="5715000" y="2971800"/>
            <a:chExt cx="1293840" cy="303120"/>
          </a:xfrm>
        </p:grpSpPr>
        <p:sp>
          <p:nvSpPr>
            <p:cNvPr id="241" name=""/>
            <p:cNvSpPr/>
            <p:nvPr/>
          </p:nvSpPr>
          <p:spPr>
            <a:xfrm>
              <a:off x="5715000" y="2971800"/>
              <a:ext cx="1293840" cy="30312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15000" y="2971800"/>
              <a:ext cx="129384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a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162920" y="2971800"/>
            <a:ext cx="1293840" cy="303120"/>
            <a:chOff x="7162920" y="2971800"/>
            <a:chExt cx="1293840" cy="303120"/>
          </a:xfrm>
        </p:grpSpPr>
        <p:sp>
          <p:nvSpPr>
            <p:cNvPr id="244" name=""/>
            <p:cNvSpPr/>
            <p:nvPr/>
          </p:nvSpPr>
          <p:spPr>
            <a:xfrm>
              <a:off x="7162920" y="2971800"/>
              <a:ext cx="1293840" cy="30312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62920" y="2971800"/>
              <a:ext cx="129384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N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105520" y="3809880"/>
            <a:ext cx="912600" cy="303480"/>
            <a:chOff x="5105520" y="3809880"/>
            <a:chExt cx="912600" cy="303480"/>
          </a:xfrm>
        </p:grpSpPr>
        <p:sp>
          <p:nvSpPr>
            <p:cNvPr id="247" name=""/>
            <p:cNvSpPr/>
            <p:nvPr/>
          </p:nvSpPr>
          <p:spPr>
            <a:xfrm>
              <a:off x="5105520" y="3809880"/>
              <a:ext cx="912600" cy="30348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05520" y="3809880"/>
              <a:ext cx="91260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553080" y="3809880"/>
            <a:ext cx="912960" cy="303480"/>
            <a:chOff x="6553080" y="3809880"/>
            <a:chExt cx="912960" cy="303480"/>
          </a:xfrm>
        </p:grpSpPr>
        <p:sp>
          <p:nvSpPr>
            <p:cNvPr id="250" name=""/>
            <p:cNvSpPr/>
            <p:nvPr/>
          </p:nvSpPr>
          <p:spPr>
            <a:xfrm>
              <a:off x="6553080" y="3809880"/>
              <a:ext cx="912960" cy="30348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53080" y="3809880"/>
              <a:ext cx="91296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o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 flipH="1">
            <a:off x="2815920" y="1676520"/>
            <a:ext cx="191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16765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49240" y="2362320"/>
            <a:ext cx="844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3623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949640" y="2362320"/>
            <a:ext cx="1377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236232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23623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59480" y="3276720"/>
            <a:ext cx="768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32767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343400" y="4724280"/>
            <a:ext cx="912960" cy="303480"/>
            <a:chOff x="4343400" y="4724280"/>
            <a:chExt cx="912960" cy="303480"/>
          </a:xfrm>
        </p:grpSpPr>
        <p:sp>
          <p:nvSpPr>
            <p:cNvPr id="262" name=""/>
            <p:cNvSpPr/>
            <p:nvPr/>
          </p:nvSpPr>
          <p:spPr>
            <a:xfrm>
              <a:off x="4343400" y="4724280"/>
              <a:ext cx="912960" cy="303480"/>
            </a:xfrm>
            <a:prstGeom prst="roundRect">
              <a:avLst>
                <a:gd name="adj" fmla="val 51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43400" y="4724280"/>
              <a:ext cx="91296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g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715000" y="4724280"/>
            <a:ext cx="912960" cy="303480"/>
            <a:chOff x="5715000" y="4724280"/>
            <a:chExt cx="912960" cy="303480"/>
          </a:xfrm>
        </p:grpSpPr>
        <p:sp>
          <p:nvSpPr>
            <p:cNvPr id="265" name=""/>
            <p:cNvSpPr/>
            <p:nvPr/>
          </p:nvSpPr>
          <p:spPr>
            <a:xfrm>
              <a:off x="5715000" y="4724280"/>
              <a:ext cx="912960" cy="303480"/>
            </a:xfrm>
            <a:prstGeom prst="roundRect">
              <a:avLst>
                <a:gd name="adj" fmla="val 51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15000" y="4724280"/>
              <a:ext cx="91296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mypr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562720" y="4114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797360" y="4114800"/>
            <a:ext cx="768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273120" y="3273120"/>
            <a:ext cx="1530360" cy="14540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53F-1E0D-4803-9075-C2937F1C593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sic operations with lin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ng a symbolic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Unix with command 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n –s &lt;link name&gt; &lt;file 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letion of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uld we also delete the lin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ther a list of backward link (i.e. the linked file points to all symbolic link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to search the file system for pending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o much overhead in both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671-EB8E-47BA-B3E3-DF3E15784F6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letion of a file with lin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we delete the file if there is a symbolic link to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ome implement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le keeps a reference counter of how many symbolic links are pointing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reference counter goes to 0, the file is effectively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most implementations, the link remains “pending” and an error is raised if we try to acce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CCA-F4AA-45CD-A835-BC76F296722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956120" y="2976480"/>
            <a:ext cx="3189240" cy="2965680"/>
          </a:xfrm>
          <a:prstGeom prst="roundRect">
            <a:avLst>
              <a:gd name="adj" fmla="val 5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tains the 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r the specified dev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t implement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rupt 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w level read/write 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re is not a concept of fi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et. The file is implemen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gher level layers. Here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n only read/writ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mplementation of a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mplementation is usually done in “lay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5105520"/>
            <a:ext cx="2436840" cy="455400"/>
            <a:chOff x="1600200" y="5105520"/>
            <a:chExt cx="2436840" cy="455400"/>
          </a:xfrm>
        </p:grpSpPr>
        <p:sp>
          <p:nvSpPr>
            <p:cNvPr id="278" name=""/>
            <p:cNvSpPr/>
            <p:nvPr/>
          </p:nvSpPr>
          <p:spPr>
            <a:xfrm>
              <a:off x="1600200" y="5105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00200" y="5105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600200" y="4648320"/>
            <a:ext cx="2436840" cy="455400"/>
            <a:chOff x="1600200" y="4648320"/>
            <a:chExt cx="2436840" cy="455400"/>
          </a:xfrm>
        </p:grpSpPr>
        <p:sp>
          <p:nvSpPr>
            <p:cNvPr id="281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600200" y="4191120"/>
            <a:ext cx="2436840" cy="455400"/>
            <a:chOff x="1600200" y="4191120"/>
            <a:chExt cx="2436840" cy="455400"/>
          </a:xfrm>
        </p:grpSpPr>
        <p:sp>
          <p:nvSpPr>
            <p:cNvPr id="284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600200" y="3733920"/>
            <a:ext cx="2436840" cy="455400"/>
            <a:chOff x="1600200" y="3733920"/>
            <a:chExt cx="2436840" cy="455400"/>
          </a:xfrm>
        </p:grpSpPr>
        <p:sp>
          <p:nvSpPr>
            <p:cNvPr id="287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600200" y="3276720"/>
            <a:ext cx="2436840" cy="455400"/>
            <a:chOff x="1600200" y="3276720"/>
            <a:chExt cx="2436840" cy="455400"/>
          </a:xfrm>
        </p:grpSpPr>
        <p:sp>
          <p:nvSpPr>
            <p:cNvPr id="290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293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600200" y="4648320"/>
            <a:ext cx="2436840" cy="455400"/>
            <a:chOff x="1600200" y="4648320"/>
            <a:chExt cx="2436840" cy="455400"/>
          </a:xfrm>
        </p:grpSpPr>
        <p:sp>
          <p:nvSpPr>
            <p:cNvPr id="296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600200" y="2362320"/>
            <a:ext cx="2436840" cy="455400"/>
            <a:chOff x="1600200" y="2362320"/>
            <a:chExt cx="2436840" cy="455400"/>
          </a:xfrm>
        </p:grpSpPr>
        <p:sp>
          <p:nvSpPr>
            <p:cNvPr id="299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pplication pro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1" name=""/>
          <p:cNvCxnSpPr>
            <a:stCxn id="274" idx="1"/>
            <a:endCxn id="295" idx="3"/>
          </p:cNvCxnSpPr>
          <p:nvPr/>
        </p:nvCxnSpPr>
        <p:spPr>
          <a:xfrm flipV="1" rot="10800000">
            <a:off x="4036320" y="4458960"/>
            <a:ext cx="919800" cy="418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04F-A03A-49E2-AE7E-FD136A108BA6}" type="slidenum">
              <a:t>23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 fill="hold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727520" y="1681200"/>
            <a:ext cx="3875040" cy="4560840"/>
          </a:xfrm>
          <a:custGeom>
            <a:avLst/>
            <a:gdLst>
              <a:gd name="textAreaLeft" fmla="*/ 360 w 3875040"/>
              <a:gd name="textAreaRight" fmla="*/ 3874680 w 3875040"/>
              <a:gd name="textAreaTop" fmla="*/ 360 h 4560840"/>
              <a:gd name="textAreaBottom" fmla="*/ 4560480 h 4560840"/>
            </a:gdLst>
            <a:ahLst/>
            <a:rect l="textAreaLeft" t="textAreaTop" r="textAreaRight" b="textAreaBottom"/>
            <a:pathLst>
              <a:path w="21600" h="25422">
                <a:moveTo>
                  <a:pt x="8" y="0"/>
                </a:moveTo>
                <a:arcTo wR="8" hR="8" stAng="16200000" swAng="-5400000"/>
                <a:lnTo>
                  <a:pt x="0" y="25414"/>
                </a:lnTo>
                <a:arcTo wR="8" hR="8" stAng="10800000" swAng="-5400000"/>
                <a:lnTo>
                  <a:pt x="21592" y="25422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t is also ca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irtual Volume Layer”. Every d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s seen as a linear sequen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is level translates linear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umbers into disk coordinate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I/O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ample: block number 2035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cated on track 12, sector 3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evel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is also depends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isk, so it could be considered 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f the 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sic file system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600200" y="4648320"/>
            <a:ext cx="2436840" cy="455400"/>
            <a:chOff x="1600200" y="4648320"/>
            <a:chExt cx="2436840" cy="455400"/>
          </a:xfrm>
        </p:grpSpPr>
        <p:sp>
          <p:nvSpPr>
            <p:cNvPr id="305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600200" y="4191120"/>
            <a:ext cx="2436840" cy="455400"/>
            <a:chOff x="1600200" y="4191120"/>
            <a:chExt cx="2436840" cy="455400"/>
          </a:xfrm>
        </p:grpSpPr>
        <p:sp>
          <p:nvSpPr>
            <p:cNvPr id="308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600200" y="3733920"/>
            <a:ext cx="2436840" cy="455400"/>
            <a:chOff x="1600200" y="3733920"/>
            <a:chExt cx="2436840" cy="455400"/>
          </a:xfrm>
        </p:grpSpPr>
        <p:sp>
          <p:nvSpPr>
            <p:cNvPr id="311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600200" y="3276720"/>
            <a:ext cx="2436840" cy="455400"/>
            <a:chOff x="1600200" y="3276720"/>
            <a:chExt cx="2436840" cy="455400"/>
          </a:xfrm>
        </p:grpSpPr>
        <p:sp>
          <p:nvSpPr>
            <p:cNvPr id="314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317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600200" y="1905120"/>
            <a:ext cx="2436840" cy="455400"/>
            <a:chOff x="1600200" y="1905120"/>
            <a:chExt cx="2436840" cy="455400"/>
          </a:xfrm>
        </p:grpSpPr>
        <p:sp>
          <p:nvSpPr>
            <p:cNvPr id="320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pplication pro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600200" y="3733920"/>
            <a:ext cx="2436840" cy="455400"/>
            <a:chOff x="1600200" y="3733920"/>
            <a:chExt cx="2436840" cy="455400"/>
          </a:xfrm>
        </p:grpSpPr>
        <p:sp>
          <p:nvSpPr>
            <p:cNvPr id="323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600200" y="2362320"/>
            <a:ext cx="2436840" cy="455400"/>
            <a:chOff x="1600200" y="2362320"/>
            <a:chExt cx="2436840" cy="455400"/>
          </a:xfrm>
        </p:grpSpPr>
        <p:sp>
          <p:nvSpPr>
            <p:cNvPr id="326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8" name=""/>
          <p:cNvCxnSpPr>
            <a:stCxn id="302" idx="1"/>
            <a:endCxn id="322" idx="3"/>
          </p:cNvCxnSpPr>
          <p:nvPr/>
        </p:nvCxnSpPr>
        <p:spPr>
          <a:xfrm flipV="1" rot="10800000">
            <a:off x="4036320" y="3960360"/>
            <a:ext cx="691200" cy="252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A15-C9F4-4A01-B3AF-831341BD519C}" type="slidenum">
              <a:t>24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sic file system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ayer imp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ion from linear block number to block coordinates on the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heduling algorithm can be done only in this level, because here we know the physical of the disk (i.e. arm direction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in this level we organize the requests for disk access in one or more queues, for example with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57F-813F-44B7-A716-8A6E73B3529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752480" y="5029200"/>
            <a:ext cx="6248520" cy="380880"/>
          </a:xfrm>
          <a:prstGeom prst="roundRect">
            <a:avLst>
              <a:gd name="adj" fmla="val 41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52480" y="3657600"/>
            <a:ext cx="6248520" cy="380880"/>
          </a:xfrm>
          <a:prstGeom prst="roundRect">
            <a:avLst>
              <a:gd name="adj" fmla="val 41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 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lock number requested from the upper layer is transformed in a block coordinate. Then, the request is inserted in a SCAN-ordered queue. An internal process, reads from the queue and serves the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4952880"/>
            <a:ext cx="762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07600" y="5562720"/>
            <a:ext cx="191412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/O drivers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86360" y="4038480"/>
            <a:ext cx="25329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asic file system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3581280"/>
            <a:ext cx="75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67640" y="2590920"/>
            <a:ext cx="25574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 organization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47242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75200" y="5029200"/>
            <a:ext cx="301608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L_read(track,sector,plate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78960" y="3672000"/>
            <a:ext cx="279828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VL_read(block number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53080" y="312408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962520" y="4267080"/>
            <a:ext cx="1522440" cy="227160"/>
            <a:chOff x="3962520" y="4267080"/>
            <a:chExt cx="1522440" cy="227160"/>
          </a:xfrm>
        </p:grpSpPr>
        <p:sp>
          <p:nvSpPr>
            <p:cNvPr id="345" name=""/>
            <p:cNvSpPr/>
            <p:nvPr/>
          </p:nvSpPr>
          <p:spPr>
            <a:xfrm>
              <a:off x="5180040" y="4267080"/>
              <a:ext cx="304920" cy="227160"/>
            </a:xfrm>
            <a:prstGeom prst="roundRect">
              <a:avLst>
                <a:gd name="adj" fmla="val 694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5120" y="4267080"/>
              <a:ext cx="304920" cy="227160"/>
            </a:xfrm>
            <a:prstGeom prst="roundRect">
              <a:avLst>
                <a:gd name="adj" fmla="val 694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2000" y="4267080"/>
              <a:ext cx="304920" cy="227160"/>
            </a:xfrm>
            <a:prstGeom prst="roundRect">
              <a:avLst>
                <a:gd name="adj" fmla="val 694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67080" y="4267080"/>
              <a:ext cx="304920" cy="227160"/>
            </a:xfrm>
            <a:prstGeom prst="roundRect">
              <a:avLst>
                <a:gd name="adj" fmla="val 694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2520" y="4267080"/>
              <a:ext cx="304560" cy="227160"/>
            </a:xfrm>
            <a:prstGeom prst="roundRect">
              <a:avLst>
                <a:gd name="adj" fmla="val 694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553080" y="4038480"/>
            <a:ext cx="1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245280" y="4419720"/>
            <a:ext cx="311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654000" y="4419720"/>
            <a:ext cx="235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4419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4724280"/>
            <a:ext cx="289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91320" y="4191120"/>
            <a:ext cx="455400" cy="379440"/>
            <a:chOff x="5791320" y="4191120"/>
            <a:chExt cx="455400" cy="379440"/>
          </a:xfrm>
        </p:grpSpPr>
        <p:sp>
          <p:nvSpPr>
            <p:cNvPr id="356" name=""/>
            <p:cNvSpPr/>
            <p:nvPr/>
          </p:nvSpPr>
          <p:spPr>
            <a:xfrm>
              <a:off x="5791320" y="4191120"/>
              <a:ext cx="455400" cy="379440"/>
            </a:xfrm>
            <a:prstGeom prst="roundRect">
              <a:avLst>
                <a:gd name="adj" fmla="val 417"/>
              </a:avLst>
            </a:prstGeom>
            <a:solidFill>
              <a:srgbClr val="8f6d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91320" y="4191120"/>
              <a:ext cx="455400" cy="3794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 flipH="1">
            <a:off x="5483160" y="4419720"/>
            <a:ext cx="311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93B-67AA-4E92-B8F2-1F632E0BD20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sic File System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rovides the follow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VL_read(block numbe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s the block number into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okes the LL_read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VL_writ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lates the block number into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okes the LL_write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BB6-1307-450B-94BF-0206C6CB326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727520" y="1909800"/>
            <a:ext cx="3800520" cy="4103640"/>
          </a:xfrm>
          <a:custGeom>
            <a:avLst/>
            <a:gdLst>
              <a:gd name="textAreaLeft" fmla="*/ 360 w 3800520"/>
              <a:gd name="textAreaRight" fmla="*/ 3800160 w 3800520"/>
              <a:gd name="textAreaTop" fmla="*/ 360 h 4103640"/>
              <a:gd name="textAreaBottom" fmla="*/ 4103280 h 4103640"/>
            </a:gdLst>
            <a:ahLst/>
            <a:rect l="textAreaLeft" t="textAreaTop" r="textAreaRight" b="textAreaBottom"/>
            <a:pathLst>
              <a:path w="21600" h="23323">
                <a:moveTo>
                  <a:pt x="9" y="0"/>
                </a:moveTo>
                <a:arcTo wR="9" hR="9" stAng="16200000" swAng="-5400000"/>
                <a:lnTo>
                  <a:pt x="0" y="23314"/>
                </a:lnTo>
                <a:arcTo wR="9" hR="9" stAng="10800000" swAng="-5400000"/>
                <a:lnTo>
                  <a:pt x="21591" y="23323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 this layer, each file is divided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gical blocks. Each logical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s then allocated on a physical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n the disk. Notice the simi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ith the paging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veral ways of alloca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enever possible, consecu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s of a file are allocated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secutive blocks on the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is layer also imp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tion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organiz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600200" y="4648320"/>
            <a:ext cx="2436840" cy="455400"/>
            <a:chOff x="1600200" y="4648320"/>
            <a:chExt cx="2436840" cy="455400"/>
          </a:xfrm>
        </p:grpSpPr>
        <p:sp>
          <p:nvSpPr>
            <p:cNvPr id="364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600200" y="4191120"/>
            <a:ext cx="2436840" cy="455400"/>
            <a:chOff x="1600200" y="4191120"/>
            <a:chExt cx="2436840" cy="455400"/>
          </a:xfrm>
        </p:grpSpPr>
        <p:sp>
          <p:nvSpPr>
            <p:cNvPr id="367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600200" y="3733920"/>
            <a:ext cx="2436840" cy="455400"/>
            <a:chOff x="1600200" y="3733920"/>
            <a:chExt cx="2436840" cy="455400"/>
          </a:xfrm>
        </p:grpSpPr>
        <p:sp>
          <p:nvSpPr>
            <p:cNvPr id="370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600200" y="3276720"/>
            <a:ext cx="2436840" cy="455400"/>
            <a:chOff x="1600200" y="3276720"/>
            <a:chExt cx="2436840" cy="455400"/>
          </a:xfrm>
        </p:grpSpPr>
        <p:sp>
          <p:nvSpPr>
            <p:cNvPr id="373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376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600200" y="1905120"/>
            <a:ext cx="2436840" cy="455400"/>
            <a:chOff x="1600200" y="1905120"/>
            <a:chExt cx="2436840" cy="455400"/>
          </a:xfrm>
        </p:grpSpPr>
        <p:sp>
          <p:nvSpPr>
            <p:cNvPr id="379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pplication pro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600200" y="3276720"/>
            <a:ext cx="2436840" cy="455400"/>
            <a:chOff x="1600200" y="3276720"/>
            <a:chExt cx="2436840" cy="455400"/>
          </a:xfrm>
        </p:grpSpPr>
        <p:sp>
          <p:nvSpPr>
            <p:cNvPr id="382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600200" y="2362320"/>
            <a:ext cx="2436840" cy="455400"/>
            <a:chOff x="1600200" y="2362320"/>
            <a:chExt cx="2436840" cy="455400"/>
          </a:xfrm>
        </p:grpSpPr>
        <p:sp>
          <p:nvSpPr>
            <p:cNvPr id="385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7" name=""/>
          <p:cNvCxnSpPr>
            <a:stCxn id="361" idx="1"/>
            <a:endCxn id="381" idx="3"/>
          </p:cNvCxnSpPr>
          <p:nvPr/>
        </p:nvCxnSpPr>
        <p:spPr>
          <a:xfrm rot="10800000">
            <a:off x="4036320" y="3502800"/>
            <a:ext cx="691200" cy="45792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DD2-8F19-4FA5-B269-F0D27F07AB2E}" type="slidenum">
              <a:t>28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organiz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ayer provides the concept of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we do not have the “file name”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file is identified by the pointer to the file descri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file is associated at least the first block on the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is layer up, we will only see the concept of fi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layer (and the upper ones) manipulate the i-node (the descriptor of the physical file on the disk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75B-57A6-4352-9C32-F37711C0D15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system interf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ncept of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ile is a collection of bytes recorded on a mass storag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ile can co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 code of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able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ous kind of data (binary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le is the minimum “unit” of allocation of data in a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ccess a file we must be able to interpret its cont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6E4-27CB-4A7B-84D7-DA36CF3E100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rt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partition on the disk is a set of  consecutive of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isk contains 10,000,000 blocks (sector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tion 1:  [0 – 9,999] (swap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tion 2:  [10,000 – 4,999,999]  (hda0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tion 3:  [5,000,000 – 9,999,999] (hda2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artition table is stored on the disk itself, in sect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view/edit a partition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961-491C-4AF5-B18B-18C6E50FE81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organiz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ayer also provides an allocation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file’s blocks are allocated on the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gorithm is very important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layer maintains the information on which blocks on the disk are used and which ar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nformation is stored on the FAT (file allocation tab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particular structure that is stored in some fixed position in the disk (for example tracks 0 and 1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T is partially loaded in memory, for faster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3D1-B6E2-421A-9D26-6CEE3A29C9C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F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S-DOS FAT is implemented in the following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beginning of each partition, we find the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AT is a table that contains one element for each block in the disk, plus an index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entry in the index table contains the name of the file and its first block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ntry in the FAT corresponding to the block number, contains the number of the second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ally, the FAT is a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 used blocks hav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BE6-4CD7-4C7F-9E74-5352CECF420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F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523880" y="1981080"/>
            <a:ext cx="2894040" cy="303480"/>
            <a:chOff x="1523880" y="1981080"/>
            <a:chExt cx="2894040" cy="303480"/>
          </a:xfrm>
        </p:grpSpPr>
        <p:grpSp>
          <p:nvGrpSpPr>
            <p:cNvPr id="398" name=""/>
            <p:cNvGrpSpPr/>
            <p:nvPr/>
          </p:nvGrpSpPr>
          <p:grpSpPr>
            <a:xfrm>
              <a:off x="1523880" y="1981080"/>
              <a:ext cx="1446480" cy="303480"/>
              <a:chOff x="1523880" y="1981080"/>
              <a:chExt cx="1446480" cy="303480"/>
            </a:xfrm>
          </p:grpSpPr>
          <p:sp>
            <p:nvSpPr>
              <p:cNvPr id="399" name=""/>
              <p:cNvSpPr/>
              <p:nvPr/>
            </p:nvSpPr>
            <p:spPr>
              <a:xfrm>
                <a:off x="1523880" y="1981080"/>
                <a:ext cx="1446480" cy="303480"/>
              </a:xfrm>
              <a:prstGeom prst="roundRect">
                <a:avLst>
                  <a:gd name="adj" fmla="val 519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3880" y="1981080"/>
                <a:ext cx="1446480" cy="30348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data.t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971800" y="1981080"/>
              <a:ext cx="1446120" cy="303480"/>
              <a:chOff x="2971800" y="1981080"/>
              <a:chExt cx="1446120" cy="303480"/>
            </a:xfrm>
          </p:grpSpPr>
          <p:sp>
            <p:nvSpPr>
              <p:cNvPr id="402" name=""/>
              <p:cNvSpPr/>
              <p:nvPr/>
            </p:nvSpPr>
            <p:spPr>
              <a:xfrm>
                <a:off x="2971800" y="1981080"/>
                <a:ext cx="1446120" cy="303480"/>
              </a:xfrm>
              <a:prstGeom prst="roundRect">
                <a:avLst>
                  <a:gd name="adj" fmla="val 519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71800" y="1981080"/>
                <a:ext cx="1446120" cy="30348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13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1523880" y="2286000"/>
            <a:ext cx="2894040" cy="303120"/>
            <a:chOff x="1523880" y="2286000"/>
            <a:chExt cx="2894040" cy="303120"/>
          </a:xfrm>
        </p:grpSpPr>
        <p:grpSp>
          <p:nvGrpSpPr>
            <p:cNvPr id="405" name=""/>
            <p:cNvGrpSpPr/>
            <p:nvPr/>
          </p:nvGrpSpPr>
          <p:grpSpPr>
            <a:xfrm>
              <a:off x="1523880" y="2286000"/>
              <a:ext cx="1446480" cy="303120"/>
              <a:chOff x="1523880" y="2286000"/>
              <a:chExt cx="1446480" cy="303120"/>
            </a:xfrm>
          </p:grpSpPr>
          <p:sp>
            <p:nvSpPr>
              <p:cNvPr id="406" name=""/>
              <p:cNvSpPr/>
              <p:nvPr/>
            </p:nvSpPr>
            <p:spPr>
              <a:xfrm>
                <a:off x="1523880" y="2286000"/>
                <a:ext cx="1446480" cy="303120"/>
              </a:xfrm>
              <a:prstGeom prst="roundRect">
                <a:avLst>
                  <a:gd name="adj" fmla="val 519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523880" y="2286000"/>
                <a:ext cx="1446480" cy="30312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movie.mp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971800" y="2286000"/>
              <a:ext cx="1446120" cy="303120"/>
              <a:chOff x="2971800" y="2286000"/>
              <a:chExt cx="1446120" cy="303120"/>
            </a:xfrm>
          </p:grpSpPr>
          <p:sp>
            <p:nvSpPr>
              <p:cNvPr id="409" name=""/>
              <p:cNvSpPr/>
              <p:nvPr/>
            </p:nvSpPr>
            <p:spPr>
              <a:xfrm>
                <a:off x="2971800" y="2286000"/>
                <a:ext cx="1446120" cy="303120"/>
              </a:xfrm>
              <a:prstGeom prst="roundRect">
                <a:avLst>
                  <a:gd name="adj" fmla="val 519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71800" y="2286000"/>
                <a:ext cx="1446120" cy="30312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1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1523880" y="2590920"/>
            <a:ext cx="2894040" cy="303120"/>
            <a:chOff x="1523880" y="2590920"/>
            <a:chExt cx="2894040" cy="303120"/>
          </a:xfrm>
        </p:grpSpPr>
        <p:grpSp>
          <p:nvGrpSpPr>
            <p:cNvPr id="412" name=""/>
            <p:cNvGrpSpPr/>
            <p:nvPr/>
          </p:nvGrpSpPr>
          <p:grpSpPr>
            <a:xfrm>
              <a:off x="1523880" y="2590920"/>
              <a:ext cx="1446480" cy="303120"/>
              <a:chOff x="1523880" y="2590920"/>
              <a:chExt cx="1446480" cy="303120"/>
            </a:xfrm>
          </p:grpSpPr>
          <p:sp>
            <p:nvSpPr>
              <p:cNvPr id="413" name=""/>
              <p:cNvSpPr/>
              <p:nvPr/>
            </p:nvSpPr>
            <p:spPr>
              <a:xfrm>
                <a:off x="1523880" y="2590920"/>
                <a:ext cx="1446480" cy="303120"/>
              </a:xfrm>
              <a:prstGeom prst="roundRect">
                <a:avLst>
                  <a:gd name="adj" fmla="val 519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523880" y="2590920"/>
                <a:ext cx="1446480" cy="30312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music.mp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971800" y="2590920"/>
              <a:ext cx="1446120" cy="303120"/>
              <a:chOff x="2971800" y="2590920"/>
              <a:chExt cx="1446120" cy="303120"/>
            </a:xfrm>
          </p:grpSpPr>
          <p:sp>
            <p:nvSpPr>
              <p:cNvPr id="416" name=""/>
              <p:cNvSpPr/>
              <p:nvPr/>
            </p:nvSpPr>
            <p:spPr>
              <a:xfrm>
                <a:off x="2971800" y="2590920"/>
                <a:ext cx="1446120" cy="303120"/>
              </a:xfrm>
              <a:prstGeom prst="roundRect">
                <a:avLst>
                  <a:gd name="adj" fmla="val 519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71800" y="2590920"/>
                <a:ext cx="1446120" cy="30312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1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553080" y="1371600"/>
            <a:ext cx="990720" cy="304920"/>
          </a:xfrm>
          <a:prstGeom prst="roundRect">
            <a:avLst>
              <a:gd name="adj" fmla="val 519"/>
            </a:avLst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61160" y="137160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553080" y="1676520"/>
            <a:ext cx="989280" cy="303120"/>
            <a:chOff x="6553080" y="1676520"/>
            <a:chExt cx="989280" cy="303120"/>
          </a:xfrm>
        </p:grpSpPr>
        <p:sp>
          <p:nvSpPr>
            <p:cNvPr id="421" name=""/>
            <p:cNvSpPr/>
            <p:nvPr/>
          </p:nvSpPr>
          <p:spPr>
            <a:xfrm>
              <a:off x="6553080" y="167652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53080" y="167652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861160" y="167652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553080" y="1981080"/>
            <a:ext cx="989280" cy="303480"/>
            <a:chOff x="6553080" y="1981080"/>
            <a:chExt cx="989280" cy="303480"/>
          </a:xfrm>
        </p:grpSpPr>
        <p:sp>
          <p:nvSpPr>
            <p:cNvPr id="425" name=""/>
            <p:cNvSpPr/>
            <p:nvPr/>
          </p:nvSpPr>
          <p:spPr>
            <a:xfrm>
              <a:off x="6553080" y="1981080"/>
              <a:ext cx="989280" cy="30348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53080" y="1981080"/>
              <a:ext cx="98928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861160" y="198108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2286000"/>
            <a:ext cx="990720" cy="304920"/>
          </a:xfrm>
          <a:prstGeom prst="roundRect">
            <a:avLst>
              <a:gd name="adj" fmla="val 519"/>
            </a:avLst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61160" y="228600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553080" y="2590920"/>
            <a:ext cx="989280" cy="303120"/>
            <a:chOff x="6553080" y="2590920"/>
            <a:chExt cx="989280" cy="303120"/>
          </a:xfrm>
        </p:grpSpPr>
        <p:sp>
          <p:nvSpPr>
            <p:cNvPr id="431" name=""/>
            <p:cNvSpPr/>
            <p:nvPr/>
          </p:nvSpPr>
          <p:spPr>
            <a:xfrm>
              <a:off x="6553080" y="259092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53080" y="259092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861160" y="259092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2895480"/>
            <a:ext cx="990720" cy="304920"/>
          </a:xfrm>
          <a:prstGeom prst="roundRect">
            <a:avLst>
              <a:gd name="adj" fmla="val 519"/>
            </a:avLst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61160" y="289548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553080" y="3200400"/>
            <a:ext cx="989280" cy="303120"/>
            <a:chOff x="6553080" y="3200400"/>
            <a:chExt cx="989280" cy="303120"/>
          </a:xfrm>
        </p:grpSpPr>
        <p:sp>
          <p:nvSpPr>
            <p:cNvPr id="437" name=""/>
            <p:cNvSpPr/>
            <p:nvPr/>
          </p:nvSpPr>
          <p:spPr>
            <a:xfrm>
              <a:off x="6553080" y="320040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53080" y="320040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4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861160" y="320040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553080" y="3505320"/>
            <a:ext cx="989280" cy="303120"/>
            <a:chOff x="6553080" y="3505320"/>
            <a:chExt cx="989280" cy="303120"/>
          </a:xfrm>
        </p:grpSpPr>
        <p:sp>
          <p:nvSpPr>
            <p:cNvPr id="441" name=""/>
            <p:cNvSpPr/>
            <p:nvPr/>
          </p:nvSpPr>
          <p:spPr>
            <a:xfrm>
              <a:off x="6553080" y="350532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53080" y="350532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5861160" y="350532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53080" y="3809880"/>
            <a:ext cx="990720" cy="304920"/>
          </a:xfrm>
          <a:prstGeom prst="roundRect">
            <a:avLst>
              <a:gd name="adj" fmla="val 519"/>
            </a:avLst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61160" y="380988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53080" y="4114800"/>
            <a:ext cx="990720" cy="304920"/>
          </a:xfrm>
          <a:prstGeom prst="roundRect">
            <a:avLst>
              <a:gd name="adj" fmla="val 519"/>
            </a:avLst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61160" y="411480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553080" y="4419720"/>
            <a:ext cx="989280" cy="303120"/>
            <a:chOff x="6553080" y="4419720"/>
            <a:chExt cx="989280" cy="303120"/>
          </a:xfrm>
        </p:grpSpPr>
        <p:sp>
          <p:nvSpPr>
            <p:cNvPr id="449" name=""/>
            <p:cNvSpPr/>
            <p:nvPr/>
          </p:nvSpPr>
          <p:spPr>
            <a:xfrm>
              <a:off x="6553080" y="441972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53080" y="441972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861160" y="441972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553080" y="4724280"/>
            <a:ext cx="989280" cy="303480"/>
            <a:chOff x="6553080" y="4724280"/>
            <a:chExt cx="989280" cy="303480"/>
          </a:xfrm>
        </p:grpSpPr>
        <p:sp>
          <p:nvSpPr>
            <p:cNvPr id="453" name=""/>
            <p:cNvSpPr/>
            <p:nvPr/>
          </p:nvSpPr>
          <p:spPr>
            <a:xfrm>
              <a:off x="6553080" y="4724280"/>
              <a:ext cx="989280" cy="30348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4724280"/>
              <a:ext cx="98928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861160" y="472428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53080" y="5029200"/>
            <a:ext cx="990720" cy="304920"/>
          </a:xfrm>
          <a:prstGeom prst="roundRect">
            <a:avLst>
              <a:gd name="adj" fmla="val 519"/>
            </a:avLst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861160" y="502920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553080" y="5334120"/>
            <a:ext cx="989280" cy="303120"/>
            <a:chOff x="6553080" y="5334120"/>
            <a:chExt cx="989280" cy="303120"/>
          </a:xfrm>
        </p:grpSpPr>
        <p:sp>
          <p:nvSpPr>
            <p:cNvPr id="459" name=""/>
            <p:cNvSpPr/>
            <p:nvPr/>
          </p:nvSpPr>
          <p:spPr>
            <a:xfrm>
              <a:off x="6553080" y="533412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53080" y="533412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5861160" y="533412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553080" y="5638680"/>
            <a:ext cx="989280" cy="303480"/>
            <a:chOff x="6553080" y="5638680"/>
            <a:chExt cx="989280" cy="303480"/>
          </a:xfrm>
        </p:grpSpPr>
        <p:sp>
          <p:nvSpPr>
            <p:cNvPr id="463" name=""/>
            <p:cNvSpPr/>
            <p:nvPr/>
          </p:nvSpPr>
          <p:spPr>
            <a:xfrm>
              <a:off x="6553080" y="5638680"/>
              <a:ext cx="989280" cy="30348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53080" y="5638680"/>
              <a:ext cx="98928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5861160" y="563868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553080" y="5943600"/>
            <a:ext cx="989280" cy="303120"/>
            <a:chOff x="6553080" y="5943600"/>
            <a:chExt cx="989280" cy="303120"/>
          </a:xfrm>
        </p:grpSpPr>
        <p:sp>
          <p:nvSpPr>
            <p:cNvPr id="467" name=""/>
            <p:cNvSpPr/>
            <p:nvPr/>
          </p:nvSpPr>
          <p:spPr>
            <a:xfrm>
              <a:off x="6553080" y="5943600"/>
              <a:ext cx="989280" cy="303120"/>
            </a:xfrm>
            <a:prstGeom prst="roundRect">
              <a:avLst>
                <a:gd name="adj" fmla="val 519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53080" y="5943600"/>
              <a:ext cx="98928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861160" y="5943600"/>
            <a:ext cx="57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"/>
          <p:cNvCxnSpPr>
            <a:endCxn id="424" idx="3"/>
          </p:cNvCxnSpPr>
          <p:nvPr/>
        </p:nvCxnSpPr>
        <p:spPr>
          <a:xfrm flipV="1">
            <a:off x="7542360" y="2131560"/>
            <a:ext cx="2160" cy="6105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>
            <a:endCxn id="420" idx="1"/>
          </p:cNvCxnSpPr>
          <p:nvPr/>
        </p:nvCxnSpPr>
        <p:spPr>
          <a:xfrm flipV="1">
            <a:off x="6552720" y="1828080"/>
            <a:ext cx="2520" cy="30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endCxn id="436" idx="3"/>
          </p:cNvCxnSpPr>
          <p:nvPr/>
        </p:nvCxnSpPr>
        <p:spPr>
          <a:xfrm flipV="1">
            <a:off x="7542360" y="3350880"/>
            <a:ext cx="2160" cy="27439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endCxn id="452" idx="1"/>
          </p:cNvCxnSpPr>
          <p:nvPr/>
        </p:nvCxnSpPr>
        <p:spPr>
          <a:xfrm>
            <a:off x="6552720" y="3350880"/>
            <a:ext cx="252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endCxn id="458" idx="3"/>
          </p:cNvCxnSpPr>
          <p:nvPr/>
        </p:nvCxnSpPr>
        <p:spPr>
          <a:xfrm>
            <a:off x="7542360" y="4875120"/>
            <a:ext cx="2160" cy="6105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endCxn id="440" idx="1"/>
          </p:cNvCxnSpPr>
          <p:nvPr/>
        </p:nvCxnSpPr>
        <p:spPr>
          <a:xfrm flipV="1">
            <a:off x="6552720" y="3657240"/>
            <a:ext cx="2520" cy="182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48" idx="3"/>
            <a:endCxn id="462" idx="3"/>
          </p:cNvCxnSpPr>
          <p:nvPr/>
        </p:nvCxnSpPr>
        <p:spPr>
          <a:xfrm>
            <a:off x="7542360" y="4571640"/>
            <a:ext cx="2160" cy="122004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2260080" y="1523880"/>
            <a:ext cx="14342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401-628F-451C-A67F-79C625951C16}" type="slidenum">
              <a:t>33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ther implement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tore the free blocks we can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ector of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if the block is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if the block is occu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very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inked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free block contains the address of the next fre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of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free block contains the list of the first N fre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se, the last contains the address of the next N fre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o o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FD9-CD8C-4E83-93A5-8B2791F8B76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organiz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alloc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atenated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block contains the information on its nex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dvantage: only sequential access, to know where logical block 100 is, the system must read all 99 previous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xed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file is associated a block table (usually in the first bloc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able contains the physical block number of each logical block of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direct access to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dvantage: requires some extra space for each file (1 block?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B64-C1D8-45CF-827F-8329E990DCF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dexed al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ile have one (or more) index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ly the first block of the file does not contain data but the index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ase more index blocks are needed (for very long files), index blocks can be concat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allocation is the mos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hought in many different flav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AC8-49E6-40EB-B457-EF988B5FBFE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752480" y="5272200"/>
            <a:ext cx="6248520" cy="380880"/>
          </a:xfrm>
          <a:prstGeom prst="roundRect">
            <a:avLst>
              <a:gd name="adj" fmla="val 41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F computes the logical blocks of the file to be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G computes the physical blocks on the disk (reading from the index block of the fil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86360" y="5653080"/>
            <a:ext cx="25329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asic file system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519588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367640" y="4205160"/>
            <a:ext cx="25574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 organization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27840" y="5272200"/>
            <a:ext cx="279828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VL_read(block number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553080" y="4876920"/>
            <a:ext cx="180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143000" y="3581280"/>
            <a:ext cx="75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3657600"/>
            <a:ext cx="6248520" cy="380880"/>
          </a:xfrm>
          <a:prstGeom prst="roundRect">
            <a:avLst>
              <a:gd name="adj" fmla="val 41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553080" y="304812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552480" y="3657600"/>
            <a:ext cx="446688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L_read(i-node pointer, position, num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553080" y="4038480"/>
            <a:ext cx="1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245280" y="4419720"/>
            <a:ext cx="311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791320" y="4191120"/>
            <a:ext cx="455400" cy="379440"/>
            <a:chOff x="5791320" y="4191120"/>
            <a:chExt cx="455400" cy="379440"/>
          </a:xfrm>
        </p:grpSpPr>
        <p:sp>
          <p:nvSpPr>
            <p:cNvPr id="499" name=""/>
            <p:cNvSpPr/>
            <p:nvPr/>
          </p:nvSpPr>
          <p:spPr>
            <a:xfrm>
              <a:off x="5791320" y="4191120"/>
              <a:ext cx="455400" cy="379440"/>
            </a:xfrm>
            <a:prstGeom prst="roundRect">
              <a:avLst>
                <a:gd name="adj" fmla="val 417"/>
              </a:avLst>
            </a:prstGeom>
            <a:solidFill>
              <a:srgbClr val="8f6d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91320" y="4191120"/>
              <a:ext cx="455400" cy="3794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343400" y="4648320"/>
            <a:ext cx="455760" cy="379440"/>
            <a:chOff x="4343400" y="4648320"/>
            <a:chExt cx="455760" cy="379440"/>
          </a:xfrm>
        </p:grpSpPr>
        <p:sp>
          <p:nvSpPr>
            <p:cNvPr id="502" name=""/>
            <p:cNvSpPr/>
            <p:nvPr/>
          </p:nvSpPr>
          <p:spPr>
            <a:xfrm>
              <a:off x="4343400" y="4648320"/>
              <a:ext cx="455760" cy="379440"/>
            </a:xfrm>
            <a:prstGeom prst="roundRect">
              <a:avLst>
                <a:gd name="adj" fmla="val 417"/>
              </a:avLst>
            </a:prstGeom>
            <a:solidFill>
              <a:srgbClr val="8f6d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43400" y="4648320"/>
              <a:ext cx="455760" cy="3794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905120" y="4724280"/>
            <a:ext cx="1903320" cy="303480"/>
            <a:chOff x="1905120" y="4724280"/>
            <a:chExt cx="1903320" cy="303480"/>
          </a:xfrm>
        </p:grpSpPr>
        <p:sp>
          <p:nvSpPr>
            <p:cNvPr id="505" name=""/>
            <p:cNvSpPr/>
            <p:nvPr/>
          </p:nvSpPr>
          <p:spPr>
            <a:xfrm>
              <a:off x="1905120" y="4724280"/>
              <a:ext cx="1903320" cy="303480"/>
            </a:xfrm>
            <a:prstGeom prst="roundRect">
              <a:avLst>
                <a:gd name="adj" fmla="val 51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5120" y="4724280"/>
              <a:ext cx="190332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ndex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H="1">
            <a:off x="4568760" y="4419720"/>
            <a:ext cx="1225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44197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09880" y="48769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00600" y="4876920"/>
            <a:ext cx="1752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07680" y="2743200"/>
            <a:ext cx="214452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gical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806-C8BB-480A-B8F0-7B625548BD1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s provided by thi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_creat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s a new file, allocating some space for it on the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_remov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s an existing file, freeing th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_open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s the first block of a file in memory for indexed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_clos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the memory occupied by tha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_read() and FOL_writ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9ED-8EF9-4072-8E45-B22F7E88A63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727520" y="1909800"/>
            <a:ext cx="3800520" cy="334152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is layer provides sev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unctional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ss control and 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talogs (directorie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is layer provides an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 the application progra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gical file system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600200" y="4648320"/>
            <a:ext cx="2436840" cy="455400"/>
            <a:chOff x="1600200" y="4648320"/>
            <a:chExt cx="2436840" cy="455400"/>
          </a:xfrm>
        </p:grpSpPr>
        <p:sp>
          <p:nvSpPr>
            <p:cNvPr id="517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600200" y="4191120"/>
            <a:ext cx="2436840" cy="455400"/>
            <a:chOff x="1600200" y="4191120"/>
            <a:chExt cx="2436840" cy="455400"/>
          </a:xfrm>
        </p:grpSpPr>
        <p:sp>
          <p:nvSpPr>
            <p:cNvPr id="520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600200" y="3733920"/>
            <a:ext cx="2436840" cy="455400"/>
            <a:chOff x="1600200" y="3733920"/>
            <a:chExt cx="2436840" cy="455400"/>
          </a:xfrm>
        </p:grpSpPr>
        <p:sp>
          <p:nvSpPr>
            <p:cNvPr id="523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600200" y="3276720"/>
            <a:ext cx="2436840" cy="455400"/>
            <a:chOff x="1600200" y="3276720"/>
            <a:chExt cx="2436840" cy="455400"/>
          </a:xfrm>
        </p:grpSpPr>
        <p:sp>
          <p:nvSpPr>
            <p:cNvPr id="526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529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600200" y="1905120"/>
            <a:ext cx="2436840" cy="455400"/>
            <a:chOff x="1600200" y="1905120"/>
            <a:chExt cx="2436840" cy="455400"/>
          </a:xfrm>
        </p:grpSpPr>
        <p:sp>
          <p:nvSpPr>
            <p:cNvPr id="532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pplication pro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535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600200" y="2362320"/>
            <a:ext cx="2436840" cy="455400"/>
            <a:chOff x="1600200" y="2362320"/>
            <a:chExt cx="2436840" cy="455400"/>
          </a:xfrm>
        </p:grpSpPr>
        <p:sp>
          <p:nvSpPr>
            <p:cNvPr id="538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0" name=""/>
          <p:cNvCxnSpPr>
            <a:stCxn id="514" idx="1"/>
            <a:endCxn id="534" idx="3"/>
          </p:cNvCxnSpPr>
          <p:nvPr/>
        </p:nvCxnSpPr>
        <p:spPr>
          <a:xfrm rot="10800000">
            <a:off x="4036320" y="3045600"/>
            <a:ext cx="691200" cy="53424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C6B-F481-4EB7-B7DF-EA310ECC24C7}" type="slidenum">
              <a:t>39</a:t>
            </a:fld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 fill="hold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attributes of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ext, binary, sound stream, video stream, et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Access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include group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Date and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f creation, of last modification, of last acces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CA7-38E5-4840-B549-30F1420DE9C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gical file system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divide it into 3 sub-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control and 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used to check is a certain operation on a file can actuall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file is associated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me is not uniq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s the “directory”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, the Logical File System Layer itself provide additional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9F79-ED17-49E1-BBEE-F7D99FDB964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ub-lay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600200" y="4648320"/>
            <a:ext cx="2436840" cy="455400"/>
            <a:chOff x="1600200" y="4648320"/>
            <a:chExt cx="2436840" cy="455400"/>
          </a:xfrm>
        </p:grpSpPr>
        <p:sp>
          <p:nvSpPr>
            <p:cNvPr id="545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00200" y="4648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600200" y="4191120"/>
            <a:ext cx="2436840" cy="455400"/>
            <a:chOff x="1600200" y="4191120"/>
            <a:chExt cx="2436840" cy="455400"/>
          </a:xfrm>
        </p:grpSpPr>
        <p:sp>
          <p:nvSpPr>
            <p:cNvPr id="548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00200" y="4191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600200" y="3733920"/>
            <a:ext cx="2436840" cy="455400"/>
            <a:chOff x="1600200" y="3733920"/>
            <a:chExt cx="2436840" cy="455400"/>
          </a:xfrm>
        </p:grpSpPr>
        <p:sp>
          <p:nvSpPr>
            <p:cNvPr id="551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00200" y="37339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asic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600200" y="3276720"/>
            <a:ext cx="2436840" cy="455400"/>
            <a:chOff x="1600200" y="3276720"/>
            <a:chExt cx="2436840" cy="455400"/>
          </a:xfrm>
        </p:grpSpPr>
        <p:sp>
          <p:nvSpPr>
            <p:cNvPr id="554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00200" y="32767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557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600200" y="1905120"/>
            <a:ext cx="2436840" cy="455400"/>
            <a:chOff x="1600200" y="1905120"/>
            <a:chExt cx="2436840" cy="455400"/>
          </a:xfrm>
        </p:grpSpPr>
        <p:sp>
          <p:nvSpPr>
            <p:cNvPr id="560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00200" y="19051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pplication pro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600200" y="2819520"/>
            <a:ext cx="2436840" cy="455400"/>
            <a:chOff x="1600200" y="2819520"/>
            <a:chExt cx="2436840" cy="455400"/>
          </a:xfrm>
        </p:grpSpPr>
        <p:sp>
          <p:nvSpPr>
            <p:cNvPr id="563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00200" y="28195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Logical fil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038480" y="2131920"/>
            <a:ext cx="4341960" cy="2133720"/>
            <a:chOff x="4038480" y="2131920"/>
            <a:chExt cx="4341960" cy="2133720"/>
          </a:xfrm>
        </p:grpSpPr>
        <p:sp>
          <p:nvSpPr>
            <p:cNvPr id="566" name=""/>
            <p:cNvSpPr/>
            <p:nvPr/>
          </p:nvSpPr>
          <p:spPr>
            <a:xfrm>
              <a:off x="4876920" y="2135160"/>
              <a:ext cx="3503520" cy="2130480"/>
            </a:xfrm>
            <a:prstGeom prst="roundRect">
              <a:avLst>
                <a:gd name="adj" fmla="val 74"/>
              </a:avLst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5408640" y="3657600"/>
              <a:ext cx="2589120" cy="379440"/>
              <a:chOff x="5408640" y="3657600"/>
              <a:chExt cx="2589120" cy="379440"/>
            </a:xfrm>
          </p:grpSpPr>
          <p:sp>
            <p:nvSpPr>
              <p:cNvPr id="568" name=""/>
              <p:cNvSpPr/>
              <p:nvPr/>
            </p:nvSpPr>
            <p:spPr>
              <a:xfrm>
                <a:off x="5408640" y="3657600"/>
                <a:ext cx="2589120" cy="379440"/>
              </a:xfrm>
              <a:prstGeom prst="roundRect">
                <a:avLst>
                  <a:gd name="adj" fmla="val 41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08640" y="3657600"/>
                <a:ext cx="258912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Access Contr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5408640" y="3276720"/>
              <a:ext cx="2589120" cy="379440"/>
              <a:chOff x="5408640" y="3276720"/>
              <a:chExt cx="2589120" cy="379440"/>
            </a:xfrm>
          </p:grpSpPr>
          <p:sp>
            <p:nvSpPr>
              <p:cNvPr id="571" name=""/>
              <p:cNvSpPr/>
              <p:nvPr/>
            </p:nvSpPr>
            <p:spPr>
              <a:xfrm>
                <a:off x="5408640" y="3276720"/>
                <a:ext cx="2589120" cy="379440"/>
              </a:xfrm>
              <a:prstGeom prst="roundRect">
                <a:avLst>
                  <a:gd name="adj" fmla="val 41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08640" y="3276720"/>
                <a:ext cx="258912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Nam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408640" y="2895480"/>
              <a:ext cx="2589120" cy="379440"/>
              <a:chOff x="5408640" y="2895480"/>
              <a:chExt cx="2589120" cy="379440"/>
            </a:xfrm>
          </p:grpSpPr>
          <p:sp>
            <p:nvSpPr>
              <p:cNvPr id="574" name=""/>
              <p:cNvSpPr/>
              <p:nvPr/>
            </p:nvSpPr>
            <p:spPr>
              <a:xfrm>
                <a:off x="5408640" y="2895480"/>
                <a:ext cx="2589120" cy="379440"/>
              </a:xfrm>
              <a:prstGeom prst="roundRect">
                <a:avLst>
                  <a:gd name="adj" fmla="val 41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08640" y="2895480"/>
                <a:ext cx="2589120" cy="379440"/>
              </a:xfrm>
              <a:prstGeom prst="roundRect">
                <a:avLst>
                  <a:gd name="adj" fmla="val 41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Catalo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 flipV="1">
              <a:off x="4038480" y="2131920"/>
              <a:ext cx="83844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3276720"/>
              <a:ext cx="838440" cy="9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33600" y="2363760"/>
              <a:ext cx="1194840" cy="37152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uff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51800" y="2363760"/>
              <a:ext cx="1257480" cy="37152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ile 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600200" y="2362320"/>
            <a:ext cx="2436840" cy="455400"/>
            <a:chOff x="1600200" y="2362320"/>
            <a:chExt cx="2436840" cy="455400"/>
          </a:xfrm>
        </p:grpSpPr>
        <p:sp>
          <p:nvSpPr>
            <p:cNvPr id="581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0200" y="2362320"/>
              <a:ext cx="2436840" cy="4554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64F-1D60-4A06-B5E9-5445F1C578A8}" type="slidenum">
              <a:t>41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 fill="hold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ccess control sub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used to check is a certain operation on a file can actually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, read/write permissions are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permission is not granted, the function returns with 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, locks are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lock can be on a file, or on part of 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file (or part of a file) is locked by some process, access by other users is not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rror is returned or the process is 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722-EF38-4DBB-827E-73828FAF4C5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functions ar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L_lock_r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ks a file f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process can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other process can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L_unlock_r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locks the file for rea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L_lock_w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ks a file for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other process can access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L_unlock_w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locks a file for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944-4BAC-40B8-B5B5-34D41CB89ED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aming sub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ub-layer associates names to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ymbolic names are stored in the i-node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ublayer provides the LSF_open()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SF_open() returns an id (the index in the “internal open file table”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reates the “internal open file table”, and calls the FOL_open() that will create the i-node (if it does not exists alread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e other functions (LSF_read(), LSF_write(), etc) will refer to the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7E3-B051-4DF6-8B50-17F8DC2475B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or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hird sublayer (catalog layer) is used to implement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directory is seen as a specia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pecial file contains the list of the files and sub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also be implemented as a more complex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ublayer provides functions for manipulating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001-3619-4A2E-B18C-E4A406A6C48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functions ar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_create_dir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s a new directory in the specifie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s the directory name in the parent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_remove_dir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s the directory, also from the parent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_create_fil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s the file to its parent 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_remove_file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s the file from its parent 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132-A80C-40A1-9C8E-2E8FAC0956E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 of the Logical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ddition to the sub-layer functions, the LFS layer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SF_read(file_id, buffer, nbyt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function, after obtaining the i-node address, invokes the FOL_read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updates the current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SF_write(file_id, buffer, nbyt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function, after obtaining the i-node address, invokes the FOL_write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updates the current offset and the current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SF_seek(file_id, offset, how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function only updates the current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SF_close(file_i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function calls the FOL_close and decrements the reference counter in the “internal file decriptor”. If the counter is 0, deallocates the file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3D2-5603-44BD-9A96-5BCBDBE55BB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ace 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F transforms the file id into a i-nod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sition is the current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4952880"/>
            <a:ext cx="75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5029200"/>
            <a:ext cx="6248520" cy="380880"/>
          </a:xfrm>
          <a:prstGeom prst="roundRect">
            <a:avLst>
              <a:gd name="adj" fmla="val 41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53080" y="4724280"/>
            <a:ext cx="1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6160" y="5029200"/>
            <a:ext cx="469080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L_read(i-node pointer, position, nbyte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314000" y="4114800"/>
            <a:ext cx="214452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gical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32720" y="5653080"/>
            <a:ext cx="25574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 organization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143000" y="3352680"/>
            <a:ext cx="75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52480" y="3429000"/>
            <a:ext cx="6248520" cy="380880"/>
          </a:xfrm>
          <a:prstGeom prst="roundRect">
            <a:avLst>
              <a:gd name="adj" fmla="val 41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28080" y="3429000"/>
            <a:ext cx="34869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SF_read(file id, buffer, nbyte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791320" y="4038480"/>
            <a:ext cx="455400" cy="379440"/>
            <a:chOff x="5791320" y="4038480"/>
            <a:chExt cx="455400" cy="379440"/>
          </a:xfrm>
        </p:grpSpPr>
        <p:sp>
          <p:nvSpPr>
            <p:cNvPr id="607" name=""/>
            <p:cNvSpPr/>
            <p:nvPr/>
          </p:nvSpPr>
          <p:spPr>
            <a:xfrm>
              <a:off x="5791320" y="4038480"/>
              <a:ext cx="455400" cy="379440"/>
            </a:xfrm>
            <a:prstGeom prst="roundRect">
              <a:avLst>
                <a:gd name="adj" fmla="val 417"/>
              </a:avLst>
            </a:prstGeom>
            <a:solidFill>
              <a:srgbClr val="8f6d5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91320" y="4038480"/>
              <a:ext cx="455400" cy="37944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6553080" y="38098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6245280" y="4114800"/>
            <a:ext cx="311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19920" y="4419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19920" y="4724280"/>
            <a:ext cx="533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667-8B7D-4E93-8F39-6FBD5744C2A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gical File system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ayer can also provide buff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SF_read may or may not involve a call to FOL_read(), depending on the content of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, to fill the buffer, a LSF_read() of one byte can be transformed in a FOL_read() of many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ly, a double buffering mechanism can be provide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nternal process can block on a circular buffer waiting to load a sequence of blocks from the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DEE-739D-478C-8382-24A738FDFDE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sic operations on a 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operations can be performed on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space on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cate space and updat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ize of a file is dynamic! This can create problems in the allocation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ing (lseek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cases, we need a pointer to the current position in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need to deallocate the space and update th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unc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uc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C79-27CA-4272-A031-E087838262F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perating system fun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s the entry in the process’ file descripto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ls the LSF_open() that creates the “internal open file descript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es from file descriptor to fil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y calls the LSF_read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es from file descriptor to fil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y calls the LSF_write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seek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FD5-FABA-4CF4-AFBB-F0067824283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isk needs to be formatted before starting with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ormatting creates all structures in the disk that are us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cat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x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lean FA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linked list of free blocks is created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matting also “marks” bad blocks (i.e. blocks that cannot be used safely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other way of marking bad blocks in Unix is with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hk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some special system, the formatting creates the structures for the error cor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in R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4DE-814A-4C42-9CA0-CCEAB062250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wap sp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ortion of the disk is allocated to the swap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wap out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wap out modified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wap space is usually in a separate 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void interference with oth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wap space can be manag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ingle direct access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ollections of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swap space is in a separate 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 functions used for the files are not used for the swap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dedicated functions will load and unload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functions use algorithms optimized for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307-76A4-40C3-BE4A-3D5411F7FE0C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ransaction – based file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dern file systems are based on the concept of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ld file systems, a crash of the OS, or another catastrophic event could leave the disk in an inconsisten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a file is half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element of the FAT is not correctly lin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block is neither free nor occu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, when the system restarts, it check the consistency of the File tables on the disk and, in case it is not correct, runs a recovery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covery is long and ted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over, some other file could be dam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vercome these problems, the concept of Transaction-Based file systems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n directly from the databas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E4B-B41E-4303-B6AF-D3CA1B32DF4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ransaction – based file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transaction-based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and write operations are “transac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operation consists of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eration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mmit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mit phase is very short and can be considered “atom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.e. it cannot be interru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ther words, operations cannot be left in a “incomplete”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commited operation are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61D-6122-4BDE-B3B6-9D5A4A2DAE8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ransaction-based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66320" y="2971800"/>
            <a:ext cx="7620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the first three operations are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ast operation is like it had never been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mplement this, we need to implement a write operation in a particular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blocks are written on the d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pdate in the “FAT” is part of the commit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changes a lot from FS to 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 in Linux: ReiserFS, ext3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219320" y="1523880"/>
            <a:ext cx="1674720" cy="303480"/>
            <a:chOff x="1219320" y="1523880"/>
            <a:chExt cx="1674720" cy="303480"/>
          </a:xfrm>
        </p:grpSpPr>
        <p:grpSp>
          <p:nvGrpSpPr>
            <p:cNvPr id="628" name=""/>
            <p:cNvGrpSpPr/>
            <p:nvPr/>
          </p:nvGrpSpPr>
          <p:grpSpPr>
            <a:xfrm>
              <a:off x="1219320" y="1523880"/>
              <a:ext cx="1444680" cy="301680"/>
              <a:chOff x="1219320" y="1523880"/>
              <a:chExt cx="1444680" cy="301680"/>
            </a:xfrm>
          </p:grpSpPr>
          <p:sp>
            <p:nvSpPr>
              <p:cNvPr id="629" name=""/>
              <p:cNvSpPr/>
              <p:nvPr/>
            </p:nvSpPr>
            <p:spPr>
              <a:xfrm>
                <a:off x="1219320" y="1523880"/>
                <a:ext cx="1444680" cy="301680"/>
              </a:xfrm>
              <a:prstGeom prst="roundRect">
                <a:avLst>
                  <a:gd name="adj" fmla="val 519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219320" y="1523880"/>
                <a:ext cx="1444680" cy="30168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ope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665440" y="1523880"/>
              <a:ext cx="228600" cy="30348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303480"/>
                <a:gd name="textAreaBottom" fmla="*/ 303120 h 303480"/>
              </a:gdLst>
              <a:ahLst/>
              <a:rect l="textAreaLeft" t="textAreaTop" r="textAreaRight" b="textAreaBottom"/>
              <a:pathLst>
                <a:path w="21600" h="28664">
                  <a:moveTo>
                    <a:pt x="150" y="0"/>
                  </a:moveTo>
                  <a:arcTo wR="150" hR="150" stAng="16200000" swAng="-5400000"/>
                  <a:lnTo>
                    <a:pt x="0" y="28514"/>
                  </a:lnTo>
                  <a:arcTo wR="150" hR="150" stAng="10800000" swAng="-5400000"/>
                  <a:lnTo>
                    <a:pt x="21450" y="28664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895480" y="1523880"/>
            <a:ext cx="1675080" cy="303480"/>
            <a:chOff x="2895480" y="1523880"/>
            <a:chExt cx="1675080" cy="303480"/>
          </a:xfrm>
        </p:grpSpPr>
        <p:grpSp>
          <p:nvGrpSpPr>
            <p:cNvPr id="633" name=""/>
            <p:cNvGrpSpPr/>
            <p:nvPr/>
          </p:nvGrpSpPr>
          <p:grpSpPr>
            <a:xfrm>
              <a:off x="2895480" y="1523880"/>
              <a:ext cx="1444680" cy="301680"/>
              <a:chOff x="2895480" y="1523880"/>
              <a:chExt cx="1444680" cy="301680"/>
            </a:xfrm>
          </p:grpSpPr>
          <p:sp>
            <p:nvSpPr>
              <p:cNvPr id="634" name=""/>
              <p:cNvSpPr/>
              <p:nvPr/>
            </p:nvSpPr>
            <p:spPr>
              <a:xfrm>
                <a:off x="2895480" y="1523880"/>
                <a:ext cx="1444680" cy="301680"/>
              </a:xfrm>
              <a:prstGeom prst="roundRect">
                <a:avLst>
                  <a:gd name="adj" fmla="val 519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895480" y="1523880"/>
                <a:ext cx="1444680" cy="30168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ope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4341960" y="1523880"/>
              <a:ext cx="228600" cy="30348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303480"/>
                <a:gd name="textAreaBottom" fmla="*/ 303120 h 303480"/>
              </a:gdLst>
              <a:ahLst/>
              <a:rect l="textAreaLeft" t="textAreaTop" r="textAreaRight" b="textAreaBottom"/>
              <a:pathLst>
                <a:path w="21600" h="28664">
                  <a:moveTo>
                    <a:pt x="150" y="0"/>
                  </a:moveTo>
                  <a:arcTo wR="150" hR="150" stAng="16200000" swAng="-5400000"/>
                  <a:lnTo>
                    <a:pt x="0" y="28514"/>
                  </a:lnTo>
                  <a:arcTo wR="150" hR="150" stAng="10800000" swAng="-5400000"/>
                  <a:lnTo>
                    <a:pt x="21450" y="28664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572000" y="1523880"/>
            <a:ext cx="1674720" cy="303480"/>
            <a:chOff x="4572000" y="1523880"/>
            <a:chExt cx="1674720" cy="303480"/>
          </a:xfrm>
        </p:grpSpPr>
        <p:grpSp>
          <p:nvGrpSpPr>
            <p:cNvPr id="638" name=""/>
            <p:cNvGrpSpPr/>
            <p:nvPr/>
          </p:nvGrpSpPr>
          <p:grpSpPr>
            <a:xfrm>
              <a:off x="4572000" y="1523880"/>
              <a:ext cx="1444680" cy="301680"/>
              <a:chOff x="4572000" y="1523880"/>
              <a:chExt cx="1444680" cy="301680"/>
            </a:xfrm>
          </p:grpSpPr>
          <p:sp>
            <p:nvSpPr>
              <p:cNvPr id="639" name=""/>
              <p:cNvSpPr/>
              <p:nvPr/>
            </p:nvSpPr>
            <p:spPr>
              <a:xfrm>
                <a:off x="4572000" y="1523880"/>
                <a:ext cx="1444680" cy="301680"/>
              </a:xfrm>
              <a:prstGeom prst="roundRect">
                <a:avLst>
                  <a:gd name="adj" fmla="val 519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572000" y="1523880"/>
                <a:ext cx="1444680" cy="301680"/>
              </a:xfrm>
              <a:prstGeom prst="roundRect">
                <a:avLst>
                  <a:gd name="adj" fmla="val 5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ope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6018120" y="1523880"/>
              <a:ext cx="228600" cy="303480"/>
            </a:xfrm>
            <a:custGeom>
              <a:avLst/>
              <a:gdLst>
                <a:gd name="textAreaLeft" fmla="*/ 360 w 228600"/>
                <a:gd name="textAreaRight" fmla="*/ 228240 w 228600"/>
                <a:gd name="textAreaTop" fmla="*/ 360 h 303480"/>
                <a:gd name="textAreaBottom" fmla="*/ 303120 h 303480"/>
              </a:gdLst>
              <a:ahLst/>
              <a:rect l="textAreaLeft" t="textAreaTop" r="textAreaRight" b="textAreaBottom"/>
              <a:pathLst>
                <a:path w="21600" h="28664">
                  <a:moveTo>
                    <a:pt x="150" y="0"/>
                  </a:moveTo>
                  <a:arcTo wR="150" hR="150" stAng="16200000" swAng="-5400000"/>
                  <a:lnTo>
                    <a:pt x="0" y="28514"/>
                  </a:lnTo>
                  <a:arcTo wR="150" hR="150" stAng="10800000" swAng="-5400000"/>
                  <a:lnTo>
                    <a:pt x="21450" y="28664"/>
                  </a:lnTo>
                  <a:arcTo wR="150" hR="150" stAng="5400000" swAng="-5400000"/>
                  <a:lnTo>
                    <a:pt x="21600" y="150"/>
                  </a:lnTo>
                  <a:arcTo wR="150" hR="15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6248520" y="1523880"/>
            <a:ext cx="685800" cy="304920"/>
          </a:xfrm>
          <a:prstGeom prst="roundRect">
            <a:avLst>
              <a:gd name="adj" fmla="val 51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781680" y="1827360"/>
            <a:ext cx="150840" cy="915480"/>
            <a:chOff x="6781680" y="1827360"/>
            <a:chExt cx="150840" cy="915480"/>
          </a:xfrm>
        </p:grpSpPr>
        <p:sp>
          <p:nvSpPr>
            <p:cNvPr id="644" name=""/>
            <p:cNvSpPr/>
            <p:nvPr/>
          </p:nvSpPr>
          <p:spPr>
            <a:xfrm flipV="1">
              <a:off x="6781680" y="2282400"/>
              <a:ext cx="180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781680" y="2286000"/>
              <a:ext cx="149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6931080" y="1827360"/>
              <a:ext cx="14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D7C-1C73-43EC-87F6-E32116AB435A}" type="slidenum">
              <a:t>55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any operating systems the file interface is used also for accessing devices and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ing on the name used in the open, it is possible to associate a file descriptor to a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done in the naming sub-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058-1767-4272-A289-69C77FBA4CB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nux the i-node is substituted by a v-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-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-node is a generalization of a i-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-node is fo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-node can also be for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-node contains a pointer to a device descripto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vice descriptor table contains appropriate functions pointers for open/read/write/clos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E26-9137-4723-8125-781F2EBC7FF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pecial files in Linu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/dev/ directory contains special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not actual files on the hard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file in /dev/ is a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most ca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writing directly on the file, we can send data to the de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reading directly from the file, we can read data from the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ev/null is a particular “device” whose “write” operation does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ing data to /dev/null is equivalent to sending them no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7F0-55B3-4839-A412-09DD5D46EEF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/proc direct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special directory is /proc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ain, it is not a real directory as it does not contai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ntains information on the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it contains a directory for ea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rectory contains several files, like the process id, the memory currently used by the proces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s and the top commands read their information from the /proc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F0B-8E8D-4291-B688-CE18AED7F7D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pening a 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es it mean to open a f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le is normally memorized on the mas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ing a file is need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data structures in the operating system for accessing the file (tables, pointers, etc.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stering that a file is being used by som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us, it cannot be deleted by another proces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a file can be opened by many processe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7E3-EB54-4490-9C47-BA52BB944E5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/proc direct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time we “open” a file in the /proc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ming subsystem understands it is a specia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opens a special v-node that contains a pointer to a table of pointers to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/read/write/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call to read on that descriptor will be translated on a call to the appropriate function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unction pointer points to a function that looks inside the operating system structures and returns the needed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FB6-2A69-4C7F-B229-800681C6AB4B}" type="slidenum">
              <a:t>60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t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levels of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’s fi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one such table for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able contains “file descripto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“file descriptor” contains the pointer to “internal open file descriptor” residing in the open fi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fi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time an open() system call is invoked, one new “internal open file descriptor” is  created and memorized in the “open file tab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“internal open file descriptor” contains a pointer to the “file node descript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 nod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table contains one “file node descriptor” for each open file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file node descriptor contains a counter to the number of “internal open file descriptors” pointing to th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4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3E6-F9DB-46A3-A9CB-C23697E1E9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394400" y="5410080"/>
            <a:ext cx="1135080" cy="681120"/>
          </a:xfrm>
          <a:prstGeom prst="roundRect">
            <a:avLst>
              <a:gd name="adj" fmla="val 23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2520" y="538200"/>
            <a:ext cx="1042920" cy="1050840"/>
          </a:xfrm>
          <a:custGeom>
            <a:avLst/>
            <a:gdLst>
              <a:gd name="textAreaLeft" fmla="*/ 360 w 1042920"/>
              <a:gd name="textAreaRight" fmla="*/ 1042560 w 1042920"/>
              <a:gd name="textAreaTop" fmla="*/ 360 h 1050840"/>
              <a:gd name="textAreaBottom" fmla="*/ 1050480 h 1050840"/>
            </a:gdLst>
            <a:ahLst/>
            <a:rect l="textAreaLeft" t="textAreaTop" r="textAreaRight" b="textAreaBottom"/>
            <a:pathLst>
              <a:path w="21600" h="21764">
                <a:moveTo>
                  <a:pt x="32" y="0"/>
                </a:moveTo>
                <a:arcTo wR="32" hR="32" stAng="16200000" swAng="-5400000"/>
                <a:lnTo>
                  <a:pt x="0" y="21732"/>
                </a:lnTo>
                <a:arcTo wR="32" hR="32" stAng="10800000" swAng="-5400000"/>
                <a:lnTo>
                  <a:pt x="21568" y="21764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Unix file t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1447920"/>
            <a:ext cx="2057400" cy="2209680"/>
          </a:xfrm>
          <a:custGeom>
            <a:avLst/>
            <a:gdLst>
              <a:gd name="textAreaLeft" fmla="*/ 360 w 2057400"/>
              <a:gd name="textAreaRight" fmla="*/ 2057040 w 2057400"/>
              <a:gd name="textAreaTop" fmla="*/ 360 h 2209680"/>
              <a:gd name="textAreaBottom" fmla="*/ 2209320 h 2209680"/>
            </a:gdLst>
            <a:ahLst/>
            <a:rect l="textAreaLeft" t="textAreaTop" r="textAreaRight" b="textAreaBottom"/>
            <a:pathLst>
              <a:path w="21600" h="23198">
                <a:moveTo>
                  <a:pt x="16" y="0"/>
                </a:moveTo>
                <a:arcTo wR="16" hR="16" stAng="16200000" swAng="-5400000"/>
                <a:lnTo>
                  <a:pt x="0" y="23182"/>
                </a:lnTo>
                <a:arcTo wR="16" hR="16" stAng="10800000" swAng="-5400000"/>
                <a:lnTo>
                  <a:pt x="21584" y="2319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886200"/>
            <a:ext cx="2057400" cy="2209680"/>
          </a:xfrm>
          <a:custGeom>
            <a:avLst/>
            <a:gdLst>
              <a:gd name="textAreaLeft" fmla="*/ 360 w 2057400"/>
              <a:gd name="textAreaRight" fmla="*/ 2057040 w 2057400"/>
              <a:gd name="textAreaTop" fmla="*/ 360 h 2209680"/>
              <a:gd name="textAreaBottom" fmla="*/ 2209320 h 2209680"/>
            </a:gdLst>
            <a:ahLst/>
            <a:rect l="textAreaLeft" t="textAreaTop" r="textAreaRight" b="textAreaBottom"/>
            <a:pathLst>
              <a:path w="21600" h="23198">
                <a:moveTo>
                  <a:pt x="16" y="0"/>
                </a:moveTo>
                <a:arcTo wR="16" hR="16" stAng="16200000" swAng="-5400000"/>
                <a:lnTo>
                  <a:pt x="0" y="23182"/>
                </a:lnTo>
                <a:arcTo wR="16" hR="16" stAng="10800000" swAng="-5400000"/>
                <a:lnTo>
                  <a:pt x="21584" y="23198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64400" y="1523880"/>
            <a:ext cx="45108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64400" y="3962520"/>
            <a:ext cx="45108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09680" y="1828800"/>
            <a:ext cx="912960" cy="1217520"/>
            <a:chOff x="2209680" y="1828800"/>
            <a:chExt cx="912960" cy="1217520"/>
          </a:xfrm>
        </p:grpSpPr>
        <p:sp>
          <p:nvSpPr>
            <p:cNvPr id="118" name=""/>
            <p:cNvSpPr/>
            <p:nvPr/>
          </p:nvSpPr>
          <p:spPr>
            <a:xfrm>
              <a:off x="2209680" y="1828800"/>
              <a:ext cx="912960" cy="1217520"/>
            </a:xfrm>
            <a:custGeom>
              <a:avLst/>
              <a:gdLst>
                <a:gd name="textAreaLeft" fmla="*/ 360 w 912960"/>
                <a:gd name="textAreaRight" fmla="*/ 912600 w 912960"/>
                <a:gd name="textAreaTop" fmla="*/ 360 h 1217520"/>
                <a:gd name="textAreaBottom" fmla="*/ 1217160 h 1217520"/>
              </a:gdLst>
              <a:ahLst/>
              <a:rect l="textAreaLeft" t="textAreaTop" r="textAreaRight" b="textAreaBottom"/>
              <a:pathLst>
                <a:path w="21600" h="28803">
                  <a:moveTo>
                    <a:pt x="37" y="0"/>
                  </a:moveTo>
                  <a:arcTo wR="37" hR="37" stAng="16200000" swAng="-5400000"/>
                  <a:lnTo>
                    <a:pt x="0" y="28766"/>
                  </a:lnTo>
                  <a:arcTo wR="37" hR="37" stAng="10800000" swAng="-5400000"/>
                  <a:lnTo>
                    <a:pt x="21563" y="28803"/>
                  </a:lnTo>
                  <a:arcTo wR="37" hR="37" stAng="5400000" swAng="-5400000"/>
                  <a:lnTo>
                    <a:pt x="21600" y="37"/>
                  </a:lnTo>
                  <a:arcTo wR="37" hR="37" stAng="0" swAng="-5400000"/>
                  <a:close/>
                </a:path>
              </a:pathLst>
            </a:cu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9680" y="2133720"/>
              <a:ext cx="9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2436840"/>
              <a:ext cx="9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2741760"/>
              <a:ext cx="9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09680" y="4343400"/>
            <a:ext cx="912960" cy="1217520"/>
            <a:chOff x="2209680" y="4343400"/>
            <a:chExt cx="912960" cy="1217520"/>
          </a:xfrm>
        </p:grpSpPr>
        <p:sp>
          <p:nvSpPr>
            <p:cNvPr id="123" name=""/>
            <p:cNvSpPr/>
            <p:nvPr/>
          </p:nvSpPr>
          <p:spPr>
            <a:xfrm>
              <a:off x="2209680" y="4343400"/>
              <a:ext cx="912960" cy="1217520"/>
            </a:xfrm>
            <a:custGeom>
              <a:avLst/>
              <a:gdLst>
                <a:gd name="textAreaLeft" fmla="*/ 360 w 912960"/>
                <a:gd name="textAreaRight" fmla="*/ 912600 w 912960"/>
                <a:gd name="textAreaTop" fmla="*/ 360 h 1217520"/>
                <a:gd name="textAreaBottom" fmla="*/ 1217160 h 1217520"/>
              </a:gdLst>
              <a:ahLst/>
              <a:rect l="textAreaLeft" t="textAreaTop" r="textAreaRight" b="textAreaBottom"/>
              <a:pathLst>
                <a:path w="21600" h="28803">
                  <a:moveTo>
                    <a:pt x="37" y="0"/>
                  </a:moveTo>
                  <a:arcTo wR="37" hR="37" stAng="16200000" swAng="-5400000"/>
                  <a:lnTo>
                    <a:pt x="0" y="28766"/>
                  </a:lnTo>
                  <a:arcTo wR="37" hR="37" stAng="10800000" swAng="-5400000"/>
                  <a:lnTo>
                    <a:pt x="21563" y="28803"/>
                  </a:lnTo>
                  <a:arcTo wR="37" hR="37" stAng="5400000" swAng="-5400000"/>
                  <a:lnTo>
                    <a:pt x="21600" y="37"/>
                  </a:lnTo>
                  <a:arcTo wR="37" hR="37" stAng="0" swAng="-5400000"/>
                  <a:close/>
                </a:path>
              </a:pathLst>
            </a:cu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4648320"/>
              <a:ext cx="9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09680" y="4951440"/>
              <a:ext cx="9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9680" y="5256360"/>
              <a:ext cx="9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419720" y="1981080"/>
            <a:ext cx="1369800" cy="912960"/>
            <a:chOff x="4419720" y="1981080"/>
            <a:chExt cx="1369800" cy="912960"/>
          </a:xfrm>
        </p:grpSpPr>
        <p:sp>
          <p:nvSpPr>
            <p:cNvPr id="128" name=""/>
            <p:cNvSpPr/>
            <p:nvPr/>
          </p:nvSpPr>
          <p:spPr>
            <a:xfrm>
              <a:off x="4419720" y="1981080"/>
              <a:ext cx="1369800" cy="912960"/>
            </a:xfrm>
            <a:prstGeom prst="roundRect">
              <a:avLst>
                <a:gd name="adj" fmla="val 171"/>
              </a:avLst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9720" y="2286000"/>
              <a:ext cx="13698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19720" y="2589120"/>
              <a:ext cx="136980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781680" y="1981080"/>
            <a:ext cx="1370160" cy="912960"/>
            <a:chOff x="6781680" y="1981080"/>
            <a:chExt cx="1370160" cy="912960"/>
          </a:xfrm>
        </p:grpSpPr>
        <p:sp>
          <p:nvSpPr>
            <p:cNvPr id="132" name=""/>
            <p:cNvSpPr/>
            <p:nvPr/>
          </p:nvSpPr>
          <p:spPr>
            <a:xfrm>
              <a:off x="6781680" y="1981080"/>
              <a:ext cx="1370160" cy="912960"/>
            </a:xfrm>
            <a:prstGeom prst="roundRect">
              <a:avLst>
                <a:gd name="adj" fmla="val 171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81680" y="2286000"/>
              <a:ext cx="13701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2589120"/>
              <a:ext cx="137016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819520" y="1981080"/>
            <a:ext cx="1598400" cy="1800"/>
            <a:chOff x="2819520" y="1981080"/>
            <a:chExt cx="1598400" cy="1800"/>
          </a:xfrm>
        </p:grpSpPr>
        <p:sp>
          <p:nvSpPr>
            <p:cNvPr id="136" name=""/>
            <p:cNvSpPr/>
            <p:nvPr/>
          </p:nvSpPr>
          <p:spPr>
            <a:xfrm>
              <a:off x="3808440" y="1981080"/>
              <a:ext cx="609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19520" y="1981080"/>
              <a:ext cx="98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419720" y="2895480"/>
            <a:ext cx="1369800" cy="912960"/>
            <a:chOff x="4419720" y="2895480"/>
            <a:chExt cx="1369800" cy="912960"/>
          </a:xfrm>
        </p:grpSpPr>
        <p:sp>
          <p:nvSpPr>
            <p:cNvPr id="139" name=""/>
            <p:cNvSpPr/>
            <p:nvPr/>
          </p:nvSpPr>
          <p:spPr>
            <a:xfrm>
              <a:off x="4419720" y="2895480"/>
              <a:ext cx="1369800" cy="912960"/>
            </a:xfrm>
            <a:prstGeom prst="roundRect">
              <a:avLst>
                <a:gd name="adj" fmla="val 171"/>
              </a:avLst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3200400"/>
              <a:ext cx="13698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3503520"/>
              <a:ext cx="136980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419720" y="3809880"/>
            <a:ext cx="1369800" cy="912960"/>
            <a:chOff x="4419720" y="3809880"/>
            <a:chExt cx="1369800" cy="912960"/>
          </a:xfrm>
        </p:grpSpPr>
        <p:sp>
          <p:nvSpPr>
            <p:cNvPr id="143" name=""/>
            <p:cNvSpPr/>
            <p:nvPr/>
          </p:nvSpPr>
          <p:spPr>
            <a:xfrm>
              <a:off x="4419720" y="3809880"/>
              <a:ext cx="1369800" cy="912960"/>
            </a:xfrm>
            <a:prstGeom prst="roundRect">
              <a:avLst>
                <a:gd name="adj" fmla="val 171"/>
              </a:avLst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19720" y="4114800"/>
              <a:ext cx="13698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19720" y="4417920"/>
              <a:ext cx="136980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419720" y="4724280"/>
            <a:ext cx="1369800" cy="912960"/>
            <a:chOff x="4419720" y="4724280"/>
            <a:chExt cx="1369800" cy="912960"/>
          </a:xfrm>
        </p:grpSpPr>
        <p:sp>
          <p:nvSpPr>
            <p:cNvPr id="147" name=""/>
            <p:cNvSpPr/>
            <p:nvPr/>
          </p:nvSpPr>
          <p:spPr>
            <a:xfrm>
              <a:off x="4419720" y="4724280"/>
              <a:ext cx="1369800" cy="912960"/>
            </a:xfrm>
            <a:prstGeom prst="roundRect">
              <a:avLst>
                <a:gd name="adj" fmla="val 171"/>
              </a:avLst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5029200"/>
              <a:ext cx="13698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19720" y="5332320"/>
              <a:ext cx="136980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819520" y="2284200"/>
            <a:ext cx="1598400" cy="687240"/>
            <a:chOff x="2819520" y="2284200"/>
            <a:chExt cx="1598400" cy="687240"/>
          </a:xfrm>
        </p:grpSpPr>
        <p:sp>
          <p:nvSpPr>
            <p:cNvPr id="151" name=""/>
            <p:cNvSpPr/>
            <p:nvPr/>
          </p:nvSpPr>
          <p:spPr>
            <a:xfrm>
              <a:off x="3808440" y="2968560"/>
              <a:ext cx="609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08440" y="2284200"/>
              <a:ext cx="144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2287440"/>
              <a:ext cx="98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819520" y="2588760"/>
            <a:ext cx="1596960" cy="1297080"/>
            <a:chOff x="2819520" y="2588760"/>
            <a:chExt cx="1596960" cy="1297080"/>
          </a:xfrm>
        </p:grpSpPr>
        <p:sp>
          <p:nvSpPr>
            <p:cNvPr id="155" name=""/>
            <p:cNvSpPr/>
            <p:nvPr/>
          </p:nvSpPr>
          <p:spPr>
            <a:xfrm>
              <a:off x="2819520" y="2592360"/>
              <a:ext cx="760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579840" y="2588760"/>
              <a:ext cx="144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79840" y="3882960"/>
              <a:ext cx="836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819520" y="2131920"/>
            <a:ext cx="1598400" cy="2363760"/>
            <a:chOff x="2819520" y="2131920"/>
            <a:chExt cx="1598400" cy="2363760"/>
          </a:xfrm>
        </p:grpSpPr>
        <p:sp>
          <p:nvSpPr>
            <p:cNvPr id="159" name=""/>
            <p:cNvSpPr/>
            <p:nvPr/>
          </p:nvSpPr>
          <p:spPr>
            <a:xfrm>
              <a:off x="2819520" y="4492800"/>
              <a:ext cx="1065240" cy="1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884760" y="2131920"/>
              <a:ext cx="1440" cy="2363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84760" y="2135160"/>
              <a:ext cx="533160" cy="1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819520" y="3045960"/>
            <a:ext cx="1598400" cy="1754280"/>
            <a:chOff x="2819520" y="3045960"/>
            <a:chExt cx="1598400" cy="1754280"/>
          </a:xfrm>
        </p:grpSpPr>
        <p:sp>
          <p:nvSpPr>
            <p:cNvPr id="163" name=""/>
            <p:cNvSpPr/>
            <p:nvPr/>
          </p:nvSpPr>
          <p:spPr>
            <a:xfrm>
              <a:off x="2819520" y="4797360"/>
              <a:ext cx="1217520" cy="1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037040" y="3045960"/>
              <a:ext cx="1440" cy="1754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37040" y="3049560"/>
              <a:ext cx="380880" cy="1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819520" y="4875120"/>
            <a:ext cx="1598400" cy="230400"/>
            <a:chOff x="2819520" y="4875120"/>
            <a:chExt cx="1598400" cy="230400"/>
          </a:xfrm>
        </p:grpSpPr>
        <p:sp>
          <p:nvSpPr>
            <p:cNvPr id="167" name=""/>
            <p:cNvSpPr/>
            <p:nvPr/>
          </p:nvSpPr>
          <p:spPr>
            <a:xfrm>
              <a:off x="2819520" y="5102280"/>
              <a:ext cx="1369800" cy="1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189320" y="4875120"/>
              <a:ext cx="1800" cy="230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89320" y="4878360"/>
              <a:ext cx="228600" cy="1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781680" y="2895480"/>
            <a:ext cx="1370160" cy="912960"/>
            <a:chOff x="6781680" y="2895480"/>
            <a:chExt cx="1370160" cy="912960"/>
          </a:xfrm>
        </p:grpSpPr>
        <p:sp>
          <p:nvSpPr>
            <p:cNvPr id="171" name=""/>
            <p:cNvSpPr/>
            <p:nvPr/>
          </p:nvSpPr>
          <p:spPr>
            <a:xfrm>
              <a:off x="6781680" y="2895480"/>
              <a:ext cx="1370160" cy="912960"/>
            </a:xfrm>
            <a:prstGeom prst="roundRect">
              <a:avLst>
                <a:gd name="adj" fmla="val 171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81680" y="3200400"/>
              <a:ext cx="13701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81680" y="3503520"/>
              <a:ext cx="137016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781680" y="3809880"/>
            <a:ext cx="1370160" cy="912960"/>
            <a:chOff x="6781680" y="3809880"/>
            <a:chExt cx="1370160" cy="912960"/>
          </a:xfrm>
        </p:grpSpPr>
        <p:sp>
          <p:nvSpPr>
            <p:cNvPr id="175" name=""/>
            <p:cNvSpPr/>
            <p:nvPr/>
          </p:nvSpPr>
          <p:spPr>
            <a:xfrm>
              <a:off x="6781680" y="3809880"/>
              <a:ext cx="1370160" cy="912960"/>
            </a:xfrm>
            <a:prstGeom prst="roundRect">
              <a:avLst>
                <a:gd name="adj" fmla="val 171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81680" y="4114800"/>
              <a:ext cx="13701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1680" y="4417920"/>
              <a:ext cx="137016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5520" y="2055600"/>
            <a:ext cx="1673280" cy="687240"/>
            <a:chOff x="5105520" y="2055600"/>
            <a:chExt cx="1673280" cy="687240"/>
          </a:xfrm>
        </p:grpSpPr>
        <p:sp>
          <p:nvSpPr>
            <p:cNvPr id="179" name=""/>
            <p:cNvSpPr/>
            <p:nvPr/>
          </p:nvSpPr>
          <p:spPr>
            <a:xfrm>
              <a:off x="5105520" y="2739960"/>
              <a:ext cx="1065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170760" y="2055600"/>
              <a:ext cx="144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70760" y="2058840"/>
              <a:ext cx="60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181480" y="2971800"/>
            <a:ext cx="1597320" cy="684360"/>
            <a:chOff x="5181480" y="2971800"/>
            <a:chExt cx="1597320" cy="684360"/>
          </a:xfrm>
        </p:grpSpPr>
        <p:sp>
          <p:nvSpPr>
            <p:cNvPr id="183" name=""/>
            <p:cNvSpPr/>
            <p:nvPr/>
          </p:nvSpPr>
          <p:spPr>
            <a:xfrm>
              <a:off x="5181480" y="3654360"/>
              <a:ext cx="989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70760" y="2971800"/>
              <a:ext cx="144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70760" y="2971800"/>
              <a:ext cx="60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257800" y="3884400"/>
            <a:ext cx="1522440" cy="687240"/>
            <a:chOff x="5257800" y="3884400"/>
            <a:chExt cx="1522440" cy="687240"/>
          </a:xfrm>
        </p:grpSpPr>
        <p:sp>
          <p:nvSpPr>
            <p:cNvPr id="187" name=""/>
            <p:cNvSpPr/>
            <p:nvPr/>
          </p:nvSpPr>
          <p:spPr>
            <a:xfrm>
              <a:off x="5257800" y="4568760"/>
              <a:ext cx="1141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399360" y="3884400"/>
              <a:ext cx="144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99360" y="3887640"/>
              <a:ext cx="380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34120" y="4037040"/>
            <a:ext cx="1446120" cy="1449360"/>
            <a:chOff x="5334120" y="4037040"/>
            <a:chExt cx="1446120" cy="1449360"/>
          </a:xfrm>
        </p:grpSpPr>
        <p:sp>
          <p:nvSpPr>
            <p:cNvPr id="191" name=""/>
            <p:cNvSpPr/>
            <p:nvPr/>
          </p:nvSpPr>
          <p:spPr>
            <a:xfrm>
              <a:off x="5334120" y="5483160"/>
              <a:ext cx="12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551640" y="4037040"/>
              <a:ext cx="1440" cy="14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51640" y="4040280"/>
              <a:ext cx="228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657600" y="5726160"/>
            <a:ext cx="1136520" cy="904680"/>
          </a:xfrm>
          <a:prstGeom prst="roundRect">
            <a:avLst>
              <a:gd name="adj" fmla="val 17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4" idx="1"/>
            <a:endCxn id="114" idx="2"/>
          </p:cNvCxnSpPr>
          <p:nvPr/>
        </p:nvCxnSpPr>
        <p:spPr>
          <a:xfrm rot="10800000">
            <a:off x="2323440" y="6095160"/>
            <a:ext cx="1334160" cy="8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96" name=""/>
          <p:cNvCxnSpPr>
            <a:stCxn id="110" idx="0"/>
            <a:endCxn id="174" idx="2"/>
          </p:cNvCxnSpPr>
          <p:nvPr/>
        </p:nvCxnSpPr>
        <p:spPr>
          <a:xfrm rot="10800000">
            <a:off x="7465320" y="4722120"/>
            <a:ext cx="496080" cy="687960"/>
          </a:xfrm>
          <a:prstGeom prst="bentConnector3">
            <a:avLst>
              <a:gd name="adj1" fmla="val 49963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97" name=""/>
          <p:cNvCxnSpPr>
            <a:stCxn id="127" idx="0"/>
            <a:endCxn id="111" idx="1"/>
          </p:cNvCxnSpPr>
          <p:nvPr/>
        </p:nvCxnSpPr>
        <p:spPr>
          <a:xfrm flipV="1">
            <a:off x="5103720" y="1063440"/>
            <a:ext cx="1829520" cy="91800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54C-FB94-4AE6-AB5B-81D82098A8B9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le typ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le type is an indication of how data is stored on th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indows, each file has an extension that reveals the fil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exe, .bat, .doc, .xls, .av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gram uses this information to understand the format of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only an indication, not embedded in th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Macintonsh, each file is associated an identifier of the program that creat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double-click on a file, the appropriate program is automatical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ssociation is embedded in th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C8C-9FD6-4370-A979-4A88E82C67C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