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1C7-18B6-4E2A-BBA8-C45DC913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5B3-89CF-4821-9B41-FA8003FE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A18-DDEA-4117-82AA-597E75AF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1D0-793A-4354-A41C-32BF8498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8DF6-642D-4809-8FCE-BA9A3E0A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71B8-5E43-4203-87F9-6FF085FA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D095-8015-49C4-8F3E-3C7819EB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6486-DFF4-4BDE-8CAA-6CA62467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5094-5910-4B5E-93C2-B21A540D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7462-520E-4849-BFBA-AA947ABC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A5E6-68CF-4295-B672-3EF78CC5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826-E93B-4BAB-95F8-157F4D8D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F348-56CE-43B6-87AD-FBDE99A1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E620-517E-4F0A-B4DE-65CEC175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1BD3-80F8-4FB8-85B0-43A0A36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2D2D-9776-4AB0-BA74-101E380D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4D82-3AA5-4EAA-8796-4F76F83E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D43-EFC4-4B4E-A7FF-C7DEE6BB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F39-08D4-43A7-A1E5-5B865350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F0D-3D41-4B0A-A780-EF57A2B8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FC3-C89A-4852-8D7C-E8C006CF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7B3-E532-4590-8280-1CCB89EF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4EC-64C0-4607-81DA-E7A68573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730-0819-43F2-805E-A7317C8E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525DCF-51ED-4B18-942D-A541DEB1D2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19A2B-834F-49FF-83FC-F911CFFF4D6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inux and Real-Time: Current Approaches and</a:t>
            </a:r>
            <a:br>
              <a:rPr sz="2800"/>
            </a:b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uture Opportuni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5410080"/>
            <a:ext cx="6400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udio Scordino and 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inux-RT: Interrupt Abstr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05160" y="1523520"/>
            <a:ext cx="38098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bstraction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cepts 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wards to Linux of to 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RT task exec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ux interrupts become 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T interrupt are served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no RT task exec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ux interrupts are served all at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813560" cy="50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abstr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ective reduction of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standard Linux processes for non-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st and target platform may coin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interface for R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T tasks execute in kernel memory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ggy RT code can block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re-write Linux device drivers for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 to us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XRT and Xenomai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X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terface provided by R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to execute RT tasks in user space (at the price of a higher latenc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ful for development and 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eno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pin-off of R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to execute RT tasks in user space with very low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to write device driver code in use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inux-RT: Kernel preemp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Linux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pproach allows to execute Linux processes with Real-Tim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ication to Linux cod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timer re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ert preemption points in the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e kernel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 the scheduler more fr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Kernel preemption in 2.4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ux 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emption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preemption points in long section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way, very long and non-interruptible sections of code can be split in different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Latency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 the scheduler more frequently in long section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Resolution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an API for micro-second level precision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ncy re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not yet usable for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Kernel Preemption in 2.6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ux 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es kernel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vice driver can use a kernel thread (scheduled with the other processe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(1) 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lable with number of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empt_rt p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for many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ority Inheritance for reduction of task block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mparis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table is provided by Paolo Mantegazza (available on Interne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19320" y="3657600"/>
            <a:ext cx="6630840" cy="2058840"/>
            <a:chOff x="1219320" y="3657600"/>
            <a:chExt cx="6630840" cy="2058840"/>
          </a:xfrm>
        </p:grpSpPr>
        <p:sp>
          <p:nvSpPr>
            <p:cNvPr id="145" name=""/>
            <p:cNvSpPr/>
            <p:nvPr/>
          </p:nvSpPr>
          <p:spPr>
            <a:xfrm>
              <a:off x="5715000" y="5181480"/>
              <a:ext cx="1066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.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5000" y="4648320"/>
              <a:ext cx="1066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15000" y="4114800"/>
              <a:ext cx="1066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15000" y="3657600"/>
              <a:ext cx="106668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1680" y="5181480"/>
              <a:ext cx="1067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8320" y="5181480"/>
              <a:ext cx="1066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57600" y="5181480"/>
              <a:ext cx="990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7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19320" y="5181480"/>
              <a:ext cx="2438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eos (RTAI)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1680" y="4648320"/>
              <a:ext cx="1067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4648320"/>
              <a:ext cx="1066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7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7600" y="4648320"/>
              <a:ext cx="990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7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9320" y="4648320"/>
              <a:ext cx="2438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eemption pa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1680" y="4114800"/>
              <a:ext cx="1067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7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48320" y="4114800"/>
              <a:ext cx="1066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555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57600" y="4114800"/>
              <a:ext cx="990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6.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19320" y="4114800"/>
              <a:ext cx="2438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d Linux 2.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81680" y="3657600"/>
              <a:ext cx="106704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td D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3657600"/>
              <a:ext cx="106668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57600" y="3657600"/>
              <a:ext cx="99072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19320" y="3657600"/>
              <a:ext cx="2438280" cy="45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4114800"/>
              <a:ext cx="662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4648320"/>
              <a:ext cx="662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5181480"/>
              <a:ext cx="6629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5715000"/>
              <a:ext cx="6629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19320" y="3657600"/>
              <a:ext cx="144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657600"/>
              <a:ext cx="144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8320" y="3657600"/>
              <a:ext cx="144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15000" y="3657600"/>
              <a:ext cx="144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48720" y="3657600"/>
              <a:ext cx="144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1680" y="3657600"/>
              <a:ext cx="180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9320" y="3657600"/>
              <a:ext cx="6629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276720" y="2971800"/>
            <a:ext cx="2895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75360" y="5867280"/>
            <a:ext cx="26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numbers are in micro-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ich flavor of Linux RT to us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hard real-time applications with very small constants of time (below the milliseconds), it is still necessary to use RTLinux,RTAI or Xenom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has been a constant effort to reducing the latency of the standard Linux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ossible to use standard Linux with Preemption Patch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 realtime applica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even hard real-time applications with large constants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ux has become very polular for supporting real-tim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projects have been proposed to make Linux more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next future, standard mainstream Linux will include R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priate schedul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Linux for real-time ap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s in using Linux for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ing Linux more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rupt Abstr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nel Pre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and future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y Linux for Real-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aising interest from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automation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 software companies (e.g. IBM and WindRive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son for using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Source License (GPL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 Interface (POSIX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e popularity and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for almost all embedded processors (ARM, MIPS, PPC, et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tal Cost of Ownership (T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er than other commercial (closed source) RT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pplication area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ux cannot be used ever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r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mbedded systems have limit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requires at least 4-8 Mbytes (Flash and RA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icality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application require certification of the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is too big to be cer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stream kern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icially supported by Linux Torva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ed for troughput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designed for real-tim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ncy and real-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problem is the high worst-case latency of time-critical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-case latency is quite small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but real-time systems ne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edictabil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supports only Fixed Priority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71800" y="3886200"/>
            <a:ext cx="1295280" cy="609480"/>
          </a:xfrm>
          <a:prstGeom prst="wedgeRectCallout">
            <a:avLst>
              <a:gd name="adj1" fmla="val -43384"/>
              <a:gd name="adj2" fmla="val 14244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stem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: Lat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interval of time between the arrival of an interrupt signal to the processor the start of the handler that responds to the inte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ler = real-time task awaken by the interrupt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800600"/>
            <a:ext cx="6019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5334120"/>
            <a:ext cx="6019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572000"/>
            <a:ext cx="53316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5105520"/>
            <a:ext cx="457200" cy="228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48006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352680" y="5865480"/>
            <a:ext cx="180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5867280"/>
            <a:ext cx="6019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638680"/>
            <a:ext cx="6858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105520"/>
            <a:ext cx="685800" cy="228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5105520"/>
            <a:ext cx="838440" cy="228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4572000"/>
            <a:ext cx="53316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2480" y="44308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8480" y="49230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240" y="545616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Interru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809880"/>
            <a:ext cx="1295280" cy="609840"/>
          </a:xfrm>
          <a:prstGeom prst="wedgeRectCallout">
            <a:avLst>
              <a:gd name="adj1" fmla="val -61643"/>
              <a:gd name="adj2" fmla="val 15963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abl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6019920"/>
            <a:ext cx="1295280" cy="609480"/>
          </a:xfrm>
          <a:prstGeom prst="wedgeRectCallout">
            <a:avLst>
              <a:gd name="adj1" fmla="val -74143"/>
              <a:gd name="adj2" fmla="val -3359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5638680"/>
            <a:ext cx="1981440" cy="914400"/>
          </a:xfrm>
          <a:prstGeom prst="wedgeRectCallout">
            <a:avLst>
              <a:gd name="adj1" fmla="val -65787"/>
              <a:gd name="adj2" fmla="val -3906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abl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ndler exec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809880"/>
            <a:ext cx="1828800" cy="609840"/>
          </a:xfrm>
          <a:prstGeom prst="wedgeRectCallout">
            <a:avLst>
              <a:gd name="adj1" fmla="val -1560"/>
              <a:gd name="adj2" fmla="val 16275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her kernel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3809880"/>
            <a:ext cx="2057400" cy="609840"/>
          </a:xfrm>
          <a:prstGeom prst="wedgeRectCallout">
            <a:avLst>
              <a:gd name="adj1" fmla="val -80476"/>
              <a:gd name="adj2" fmla="val 6900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task responds to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354480" y="3733920"/>
            <a:ext cx="2209680" cy="763560"/>
            <a:chOff x="3354480" y="3733920"/>
            <a:chExt cx="2209680" cy="763560"/>
          </a:xfrm>
        </p:grpSpPr>
        <p:sp>
          <p:nvSpPr>
            <p:cNvPr id="121" name=""/>
            <p:cNvSpPr/>
            <p:nvPr/>
          </p:nvSpPr>
          <p:spPr>
            <a:xfrm rot="5400000">
              <a:off x="4306680" y="3240000"/>
              <a:ext cx="304920" cy="22096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50400" y="3733920"/>
              <a:ext cx="1697040" cy="398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ask Lat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causes of lat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art of the kernel cannot be interrupted (critical sections of cod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-level code is scheduled only when the kernel finishes to process kernel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nel activities can accumulate and be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2.4.17 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x latency = 230 mse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r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iodic activities are wake-up by 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 timer resolution is coarse-grained (1-40 mse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blem: Schedu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ux supports Fixed Priority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 POSIX policies SCHED_FIFO and SCHED_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suitable for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only be used by process with root privi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urit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uggy process with high priority can hang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easy to handle overload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aking Linux more real-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rupt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a special micro-kernel for RT and executes Linux as a low-priority t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RTLinux, RTAI, Xenom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rnel Pree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ard way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Latency in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IPLA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november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useppe Lipari</cp:lastModifiedBy>
  <cp:revision>0</cp:revision>
  <dc:subject/>
  <dc:title>PowerPoint Presentation</dc:title>
</cp:coreProperties>
</file>